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7800" y="162000"/>
            <a:ext cx="78012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560" y="1369800"/>
            <a:ext cx="871380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50560" y="3836880"/>
            <a:ext cx="871380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7800" y="162000"/>
            <a:ext cx="78012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369800"/>
            <a:ext cx="42523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6000" y="1369800"/>
            <a:ext cx="42523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0560" y="3836880"/>
            <a:ext cx="42523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6000" y="3836880"/>
            <a:ext cx="42523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7800" y="162000"/>
            <a:ext cx="78012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50560" y="1369800"/>
            <a:ext cx="28054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6800" y="1369800"/>
            <a:ext cx="28054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2680" y="1369800"/>
            <a:ext cx="28054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50560" y="3836880"/>
            <a:ext cx="28054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6800" y="3836880"/>
            <a:ext cx="28054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2680" y="3836880"/>
            <a:ext cx="28054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7800" y="162000"/>
            <a:ext cx="78012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250560" y="1369800"/>
            <a:ext cx="87138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162000"/>
            <a:ext cx="78012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369800"/>
            <a:ext cx="87138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7800" y="162000"/>
            <a:ext cx="78012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369800"/>
            <a:ext cx="42523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6000" y="1369800"/>
            <a:ext cx="42523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7800" y="162000"/>
            <a:ext cx="78012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07800" y="162000"/>
            <a:ext cx="78012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7800" y="162000"/>
            <a:ext cx="78012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369800"/>
            <a:ext cx="42523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6000" y="1369800"/>
            <a:ext cx="42523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50560" y="3836880"/>
            <a:ext cx="42523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62000"/>
            <a:ext cx="78012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50560" y="1369800"/>
            <a:ext cx="87138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7800" y="162000"/>
            <a:ext cx="78012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369800"/>
            <a:ext cx="42523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6000" y="1369800"/>
            <a:ext cx="42523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716000" y="3836880"/>
            <a:ext cx="42523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7800" y="162000"/>
            <a:ext cx="78012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369800"/>
            <a:ext cx="42523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6000" y="1369800"/>
            <a:ext cx="42523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50560" y="3836880"/>
            <a:ext cx="871380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7800" y="162000"/>
            <a:ext cx="78012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369800"/>
            <a:ext cx="871380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50560" y="3836880"/>
            <a:ext cx="871380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7800" y="162000"/>
            <a:ext cx="78012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369800"/>
            <a:ext cx="42523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6000" y="1369800"/>
            <a:ext cx="42523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50560" y="3836880"/>
            <a:ext cx="42523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716000" y="3836880"/>
            <a:ext cx="42523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7800" y="162000"/>
            <a:ext cx="78012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369800"/>
            <a:ext cx="28054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96800" y="1369800"/>
            <a:ext cx="28054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42680" y="1369800"/>
            <a:ext cx="28054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250560" y="3836880"/>
            <a:ext cx="28054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96800" y="3836880"/>
            <a:ext cx="28054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142680" y="3836880"/>
            <a:ext cx="28054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62000"/>
            <a:ext cx="78012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560" y="1369800"/>
            <a:ext cx="87138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7800" y="162000"/>
            <a:ext cx="78012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369800"/>
            <a:ext cx="42523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6000" y="1369800"/>
            <a:ext cx="42523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62000"/>
            <a:ext cx="78012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7800" y="162000"/>
            <a:ext cx="78012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7800" y="162000"/>
            <a:ext cx="78012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0560" y="1369800"/>
            <a:ext cx="42523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6000" y="1369800"/>
            <a:ext cx="42523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0560" y="3836880"/>
            <a:ext cx="42523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7800" y="162000"/>
            <a:ext cx="78012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560" y="1369800"/>
            <a:ext cx="42523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6000" y="1369800"/>
            <a:ext cx="42523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6000" y="3836880"/>
            <a:ext cx="42523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7800" y="162000"/>
            <a:ext cx="78012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560" y="1369800"/>
            <a:ext cx="42523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6000" y="1369800"/>
            <a:ext cx="42523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50560" y="3836880"/>
            <a:ext cx="871380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9a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255160" y="77760"/>
            <a:ext cx="914400" cy="1008000"/>
            <a:chOff x="8255160" y="77760"/>
            <a:chExt cx="914400" cy="100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8255160" y="77760"/>
              <a:ext cx="88092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737560" y="692280"/>
              <a:ext cx="4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Times New Roman"/>
                </a:rPr>
                <a:t>БГ</a:t>
              </a:r>
              <a:endParaRPr b="0" lang="en-US" sz="11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8163000" y="47520"/>
            <a:ext cx="0" cy="133668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7800" y="162000"/>
            <a:ext cx="78012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50560" y="1369800"/>
            <a:ext cx="87138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  <a:p>
            <a:pPr lvl="1" marL="692280" indent="-347760">
              <a:spcBef>
                <a:spcPts val="751"/>
              </a:spcBef>
              <a:buClr>
                <a:srgbClr val="a50021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  <a:p>
            <a:pPr lvl="5" marL="1598760" indent="-316080">
              <a:spcBef>
                <a:spcPts val="751"/>
              </a:spcBef>
              <a:buClr>
                <a:srgbClr val="cce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  <a:p>
            <a:pPr lvl="6" marL="1598760" indent="-316080">
              <a:spcBef>
                <a:spcPts val="751"/>
              </a:spcBef>
              <a:buClr>
                <a:srgbClr val="cce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411280" y="6424200"/>
            <a:ext cx="4392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bg-BG" sz="24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9933"/>
                </a:solidFill>
                <a:latin typeface="Times New Roman"/>
              </a:rPr>
              <a:t>МТИТС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– </a:t>
            </a:r>
            <a:r>
              <a:rPr b="1" lang="bg-BG" sz="2400" spc="-1" strike="noStrike">
                <a:solidFill>
                  <a:srgbClr val="ff9933"/>
                </a:solidFill>
                <a:latin typeface="Times New Roman"/>
              </a:rPr>
              <a:t>РЕПУБЛИКА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bg-BG" sz="2400" spc="-1" strike="noStrike">
                <a:solidFill>
                  <a:srgbClr val="ff9933"/>
                </a:solidFill>
                <a:latin typeface="Times New Roman"/>
              </a:rPr>
              <a:t>БЪЛГАР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66840" y="1098720"/>
            <a:ext cx="8767800" cy="0"/>
          </a:xfrm>
          <a:prstGeom prst="line">
            <a:avLst/>
          </a:prstGeom>
          <a:ln w="22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58720" y="6391440"/>
            <a:ext cx="8064720" cy="0"/>
          </a:xfrm>
          <a:prstGeom prst="line">
            <a:avLst/>
          </a:prstGeom>
          <a:ln w="507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95240" y="1149480"/>
            <a:ext cx="6967800" cy="0"/>
          </a:xfrm>
          <a:prstGeom prst="line">
            <a:avLst/>
          </a:prstGeom>
          <a:ln w="22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143840" y="1066680"/>
            <a:ext cx="0" cy="5045040"/>
          </a:xfrm>
          <a:prstGeom prst="line">
            <a:avLst/>
          </a:prstGeom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9680" y="1052280"/>
            <a:ext cx="67820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37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8760" y="3419640"/>
            <a:ext cx="822960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581960" y="3684600"/>
            <a:ext cx="1170000" cy="1433520"/>
            <a:chOff x="7581960" y="3684600"/>
            <a:chExt cx="1170000" cy="1433520"/>
          </a:xfrm>
        </p:grpSpPr>
        <p:sp>
          <p:nvSpPr>
            <p:cNvPr id="50" name=""/>
            <p:cNvSpPr/>
            <p:nvPr/>
          </p:nvSpPr>
          <p:spPr>
            <a:xfrm>
              <a:off x="7817040" y="3684600"/>
              <a:ext cx="174600" cy="17928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064720" y="3684600"/>
              <a:ext cx="174600" cy="17928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10600" y="3684600"/>
              <a:ext cx="176400" cy="17928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17040" y="3936960"/>
              <a:ext cx="174600" cy="17928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64720" y="3936960"/>
              <a:ext cx="174600" cy="17928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310600" y="3936960"/>
              <a:ext cx="176400" cy="17928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17040" y="4191120"/>
              <a:ext cx="174600" cy="17928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64720" y="4191120"/>
              <a:ext cx="174600" cy="17928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10600" y="4191120"/>
              <a:ext cx="176400" cy="17928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817040" y="4441680"/>
              <a:ext cx="174600" cy="18108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064720" y="4441680"/>
              <a:ext cx="174600" cy="18108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310600" y="4441680"/>
              <a:ext cx="176400" cy="18108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577360" y="4441680"/>
              <a:ext cx="174600" cy="18108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815600" y="4695840"/>
              <a:ext cx="174600" cy="18108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62920" y="4695840"/>
              <a:ext cx="174960" cy="18108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309160" y="4695840"/>
              <a:ext cx="176040" cy="18108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75880" y="4938840"/>
              <a:ext cx="174600" cy="17928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581960" y="4435560"/>
              <a:ext cx="174600" cy="17928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68" name=""/>
          <p:cNvSpPr txBox="1"/>
          <p:nvPr/>
        </p:nvSpPr>
        <p:spPr>
          <a:xfrm>
            <a:off x="7400880" y="5442120"/>
            <a:ext cx="1457280" cy="58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EN-T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294680" y="1422360"/>
            <a:ext cx="1763640" cy="15526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1" marL="3445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lvl="2" marL="693720" algn="ctr">
              <a:spcBef>
                <a:spcPts val="624"/>
              </a:spcBef>
              <a:buClr>
                <a:srgbClr val="cccc00"/>
              </a:buClr>
              <a:buSzPct val="5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ccffff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cce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ccec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7720" y="1400040"/>
            <a:ext cx="68799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НОВИ НАСОКИ ЗА РАЗВИТИЕ </a:t>
            </a:r>
            <a:br>
              <a:rPr sz="3000"/>
            </a:b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НА ТРАНСЕВРОПЕЙСКАТА ТРАНСПОРТНА МРЕЖА</a:t>
            </a:r>
            <a:endParaRPr b="1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99680" y="3975120"/>
            <a:ext cx="62485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Димитър Савов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Директор на дирекция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Национална транспортна политика”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9720" y="187200"/>
            <a:ext cx="7191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Times New Roman"/>
              </a:rPr>
              <a:t>МИНИСТЕРСТВО НА ТРАНСПОРТА,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Times New Roman"/>
              </a:rPr>
              <a:t>ИНФОРМАЦИОННИТЕ ТЕХНОЛОГИИ И СЪОБЩЕНИЯТА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06720" y="603576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19 октомври 2011 г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София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9a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174600"/>
            <a:ext cx="79218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Железопътна мрежа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5133960" y="1268280"/>
            <a:ext cx="3887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Железопътните направления в  широкообхватната мрежа обхващат всички основни железопътни трасета на България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Интермодални терминали – София, Пловдив, Варна, Бургас, Русе, Лом, Драгоман, Свиленград и Горна Оряховиц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6440" y="1695600"/>
            <a:ext cx="4970520" cy="410976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9a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5240" y="240840"/>
            <a:ext cx="79214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Пристанища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6440" y="1733400"/>
            <a:ext cx="4970520" cy="411012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sp>
        <p:nvSpPr>
          <p:cNvPr id="135" name="Rectangle 3"/>
          <p:cNvSpPr/>
          <p:nvPr/>
        </p:nvSpPr>
        <p:spPr>
          <a:xfrm>
            <a:off x="5181480" y="1592280"/>
            <a:ext cx="38880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2500" spc="-1" strike="noStrike">
                <a:solidFill>
                  <a:srgbClr val="ffcc66"/>
                </a:solidFill>
                <a:latin typeface="Times New Roman"/>
              </a:rPr>
              <a:t>В  широкообхватната мрежа са включени:</a:t>
            </a: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66"/>
                </a:solidFill>
                <a:latin typeface="Times New Roman"/>
              </a:rPr>
              <a:t>Морските пристанища Варна и Бургас</a:t>
            </a: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cc66"/>
                </a:solidFill>
                <a:latin typeface="Times New Roman"/>
              </a:rPr>
              <a:t>Речните пристанища Видин, Лом, Оряхово, Свищов, Русе, както и допълнително включеното пристанище Силистра</a:t>
            </a: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9a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5240" y="276120"/>
            <a:ext cx="78152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Летища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88080" y="2392200"/>
            <a:ext cx="41814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66"/>
                </a:solidFill>
                <a:latin typeface="Times New Roman"/>
              </a:rPr>
              <a:t>В широкообхватната мрежа са включени 5 основни български летища – София, Бургас, Варна, Пловдив и Горна Оряховица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2440" y="1797120"/>
            <a:ext cx="4970520" cy="411012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9a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16000" y="2962080"/>
            <a:ext cx="87487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ОСНОВНА МРЕЖА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9a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3920" y="233280"/>
            <a:ext cx="77929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Пътна мрежа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2030400"/>
            <a:ext cx="5832720" cy="426096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297000" y="1163520"/>
            <a:ext cx="8315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66"/>
                </a:solidFill>
                <a:latin typeface="Times New Roman"/>
              </a:rPr>
              <a:t>Направление 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66"/>
                </a:solidFill>
                <a:latin typeface="Times New Roman"/>
              </a:rPr>
              <a:t>София – Велико Търново – Русе – Букурещ 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9a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146160"/>
            <a:ext cx="7921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Железопътна мрежа 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90560" y="2033640"/>
            <a:ext cx="5834160" cy="426096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401760" y="1154160"/>
            <a:ext cx="8315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66"/>
                </a:solidFill>
                <a:latin typeface="Times New Roman"/>
              </a:rPr>
              <a:t>Направление 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66"/>
                </a:solidFill>
                <a:latin typeface="Times New Roman"/>
              </a:rPr>
              <a:t>София – Горна Оряховица – Русе – Букурещ 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9a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3200" y="131760"/>
            <a:ext cx="79660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66"/>
                </a:solidFill>
                <a:latin typeface="Times New Roman"/>
              </a:rPr>
              <a:t>Коридорен подход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&amp;</a:t>
            </a:r>
            <a:r>
              <a:rPr b="1" lang="bg-BG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EF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51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cffff"/>
                </a:solidFill>
                <a:latin typeface="Times New Roman"/>
              </a:rPr>
              <a:t>Коридорен подход за реализация на основната мрежа</a:t>
            </a:r>
            <a:r>
              <a:rPr b="1" lang="bg-BG" sz="23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ccffff"/>
              </a:solidFill>
              <a:latin typeface="Times New Roman"/>
            </a:endParaRPr>
          </a:p>
          <a:p>
            <a:pPr lvl="1" marL="685080" indent="-344160">
              <a:lnSpc>
                <a:spcPct val="85000"/>
              </a:lnSpc>
              <a:spcBef>
                <a:spcPts val="1100"/>
              </a:spcBef>
              <a:buClr>
                <a:srgbClr val="a50021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ccffff"/>
                </a:solidFill>
                <a:latin typeface="Times New Roman"/>
              </a:rPr>
              <a:t>Координирано планиране на инвестициите </a:t>
            </a:r>
            <a:endParaRPr b="0" lang="en-US" sz="2200" spc="-1" strike="noStrike">
              <a:solidFill>
                <a:srgbClr val="ccffff"/>
              </a:solidFill>
              <a:latin typeface="Times New Roman"/>
            </a:endParaRPr>
          </a:p>
          <a:p>
            <a:pPr lvl="1" marL="685080" indent="-344160">
              <a:lnSpc>
                <a:spcPct val="85000"/>
              </a:lnSpc>
              <a:spcBef>
                <a:spcPts val="1100"/>
              </a:spcBef>
              <a:buClr>
                <a:srgbClr val="a50021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ccffff"/>
                </a:solidFill>
                <a:latin typeface="Times New Roman"/>
              </a:rPr>
              <a:t>Оперативна съвместимост </a:t>
            </a:r>
            <a:endParaRPr b="0" lang="en-US" sz="2200" spc="-1" strike="noStrike">
              <a:solidFill>
                <a:srgbClr val="ccffff"/>
              </a:solidFill>
              <a:latin typeface="Times New Roman"/>
            </a:endParaRPr>
          </a:p>
          <a:p>
            <a:pPr lvl="1" marL="685080" indent="-344160">
              <a:lnSpc>
                <a:spcPct val="85000"/>
              </a:lnSpc>
              <a:spcBef>
                <a:spcPts val="1100"/>
              </a:spcBef>
              <a:buClr>
                <a:srgbClr val="a50021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ccffff"/>
                </a:solidFill>
                <a:latin typeface="Times New Roman"/>
              </a:rPr>
              <a:t>Синхронизиране на действията между различните държави, разположени по протежението на даден коридор</a:t>
            </a:r>
            <a:endParaRPr b="0" lang="en-US" sz="2200" spc="-1" strike="noStrike">
              <a:solidFill>
                <a:srgbClr val="ccffff"/>
              </a:solidFill>
              <a:latin typeface="Times New Roman"/>
            </a:endParaRPr>
          </a:p>
          <a:p>
            <a:pPr lvl="1" marL="685080" indent="-344160">
              <a:lnSpc>
                <a:spcPct val="85000"/>
              </a:lnSpc>
              <a:spcBef>
                <a:spcPts val="1100"/>
              </a:spcBef>
              <a:buClr>
                <a:srgbClr val="a50021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ccffff"/>
                </a:solidFill>
                <a:latin typeface="Times New Roman"/>
              </a:rPr>
              <a:t>По-ефективно използване на инфраструктурата </a:t>
            </a:r>
            <a:endParaRPr b="0" lang="en-US" sz="2200" spc="-1" strike="noStrike">
              <a:solidFill>
                <a:srgbClr val="ccffff"/>
              </a:solidFill>
              <a:latin typeface="Times New Roman"/>
            </a:endParaRPr>
          </a:p>
          <a:p>
            <a:pPr lvl="1" marL="685080" indent="-344160">
              <a:lnSpc>
                <a:spcPct val="85000"/>
              </a:lnSpc>
              <a:spcBef>
                <a:spcPts val="1100"/>
              </a:spcBef>
              <a:buClr>
                <a:srgbClr val="a50021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ccffff"/>
                </a:solidFill>
                <a:latin typeface="Times New Roman"/>
              </a:rPr>
              <a:t>Привличане на инвестиции и оптимизиране на сроковете</a:t>
            </a:r>
            <a:endParaRPr b="0" lang="en-US" sz="2200" spc="-1" strike="noStrike">
              <a:solidFill>
                <a:srgbClr val="ccffff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119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cffff"/>
                </a:solidFill>
                <a:latin typeface="Times New Roman"/>
              </a:rPr>
              <a:t>Инструмент за осигуряване на свързаността в Европа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bg-BG" sz="2400" spc="-1" strike="noStrike">
                <a:solidFill>
                  <a:srgbClr val="ccffff"/>
                </a:solidFill>
                <a:latin typeface="Times New Roman"/>
              </a:rPr>
              <a:t>–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onnecting Europe Facility</a:t>
            </a:r>
            <a:r>
              <a:rPr b="1" lang="bg-BG" sz="2400" spc="-1" strike="noStrike">
                <a:solidFill>
                  <a:srgbClr val="ccffff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EF</a:t>
            </a:r>
            <a:r>
              <a:rPr b="1" lang="bg-BG" sz="2400" spc="-1" strike="noStrike">
                <a:solidFill>
                  <a:srgbClr val="cc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lvl="1" marL="685080" indent="-344160">
              <a:lnSpc>
                <a:spcPct val="85000"/>
              </a:lnSpc>
              <a:spcBef>
                <a:spcPts val="1100"/>
              </a:spcBef>
              <a:buClr>
                <a:srgbClr val="a50021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ccffff"/>
                </a:solidFill>
                <a:latin typeface="Times New Roman"/>
              </a:rPr>
              <a:t>Предназначен за основната </a:t>
            </a:r>
            <a:r>
              <a:rPr b="1" lang="en-US" sz="2200" spc="-1" strike="noStrike">
                <a:solidFill>
                  <a:srgbClr val="ccffff"/>
                </a:solidFill>
                <a:latin typeface="Times New Roman"/>
              </a:rPr>
              <a:t>TEN</a:t>
            </a:r>
            <a:r>
              <a:rPr b="1" lang="ru-RU" sz="2200" spc="-1" strike="noStrike">
                <a:solidFill>
                  <a:srgbClr val="ccffff"/>
                </a:solidFill>
                <a:latin typeface="Times New Roman"/>
              </a:rPr>
              <a:t>-</a:t>
            </a:r>
            <a:r>
              <a:rPr b="1" lang="en-US" sz="2200" spc="-1" strike="noStrike">
                <a:solidFill>
                  <a:srgbClr val="ccffff"/>
                </a:solidFill>
                <a:latin typeface="Times New Roman"/>
              </a:rPr>
              <a:t>T</a:t>
            </a:r>
            <a:r>
              <a:rPr b="1" lang="bg-BG" sz="2200" spc="-1" strike="noStrike">
                <a:solidFill>
                  <a:srgbClr val="ccffff"/>
                </a:solidFill>
                <a:latin typeface="Times New Roman"/>
              </a:rPr>
              <a:t> мрежа </a:t>
            </a:r>
            <a:endParaRPr b="0" lang="en-US" sz="2200" spc="-1" strike="noStrike">
              <a:solidFill>
                <a:srgbClr val="ccffff"/>
              </a:solidFill>
              <a:latin typeface="Times New Roman"/>
            </a:endParaRPr>
          </a:p>
          <a:p>
            <a:pPr lvl="1" marL="685080" indent="-344160">
              <a:lnSpc>
                <a:spcPct val="85000"/>
              </a:lnSpc>
              <a:spcBef>
                <a:spcPts val="1100"/>
              </a:spcBef>
              <a:buClr>
                <a:srgbClr val="a50021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ccffff"/>
                </a:solidFill>
                <a:latin typeface="Times New Roman"/>
              </a:rPr>
              <a:t>В съответствие с новата политика на ЕС за устойчиво развитие и опазване на околната среда</a:t>
            </a:r>
            <a:endParaRPr b="0" lang="en-US" sz="2200" spc="-1" strike="noStrike">
              <a:solidFill>
                <a:srgbClr val="ccffff"/>
              </a:solidFill>
              <a:latin typeface="Times New Roman"/>
            </a:endParaRPr>
          </a:p>
          <a:p>
            <a:pPr lvl="1" marL="685080" indent="-344160">
              <a:lnSpc>
                <a:spcPct val="85000"/>
              </a:lnSpc>
              <a:spcBef>
                <a:spcPts val="1100"/>
              </a:spcBef>
              <a:buClr>
                <a:srgbClr val="a50021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ffff"/>
                </a:solidFill>
                <a:latin typeface="Times New Roman"/>
              </a:rPr>
              <a:t>Индикативен списък от проектни предложения до 2020 г.</a:t>
            </a:r>
            <a:endParaRPr b="0" lang="en-US" sz="2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9a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7080" y="68400"/>
            <a:ext cx="798336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Приоритетни проекти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за периода 2014 – 2020 г. (1)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0840" y="1186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85000"/>
              </a:lnSpc>
              <a:spcBef>
                <a:spcPts val="68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ccffff"/>
                </a:solidFill>
                <a:latin typeface="Times New Roman"/>
              </a:rPr>
              <a:t>Приоритетен проект 18 “Преодоляване на тесните места по р. Дунав” – </a:t>
            </a:r>
            <a:r>
              <a:rPr b="1" lang="bg-BG" sz="2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€</a:t>
            </a:r>
            <a:r>
              <a:rPr b="1" lang="bg-BG" sz="20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 </a:t>
            </a:r>
            <a:r>
              <a:rPr b="1" lang="bg-BG" sz="2200" spc="-1" strike="noStrike">
                <a:solidFill>
                  <a:srgbClr val="ccffff"/>
                </a:solidFill>
                <a:latin typeface="Times New Roman"/>
              </a:rPr>
              <a:t>371,5 млн. </a:t>
            </a:r>
            <a:endParaRPr b="0" lang="en-US" sz="2200" spc="-1" strike="noStrike">
              <a:solidFill>
                <a:srgbClr val="ccffff"/>
              </a:solidFill>
              <a:latin typeface="Times New Roman"/>
            </a:endParaRPr>
          </a:p>
          <a:p>
            <a:pPr marL="565920" indent="-565920">
              <a:lnSpc>
                <a:spcPct val="85000"/>
              </a:lnSpc>
              <a:spcBef>
                <a:spcPts val="68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ccffff"/>
                </a:solidFill>
                <a:latin typeface="Times New Roman"/>
              </a:rPr>
              <a:t>Жп линията Драгоман – София – Септември</a:t>
            </a:r>
            <a:endParaRPr b="0" lang="en-US" sz="2200" spc="-1" strike="noStrike">
              <a:solidFill>
                <a:srgbClr val="ccffff"/>
              </a:solidFill>
              <a:latin typeface="Times New Roman"/>
            </a:endParaRPr>
          </a:p>
          <a:p>
            <a:pPr lvl="1" marL="869040" indent="-528120">
              <a:lnSpc>
                <a:spcPct val="85000"/>
              </a:lnSpc>
              <a:spcBef>
                <a:spcPts val="624"/>
              </a:spcBef>
              <a:buClr>
                <a:srgbClr val="a50021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cffff"/>
                </a:solidFill>
                <a:latin typeface="Times New Roman"/>
              </a:rPr>
              <a:t>Сръбска граница</a:t>
            </a:r>
            <a:r>
              <a:rPr b="1" lang="ru-RU" sz="2000" spc="-1" strike="noStrike">
                <a:solidFill>
                  <a:srgbClr val="ccffff"/>
                </a:solidFill>
                <a:latin typeface="Times New Roman"/>
              </a:rPr>
              <a:t>/</a:t>
            </a:r>
            <a:r>
              <a:rPr b="1" lang="bg-BG" sz="2000" spc="-1" strike="noStrike">
                <a:solidFill>
                  <a:srgbClr val="ccffff"/>
                </a:solidFill>
                <a:latin typeface="Times New Roman"/>
              </a:rPr>
              <a:t>Драгоман</a:t>
            </a:r>
            <a:r>
              <a:rPr b="1" lang="ru-RU" sz="2000" spc="-1" strike="noStrike">
                <a:solidFill>
                  <a:srgbClr val="ccffff"/>
                </a:solidFill>
                <a:latin typeface="Times New Roman"/>
              </a:rPr>
              <a:t> – </a:t>
            </a:r>
            <a:r>
              <a:rPr b="1" lang="bg-BG" sz="2000" spc="-1" strike="noStrike">
                <a:solidFill>
                  <a:srgbClr val="ccffff"/>
                </a:solidFill>
                <a:latin typeface="Times New Roman"/>
              </a:rPr>
              <a:t>София</a:t>
            </a:r>
            <a:r>
              <a:rPr b="1" lang="ru-RU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bg-BG" sz="2000" spc="-1" strike="noStrike">
                <a:solidFill>
                  <a:srgbClr val="ccffff"/>
                </a:solidFill>
                <a:latin typeface="Times New Roman"/>
              </a:rPr>
              <a:t>(</a:t>
            </a:r>
            <a:r>
              <a:rPr b="1" lang="ru-RU" sz="2000" spc="-1" strike="noStrike">
                <a:solidFill>
                  <a:srgbClr val="ccffff"/>
                </a:solidFill>
                <a:latin typeface="Times New Roman"/>
              </a:rPr>
              <a:t>43 </a:t>
            </a:r>
            <a:r>
              <a:rPr b="1" lang="bg-BG" sz="2000" spc="-1" strike="noStrike">
                <a:solidFill>
                  <a:srgbClr val="ccffff"/>
                </a:solidFill>
                <a:latin typeface="Times New Roman"/>
              </a:rPr>
              <a:t>км) – </a:t>
            </a:r>
            <a:r>
              <a:rPr b="1" lang="bg-BG" sz="21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€ </a:t>
            </a:r>
            <a:r>
              <a:rPr b="1" lang="ru-RU" sz="2000" spc="-1" strike="noStrike">
                <a:solidFill>
                  <a:srgbClr val="ccffff"/>
                </a:solidFill>
                <a:latin typeface="Times New Roman"/>
              </a:rPr>
              <a:t>133 </a:t>
            </a:r>
            <a:r>
              <a:rPr b="1" lang="bg-BG" sz="2000" spc="-1" strike="noStrike">
                <a:solidFill>
                  <a:srgbClr val="ccffff"/>
                </a:solidFill>
                <a:latin typeface="Times New Roman"/>
              </a:rPr>
              <a:t>млн. 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  <a:p>
            <a:pPr lvl="1" marL="869040" indent="-528120">
              <a:lnSpc>
                <a:spcPct val="85000"/>
              </a:lnSpc>
              <a:spcBef>
                <a:spcPts val="624"/>
              </a:spcBef>
              <a:buClr>
                <a:srgbClr val="a50021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Times New Roman"/>
              </a:rPr>
              <a:t>София – Септември </a:t>
            </a:r>
            <a:r>
              <a:rPr b="1" lang="bg-BG" sz="2000" spc="-1" strike="noStrike">
                <a:solidFill>
                  <a:srgbClr val="ccffff"/>
                </a:solidFill>
                <a:latin typeface="Times New Roman"/>
              </a:rPr>
              <a:t>(</a:t>
            </a:r>
            <a:r>
              <a:rPr b="1" lang="ru-RU" sz="2000" spc="-1" strike="noStrike">
                <a:solidFill>
                  <a:srgbClr val="ccffff"/>
                </a:solidFill>
                <a:latin typeface="Times New Roman"/>
              </a:rPr>
              <a:t>101,5 </a:t>
            </a:r>
            <a:r>
              <a:rPr b="1" lang="bg-BG" sz="2000" spc="-1" strike="noStrike">
                <a:solidFill>
                  <a:srgbClr val="ccffff"/>
                </a:solidFill>
                <a:latin typeface="Times New Roman"/>
              </a:rPr>
              <a:t>км)</a:t>
            </a:r>
            <a:r>
              <a:rPr b="1" lang="ru-RU" sz="2000" spc="-1" strike="noStrike">
                <a:solidFill>
                  <a:srgbClr val="ccffff"/>
                </a:solidFill>
                <a:latin typeface="Times New Roman"/>
              </a:rPr>
              <a:t> – </a:t>
            </a:r>
            <a:r>
              <a:rPr b="1" lang="bg-BG" sz="21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€ </a:t>
            </a:r>
            <a:r>
              <a:rPr b="1" lang="ru-RU" sz="2000" spc="-1" strike="noStrike">
                <a:solidFill>
                  <a:srgbClr val="ccffff"/>
                </a:solidFill>
                <a:latin typeface="Times New Roman"/>
              </a:rPr>
              <a:t>1 081 </a:t>
            </a:r>
            <a:r>
              <a:rPr b="1" lang="bg-BG" sz="2000" spc="-1" strike="noStrike">
                <a:solidFill>
                  <a:srgbClr val="ccffff"/>
                </a:solidFill>
                <a:latin typeface="Times New Roman"/>
              </a:rPr>
              <a:t>млн. 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  <a:p>
            <a:pPr marL="565920" indent="-565920">
              <a:lnSpc>
                <a:spcPct val="85000"/>
              </a:lnSpc>
              <a:spcBef>
                <a:spcPts val="68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ccffff"/>
                </a:solidFill>
                <a:latin typeface="Times New Roman"/>
              </a:rPr>
              <a:t>Пълно завършване на жп възел София – </a:t>
            </a:r>
            <a:r>
              <a:rPr b="1" lang="bg-BG" sz="2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€ </a:t>
            </a:r>
            <a:r>
              <a:rPr b="1" lang="bg-BG" sz="2200" spc="-1" strike="noStrike">
                <a:solidFill>
                  <a:srgbClr val="ccffff"/>
                </a:solidFill>
                <a:latin typeface="Times New Roman"/>
              </a:rPr>
              <a:t>310 млн. </a:t>
            </a:r>
            <a:endParaRPr b="0" lang="en-US" sz="2200" spc="-1" strike="noStrike">
              <a:solidFill>
                <a:srgbClr val="ccffff"/>
              </a:solidFill>
              <a:latin typeface="Times New Roman"/>
            </a:endParaRPr>
          </a:p>
          <a:p>
            <a:pPr marL="565920" indent="-565920">
              <a:lnSpc>
                <a:spcPct val="85000"/>
              </a:lnSpc>
              <a:spcBef>
                <a:spcPts val="68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ccffff"/>
                </a:solidFill>
                <a:latin typeface="Times New Roman"/>
              </a:rPr>
              <a:t>Приоритетен проект 22 Видин </a:t>
            </a:r>
            <a:r>
              <a:rPr b="1" lang="ru-RU" sz="2200" spc="-1" strike="noStrike">
                <a:solidFill>
                  <a:srgbClr val="ccffff"/>
                </a:solidFill>
                <a:latin typeface="Times New Roman"/>
              </a:rPr>
              <a:t>– </a:t>
            </a:r>
            <a:r>
              <a:rPr b="1" lang="bg-BG" sz="2200" spc="-1" strike="noStrike">
                <a:solidFill>
                  <a:srgbClr val="ccffff"/>
                </a:solidFill>
                <a:latin typeface="Times New Roman"/>
              </a:rPr>
              <a:t>Медковец</a:t>
            </a:r>
            <a:r>
              <a:rPr b="1" lang="ru-RU" sz="2200" spc="-1" strike="noStrike">
                <a:solidFill>
                  <a:srgbClr val="ccffff"/>
                </a:solidFill>
                <a:latin typeface="Times New Roman"/>
              </a:rPr>
              <a:t> – </a:t>
            </a:r>
            <a:r>
              <a:rPr b="1" lang="bg-BG" sz="2200" spc="-1" strike="noStrike">
                <a:solidFill>
                  <a:srgbClr val="ccffff"/>
                </a:solidFill>
                <a:latin typeface="Times New Roman"/>
              </a:rPr>
              <a:t>Мездра</a:t>
            </a:r>
            <a:r>
              <a:rPr b="1" lang="ru-RU" sz="2200" spc="-1" strike="noStrike">
                <a:solidFill>
                  <a:srgbClr val="ccffff"/>
                </a:solidFill>
                <a:latin typeface="Times New Roman"/>
              </a:rPr>
              <a:t> – </a:t>
            </a:r>
            <a:r>
              <a:rPr b="1" lang="bg-BG" sz="2200" spc="-1" strike="noStrike">
                <a:solidFill>
                  <a:srgbClr val="ccffff"/>
                </a:solidFill>
                <a:latin typeface="Times New Roman"/>
              </a:rPr>
              <a:t>София</a:t>
            </a:r>
            <a:r>
              <a:rPr b="1" lang="ru-RU" sz="2200" spc="-1" strike="noStrike">
                <a:solidFill>
                  <a:srgbClr val="ccffff"/>
                </a:solidFill>
                <a:latin typeface="Times New Roman"/>
              </a:rPr>
              <a:t> (223,1 </a:t>
            </a:r>
            <a:r>
              <a:rPr b="1" lang="bg-BG" sz="2200" spc="-1" strike="noStrike">
                <a:solidFill>
                  <a:srgbClr val="ccffff"/>
                </a:solidFill>
                <a:latin typeface="Times New Roman"/>
              </a:rPr>
              <a:t>км</a:t>
            </a:r>
            <a:r>
              <a:rPr b="1" lang="ru-RU" sz="2200" spc="-1" strike="noStrike">
                <a:solidFill>
                  <a:srgbClr val="ccffff"/>
                </a:solidFill>
                <a:latin typeface="Times New Roman"/>
              </a:rPr>
              <a:t>) – </a:t>
            </a:r>
            <a:r>
              <a:rPr b="1" lang="bg-BG" sz="2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€ </a:t>
            </a:r>
            <a:r>
              <a:rPr b="1" lang="ru-RU" sz="2200" spc="-1" strike="noStrike">
                <a:solidFill>
                  <a:srgbClr val="ccffff"/>
                </a:solidFill>
                <a:latin typeface="Times New Roman"/>
              </a:rPr>
              <a:t>2 677 </a:t>
            </a:r>
            <a:r>
              <a:rPr b="1" lang="bg-BG" sz="2200" spc="-1" strike="noStrike">
                <a:solidFill>
                  <a:srgbClr val="ccffff"/>
                </a:solidFill>
                <a:latin typeface="Times New Roman"/>
              </a:rPr>
              <a:t>млн. </a:t>
            </a:r>
            <a:endParaRPr b="0" lang="en-US" sz="2200" spc="-1" strike="noStrike">
              <a:solidFill>
                <a:srgbClr val="ccffff"/>
              </a:solidFill>
              <a:latin typeface="Times New Roman"/>
            </a:endParaRPr>
          </a:p>
          <a:p>
            <a:pPr lvl="1" marL="869040" indent="-528120">
              <a:lnSpc>
                <a:spcPct val="85000"/>
              </a:lnSpc>
              <a:spcBef>
                <a:spcPts val="624"/>
              </a:spcBef>
              <a:buClr>
                <a:srgbClr val="a50021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cffff"/>
                </a:solidFill>
                <a:latin typeface="Times New Roman"/>
              </a:rPr>
              <a:t>Видин – Медковец (62,5 км) – </a:t>
            </a:r>
            <a:r>
              <a:rPr b="1" lang="bg-BG" sz="21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€ </a:t>
            </a:r>
            <a:r>
              <a:rPr b="1" lang="bg-BG" sz="2000" spc="-1" strike="noStrike">
                <a:solidFill>
                  <a:srgbClr val="ccffff"/>
                </a:solidFill>
                <a:latin typeface="Times New Roman"/>
              </a:rPr>
              <a:t>537 млн. 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  <a:p>
            <a:pPr lvl="1" marL="869040" indent="-528120">
              <a:lnSpc>
                <a:spcPct val="85000"/>
              </a:lnSpc>
              <a:spcBef>
                <a:spcPts val="624"/>
              </a:spcBef>
              <a:buClr>
                <a:srgbClr val="a50021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cffff"/>
                </a:solidFill>
                <a:latin typeface="Times New Roman"/>
              </a:rPr>
              <a:t>Медковец – Мездра (84,3 км) – </a:t>
            </a:r>
            <a:r>
              <a:rPr b="1" lang="bg-BG" sz="21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€ </a:t>
            </a:r>
            <a:r>
              <a:rPr b="1" lang="bg-BG" sz="2000" spc="-1" strike="noStrike">
                <a:solidFill>
                  <a:srgbClr val="ccffff"/>
                </a:solidFill>
                <a:latin typeface="Times New Roman"/>
              </a:rPr>
              <a:t>736 млн. 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  <a:p>
            <a:pPr lvl="1" marL="869040" indent="-528120">
              <a:lnSpc>
                <a:spcPct val="85000"/>
              </a:lnSpc>
              <a:spcBef>
                <a:spcPts val="624"/>
              </a:spcBef>
              <a:buClr>
                <a:srgbClr val="a50021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cffff"/>
                </a:solidFill>
                <a:latin typeface="Times New Roman"/>
              </a:rPr>
              <a:t>Мездра – София (76,3 км) – </a:t>
            </a:r>
            <a:r>
              <a:rPr b="1" lang="bg-BG" sz="21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€ </a:t>
            </a:r>
            <a:r>
              <a:rPr b="1" lang="bg-BG" sz="2000" spc="-1" strike="noStrike">
                <a:solidFill>
                  <a:srgbClr val="ccffff"/>
                </a:solidFill>
                <a:latin typeface="Times New Roman"/>
              </a:rPr>
              <a:t>1 404 млн. 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  <a:p>
            <a:pPr marL="565920" indent="-565920">
              <a:lnSpc>
                <a:spcPct val="85000"/>
              </a:lnSpc>
              <a:spcBef>
                <a:spcPts val="68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ccffff"/>
                </a:solidFill>
                <a:latin typeface="Times New Roman"/>
              </a:rPr>
              <a:t>София – Перник – Радомир (48,8 км) – </a:t>
            </a:r>
            <a:r>
              <a:rPr b="1" lang="bg-BG" sz="2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€ </a:t>
            </a:r>
            <a:r>
              <a:rPr b="1" lang="bg-BG" sz="2200" spc="-1" strike="noStrike">
                <a:solidFill>
                  <a:srgbClr val="ccffff"/>
                </a:solidFill>
                <a:latin typeface="Times New Roman"/>
              </a:rPr>
              <a:t>360 млн. </a:t>
            </a:r>
            <a:endParaRPr b="0" lang="en-US" sz="2200" spc="-1" strike="noStrike">
              <a:solidFill>
                <a:srgbClr val="ccffff"/>
              </a:solidFill>
              <a:latin typeface="Times New Roman"/>
            </a:endParaRPr>
          </a:p>
          <a:p>
            <a:pPr marL="565920" indent="-565920">
              <a:lnSpc>
                <a:spcPct val="85000"/>
              </a:lnSpc>
              <a:spcBef>
                <a:spcPts val="68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ccffff"/>
                </a:solidFill>
                <a:latin typeface="Times New Roman"/>
              </a:rPr>
              <a:t>Интермодален терминал гр. Русе – </a:t>
            </a:r>
            <a:r>
              <a:rPr b="1" lang="bg-BG" sz="2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€ </a:t>
            </a:r>
            <a:r>
              <a:rPr b="1" lang="bg-BG" sz="2200" spc="-1" strike="noStrike">
                <a:solidFill>
                  <a:srgbClr val="ccffff"/>
                </a:solidFill>
                <a:latin typeface="Times New Roman"/>
              </a:rPr>
              <a:t>15 млн. </a:t>
            </a:r>
            <a:endParaRPr b="0" lang="en-US" sz="2200" spc="-1" strike="noStrike">
              <a:solidFill>
                <a:srgbClr val="ccffff"/>
              </a:solidFill>
              <a:latin typeface="Times New Roman"/>
            </a:endParaRPr>
          </a:p>
          <a:p>
            <a:pPr marL="565920" indent="-565920">
              <a:lnSpc>
                <a:spcPct val="85000"/>
              </a:lnSpc>
              <a:spcBef>
                <a:spcPts val="68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ccffff"/>
                </a:solidFill>
                <a:latin typeface="Times New Roman"/>
              </a:rPr>
              <a:t>Завършване на жп линията Пловдив – Бургас (вкл. и жп възел Бургас) – </a:t>
            </a:r>
            <a:r>
              <a:rPr b="1" lang="bg-BG" sz="2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€ </a:t>
            </a:r>
            <a:r>
              <a:rPr b="1" lang="bg-BG" sz="2200" spc="-1" strike="noStrike">
                <a:solidFill>
                  <a:srgbClr val="ccffff"/>
                </a:solidFill>
                <a:latin typeface="Times New Roman"/>
              </a:rPr>
              <a:t>85 млн. </a:t>
            </a:r>
            <a:endParaRPr b="0" lang="en-US" sz="2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9a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04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ccffff"/>
                </a:solidFill>
                <a:latin typeface="Times New Roman"/>
              </a:rPr>
              <a:t>Автомагистрала “Струма” Лот 3 – </a:t>
            </a:r>
            <a:r>
              <a:rPr b="1" lang="bg-BG" sz="28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€ </a:t>
            </a:r>
            <a:r>
              <a:rPr b="1" lang="bg-BG" sz="2800" spc="-1" strike="noStrike">
                <a:solidFill>
                  <a:srgbClr val="ccffff"/>
                </a:solidFill>
                <a:latin typeface="Times New Roman"/>
              </a:rPr>
              <a:t>910 млн.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571680" indent="-571680">
              <a:spcBef>
                <a:spcPts val="104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ccffff"/>
                </a:solidFill>
                <a:latin typeface="Times New Roman"/>
              </a:rPr>
              <a:t>Автомагистрала Калотина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– </a:t>
            </a:r>
            <a:r>
              <a:rPr b="1" lang="bg-BG" sz="2800" spc="-1" strike="noStrike">
                <a:solidFill>
                  <a:srgbClr val="ccffff"/>
                </a:solidFill>
                <a:latin typeface="Times New Roman"/>
              </a:rPr>
              <a:t>София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– </a:t>
            </a:r>
            <a:r>
              <a:rPr b="1" lang="bg-BG" sz="28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€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405 млн.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571680" indent="-571680">
              <a:spcBef>
                <a:spcPts val="104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ccffff"/>
                </a:solidFill>
                <a:latin typeface="Times New Roman"/>
              </a:rPr>
              <a:t>Автомагистрала “Хемус” – </a:t>
            </a:r>
            <a:r>
              <a:rPr b="1" lang="bg-BG" sz="28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€ </a:t>
            </a:r>
            <a:r>
              <a:rPr b="1" lang="ru-RU" sz="2800" spc="-1" strike="noStrike">
                <a:solidFill>
                  <a:srgbClr val="cc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ccffff"/>
                </a:solidFill>
                <a:latin typeface="Times New Roman"/>
              </a:rPr>
              <a:t>250 млн.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lvl="1" marL="878040" indent="-533520">
              <a:spcBef>
                <a:spcPts val="1049"/>
              </a:spcBef>
              <a:buClr>
                <a:srgbClr val="a50021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ccffff"/>
                </a:solidFill>
                <a:latin typeface="Times New Roman"/>
              </a:rPr>
              <a:t>Ябланица – Велико Търново – </a:t>
            </a:r>
            <a:r>
              <a:rPr b="1" lang="bg-BG" sz="28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€ </a:t>
            </a:r>
            <a:r>
              <a:rPr b="1" lang="bg-BG" sz="2800" spc="-1" strike="noStrike">
                <a:solidFill>
                  <a:srgbClr val="ccffff"/>
                </a:solidFill>
                <a:latin typeface="Times New Roman"/>
              </a:rPr>
              <a:t>750 млн.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lvl="1" marL="878040" indent="-533520">
              <a:spcBef>
                <a:spcPts val="1049"/>
              </a:spcBef>
              <a:buClr>
                <a:srgbClr val="a50021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ccffff"/>
                </a:solidFill>
                <a:latin typeface="Times New Roman"/>
              </a:rPr>
              <a:t>Велико Търново – Шумен – </a:t>
            </a:r>
            <a:r>
              <a:rPr b="1" lang="bg-BG" sz="28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€ </a:t>
            </a:r>
            <a:r>
              <a:rPr b="1" lang="bg-BG" sz="2800" spc="-1" strike="noStrike">
                <a:solidFill>
                  <a:srgbClr val="ccffff"/>
                </a:solidFill>
                <a:latin typeface="Times New Roman"/>
              </a:rPr>
              <a:t>500 млн.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571680" indent="-571680">
              <a:spcBef>
                <a:spcPts val="104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ccffff"/>
                </a:solidFill>
                <a:latin typeface="Times New Roman"/>
              </a:rPr>
              <a:t>Автомагистрала “Черно море” </a:t>
            </a:r>
            <a:r>
              <a:rPr b="1" lang="ru-RU" sz="2800" spc="-1" strike="noStrike">
                <a:solidFill>
                  <a:srgbClr val="ccffff"/>
                </a:solidFill>
                <a:latin typeface="Times New Roman"/>
              </a:rPr>
              <a:t>– </a:t>
            </a:r>
            <a:r>
              <a:rPr b="1" lang="bg-BG" sz="28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€ </a:t>
            </a:r>
            <a:r>
              <a:rPr b="1" lang="ru-RU" sz="2800" spc="-1" strike="noStrike">
                <a:solidFill>
                  <a:srgbClr val="ccffff"/>
                </a:solidFill>
                <a:latin typeface="Times New Roman"/>
              </a:rPr>
              <a:t>450 </a:t>
            </a:r>
            <a:r>
              <a:rPr b="1" lang="bg-BG" sz="2800" spc="-1" strike="noStrike">
                <a:solidFill>
                  <a:srgbClr val="ccffff"/>
                </a:solidFill>
                <a:latin typeface="Times New Roman"/>
              </a:rPr>
              <a:t>млн.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571680" indent="-571680">
              <a:spcBef>
                <a:spcPts val="104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ccffff"/>
                </a:solidFill>
                <a:latin typeface="Times New Roman"/>
              </a:rPr>
              <a:t>Видин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–</a:t>
            </a:r>
            <a:r>
              <a:rPr b="1" lang="bg-BG" sz="2800" spc="-1" strike="noStrike">
                <a:solidFill>
                  <a:srgbClr val="ccffff"/>
                </a:solidFill>
                <a:latin typeface="Times New Roman"/>
              </a:rPr>
              <a:t> Ботевград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– </a:t>
            </a:r>
            <a:r>
              <a:rPr b="1" lang="bg-BG" sz="28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€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330 </a:t>
            </a:r>
            <a:r>
              <a:rPr b="1" lang="bg-BG" sz="2800" spc="-1" strike="noStrike">
                <a:solidFill>
                  <a:srgbClr val="ccffff"/>
                </a:solidFill>
                <a:latin typeface="Times New Roman"/>
              </a:rPr>
              <a:t>млн.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571680" indent="-571680">
              <a:spcBef>
                <a:spcPts val="104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ccffff"/>
                </a:solidFill>
                <a:latin typeface="Times New Roman"/>
              </a:rPr>
              <a:t>Русе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– </a:t>
            </a:r>
            <a:r>
              <a:rPr b="1" lang="bg-BG" sz="2800" spc="-1" strike="noStrike">
                <a:solidFill>
                  <a:srgbClr val="ccffff"/>
                </a:solidFill>
                <a:latin typeface="Times New Roman"/>
              </a:rPr>
              <a:t>Велико Търново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– </a:t>
            </a:r>
            <a:r>
              <a:rPr b="1" lang="bg-BG" sz="28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€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250 </a:t>
            </a:r>
            <a:r>
              <a:rPr b="1" lang="bg-BG" sz="2800" spc="-1" strike="noStrike">
                <a:solidFill>
                  <a:srgbClr val="ccffff"/>
                </a:solidFill>
                <a:latin typeface="Times New Roman"/>
              </a:rPr>
              <a:t>млн.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571680" indent="-571680">
              <a:spcBef>
                <a:spcPts val="104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ccffff"/>
                </a:solidFill>
                <a:latin typeface="Times New Roman"/>
              </a:rPr>
              <a:t>Велико Търново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– </a:t>
            </a:r>
            <a:r>
              <a:rPr b="1" lang="bg-BG" sz="2800" spc="-1" strike="noStrike">
                <a:solidFill>
                  <a:srgbClr val="ccffff"/>
                </a:solidFill>
                <a:latin typeface="Times New Roman"/>
              </a:rPr>
              <a:t>Маказа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– </a:t>
            </a:r>
            <a:r>
              <a:rPr b="1" lang="bg-BG" sz="28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€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292 </a:t>
            </a:r>
            <a:r>
              <a:rPr b="1" lang="bg-BG" sz="2800" spc="-1" strike="noStrike">
                <a:solidFill>
                  <a:srgbClr val="ccffff"/>
                </a:solidFill>
                <a:latin typeface="Times New Roman"/>
              </a:rPr>
              <a:t>млн.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98000" y="106200"/>
            <a:ext cx="792180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Приоритетни проекти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за периода 2014 – 2020 г. (2)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9a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78920" y="1568160"/>
            <a:ext cx="864396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9900"/>
                </a:solidFill>
                <a:latin typeface="Times New Roman"/>
              </a:rPr>
              <a:t>БЛАГОДАРЯ ЗА ВНИМАНИЕТО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300" spc="-1" strike="noStrike">
                <a:solidFill>
                  <a:srgbClr val="ccffff"/>
                </a:solidFill>
                <a:latin typeface="Times New Roman"/>
              </a:rPr>
              <a:t>Димитър Савов</a:t>
            </a:r>
            <a:endParaRPr b="0" lang="en-US" sz="23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300" spc="-1" strike="noStrike">
                <a:solidFill>
                  <a:srgbClr val="ccffff"/>
                </a:solidFill>
                <a:latin typeface="Times New Roman"/>
              </a:rPr>
              <a:t>Директор на дирекция </a:t>
            </a:r>
            <a:endParaRPr b="0" lang="en-US" sz="23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3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bg-BG" sz="2300" spc="-1" strike="noStrike">
                <a:solidFill>
                  <a:srgbClr val="ccffff"/>
                </a:solidFill>
                <a:latin typeface="Times New Roman"/>
              </a:rPr>
              <a:t>Национална транспортна политика”</a:t>
            </a:r>
            <a:endParaRPr b="0" lang="en-US" sz="23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300" spc="-1" strike="noStrike">
                <a:solidFill>
                  <a:srgbClr val="ccffff"/>
                </a:solidFill>
                <a:latin typeface="Times New Roman"/>
              </a:rPr>
              <a:t>тел</a:t>
            </a:r>
            <a:r>
              <a:rPr b="1" lang="en-US" sz="2300" spc="-1" strike="noStrike">
                <a:solidFill>
                  <a:srgbClr val="ccffff"/>
                </a:solidFill>
                <a:latin typeface="Times New Roman"/>
              </a:rPr>
              <a:t>. 9409 425, </a:t>
            </a:r>
            <a:r>
              <a:rPr b="1" lang="bg-BG" sz="2300" spc="-1" strike="noStrike">
                <a:solidFill>
                  <a:srgbClr val="ccffff"/>
                </a:solidFill>
                <a:latin typeface="Times New Roman"/>
              </a:rPr>
              <a:t>факс </a:t>
            </a:r>
            <a:r>
              <a:rPr b="1" lang="en-US" sz="2300" spc="-1" strike="noStrike">
                <a:solidFill>
                  <a:srgbClr val="ccffff"/>
                </a:solidFill>
                <a:latin typeface="Times New Roman"/>
              </a:rPr>
              <a:t>9409 827</a:t>
            </a:r>
            <a:endParaRPr b="0" lang="en-US" sz="23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ffff"/>
                </a:solidFill>
                <a:latin typeface="Times New Roman"/>
              </a:rPr>
              <a:t>e-mail: </a:t>
            </a:r>
            <a:r>
              <a:rPr b="1" lang="en-US" sz="2300" spc="-1" strike="noStrike" u="sng">
                <a:solidFill>
                  <a:srgbClr val="ccffff"/>
                </a:solidFill>
                <a:uFillTx/>
                <a:latin typeface="Times New Roman"/>
              </a:rPr>
              <a:t>dsavov@mtitc.government.bg</a:t>
            </a:r>
            <a:endParaRPr b="0" lang="en-US" sz="23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ccffff"/>
                </a:solidFill>
                <a:uFillTx/>
                <a:latin typeface="Times New Roman"/>
              </a:rPr>
              <a:t>www.mtitc.government.bg</a:t>
            </a:r>
            <a:endParaRPr b="0" lang="en-US" sz="23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9900"/>
                </a:solidFill>
                <a:latin typeface="Times New Roman"/>
              </a:rPr>
              <a:t>19 октомври 2011 г.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9900"/>
                </a:solidFill>
                <a:latin typeface="Times New Roman"/>
              </a:rPr>
              <a:t>София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9a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8560" y="136440"/>
            <a:ext cx="8155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Трансевропейска транспортна мрежа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ffff"/>
                </a:solidFill>
                <a:latin typeface="Times New Roman"/>
              </a:rPr>
              <a:t>     </a:t>
            </a:r>
            <a:r>
              <a:rPr b="1" lang="bg-BG" sz="2500" spc="-1" strike="noStrike">
                <a:solidFill>
                  <a:srgbClr val="ccffff"/>
                </a:solidFill>
                <a:latin typeface="Times New Roman"/>
              </a:rPr>
              <a:t>Основни цели на </a:t>
            </a: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TEN-T</a:t>
            </a:r>
            <a:r>
              <a:rPr b="1" lang="bg-BG" sz="25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ccffff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108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ccffff"/>
                </a:solidFill>
                <a:latin typeface="Times New Roman"/>
              </a:rPr>
              <a:t>Осигуряване на трайна мобилност на хората и стоките в пространство без вътрешни граници по отношение на социалните условия, безопасността, опазването на околната среда</a:t>
            </a:r>
            <a:r>
              <a:rPr b="1" lang="ru-RU" sz="25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bg-BG" sz="2500" spc="-1" strike="noStrike">
                <a:solidFill>
                  <a:srgbClr val="ccffff"/>
                </a:solidFill>
                <a:latin typeface="Times New Roman"/>
              </a:rPr>
              <a:t>и конкуренцията</a:t>
            </a:r>
            <a:endParaRPr b="0" lang="en-US" sz="2500" spc="-1" strike="noStrike">
              <a:solidFill>
                <a:srgbClr val="ccffff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108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ccffff"/>
                </a:solidFill>
                <a:latin typeface="Times New Roman"/>
              </a:rPr>
              <a:t>Засилване на икономическото и социалното сближаване</a:t>
            </a:r>
            <a:endParaRPr b="0" lang="en-US" sz="2500" spc="-1" strike="noStrike">
              <a:solidFill>
                <a:srgbClr val="ccffff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108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ccffff"/>
                </a:solidFill>
                <a:latin typeface="Times New Roman"/>
              </a:rPr>
              <a:t>Оптимално използване на наличния капацитет и оперативна съвместимост между видовете транспорт</a:t>
            </a:r>
            <a:endParaRPr b="0" lang="en-US" sz="2500" spc="-1" strike="noStrike">
              <a:solidFill>
                <a:srgbClr val="ccffff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108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ccffff"/>
                </a:solidFill>
                <a:latin typeface="Times New Roman"/>
              </a:rPr>
              <a:t>Осигуряване на висококачествена инфраструктура при приемливи икономически условия</a:t>
            </a:r>
            <a:endParaRPr b="0" lang="en-US" sz="2500" spc="-1" strike="noStrike">
              <a:solidFill>
                <a:srgbClr val="ccffff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108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ccffff"/>
                </a:solidFill>
                <a:latin typeface="Times New Roman"/>
              </a:rPr>
              <a:t>Подобряване и улесняване на достъпа</a:t>
            </a:r>
            <a:endParaRPr b="0" lang="en-US" sz="2500" spc="-1" strike="noStrike">
              <a:solidFill>
                <a:srgbClr val="ccffff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108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ccffff"/>
                </a:solidFill>
                <a:latin typeface="Times New Roman"/>
              </a:rPr>
              <a:t>Ефективно свързване на </a:t>
            </a: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TEN-T</a:t>
            </a:r>
            <a:r>
              <a:rPr b="1" lang="bg-BG" sz="2500" spc="-1" strike="noStrike">
                <a:solidFill>
                  <a:srgbClr val="ccffff"/>
                </a:solidFill>
                <a:latin typeface="Times New Roman"/>
              </a:rPr>
              <a:t> със съседните държави и региони</a:t>
            </a:r>
            <a:endParaRPr b="0" lang="en-US" sz="25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9a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8560" y="193680"/>
            <a:ext cx="8064360" cy="7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66"/>
                </a:solidFill>
                <a:latin typeface="Times New Roman"/>
              </a:rPr>
              <a:t>Нова</a:t>
            </a:r>
            <a:r>
              <a:rPr b="1" lang="bg-BG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bg-BG" sz="3600" spc="-1" strike="noStrike">
                <a:solidFill>
                  <a:srgbClr val="ffcc66"/>
                </a:solidFill>
                <a:latin typeface="Times New Roman"/>
              </a:rPr>
              <a:t>политика</a:t>
            </a:r>
            <a:r>
              <a:rPr b="1" lang="bg-BG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bg-BG" sz="3600" spc="-1" strike="noStrike">
                <a:solidFill>
                  <a:srgbClr val="ffcc66"/>
                </a:solidFill>
                <a:latin typeface="Times New Roman"/>
              </a:rPr>
              <a:t>за</a:t>
            </a:r>
            <a:r>
              <a:rPr b="1" lang="bg-BG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EN-T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3920" y="1258920"/>
            <a:ext cx="8748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ccffff"/>
                </a:solidFill>
                <a:latin typeface="Times New Roman"/>
              </a:rPr>
              <a:t>Зелена книга за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EN-T </a:t>
            </a:r>
            <a:r>
              <a:rPr b="1" lang="bg-BG" sz="2800" spc="-1" strike="noStrike">
                <a:solidFill>
                  <a:srgbClr val="ccffff"/>
                </a:solidFill>
                <a:latin typeface="Times New Roman"/>
              </a:rPr>
              <a:t>мрежата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spcBef>
                <a:spcPts val="1925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ccffff"/>
                </a:solidFill>
                <a:latin typeface="Times New Roman"/>
              </a:rPr>
              <a:t>Преглед на насоките за развитие на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EN</a:t>
            </a:r>
            <a:r>
              <a:rPr b="1" lang="ru-RU" sz="2800" spc="-1" strike="noStrike">
                <a:solidFill>
                  <a:srgbClr val="cc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</a:t>
            </a:r>
            <a:r>
              <a:rPr b="0" lang="bg-BG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spcBef>
                <a:spcPts val="1925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ccffff"/>
                </a:solidFill>
                <a:latin typeface="Times New Roman"/>
              </a:rPr>
              <a:t>Приоритетно развитие на проекти от общ интерес с европейска добавена стойност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spcBef>
                <a:spcPts val="1925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ccffff"/>
                </a:solidFill>
                <a:latin typeface="Times New Roman"/>
              </a:rPr>
              <a:t>Планиране на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EN-T</a:t>
            </a:r>
            <a:r>
              <a:rPr b="1" lang="bg-BG" sz="2800" spc="-1" strike="noStrike">
                <a:solidFill>
                  <a:srgbClr val="ccffff"/>
                </a:solidFill>
                <a:latin typeface="Times New Roman"/>
              </a:rPr>
              <a:t> мрежата на две нива: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lvl="1" marL="692280" indent="-347760">
              <a:spcBef>
                <a:spcPts val="1789"/>
              </a:spcBef>
              <a:buClr>
                <a:srgbClr val="a50021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ccffff"/>
                </a:solidFill>
                <a:latin typeface="Times New Roman"/>
              </a:rPr>
              <a:t>Основна мрежа – </a:t>
            </a:r>
            <a:r>
              <a:rPr b="1" lang="ru-RU" sz="2600" spc="-1" strike="noStrike">
                <a:solidFill>
                  <a:srgbClr val="ccffff"/>
                </a:solidFill>
                <a:latin typeface="Times New Roman"/>
              </a:rPr>
              <a:t>състои се от най-важните международни връзки в ЕС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  <a:p>
            <a:pPr lvl="1" marL="692280" indent="-347760">
              <a:spcBef>
                <a:spcPts val="1789"/>
              </a:spcBef>
              <a:buClr>
                <a:srgbClr val="a50021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ccffff"/>
                </a:solidFill>
                <a:latin typeface="Times New Roman"/>
              </a:rPr>
              <a:t>Широкообхватна мрежа – захранва и разпределя транспортните потоци от основната мрежа</a:t>
            </a:r>
            <a:r>
              <a:rPr b="0" lang="bg-BG" sz="26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9a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8000" y="257040"/>
            <a:ext cx="8021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66"/>
                </a:solidFill>
                <a:latin typeface="Times New Roman"/>
              </a:rPr>
              <a:t>Принципи на проектиране на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EN-T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cffff"/>
                </a:solidFill>
                <a:latin typeface="Times New Roman"/>
              </a:rPr>
              <a:t>Мултимодалност, интермодални връзки и съоръжения за комбиниран транспорт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cffff"/>
                </a:solidFill>
                <a:latin typeface="Times New Roman"/>
              </a:rPr>
              <a:t>Свързаност и оптимизация на мрежата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cffff"/>
                </a:solidFill>
                <a:latin typeface="Times New Roman"/>
              </a:rPr>
              <a:t>Оперативна съвместимост и подобрена ефективност на всички видове транспорт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cffff"/>
                </a:solidFill>
                <a:latin typeface="Times New Roman"/>
              </a:rPr>
              <a:t>Устойчивост чрез намаляване на емисиите на парникови газове,</a:t>
            </a: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bg-BG" sz="2400" spc="-1" strike="noStrike">
                <a:solidFill>
                  <a:srgbClr val="ccffff"/>
                </a:solidFill>
                <a:latin typeface="Times New Roman"/>
              </a:rPr>
              <a:t>ограничаване на вредното въздействие върху околната среда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cffff"/>
                </a:solidFill>
                <a:latin typeface="Times New Roman"/>
              </a:rPr>
              <a:t>Опазване на биоразнообразието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cffff"/>
                </a:solidFill>
                <a:latin typeface="Times New Roman"/>
              </a:rPr>
              <a:t>Повишаване на качеството на услугите,</a:t>
            </a: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bg-BG" sz="2400" spc="-1" strike="noStrike">
                <a:solidFill>
                  <a:srgbClr val="ccffff"/>
                </a:solidFill>
                <a:latin typeface="Times New Roman"/>
              </a:rPr>
              <a:t>безопасността и сигурността на транспортната инфраструктура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cffff"/>
                </a:solidFill>
                <a:latin typeface="Times New Roman"/>
              </a:rPr>
              <a:t>Използване на напреднали информационни технологии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cffff"/>
                </a:solidFill>
                <a:latin typeface="Times New Roman"/>
              </a:rPr>
              <a:t>Минимизиране на инвестициите, разходите за поддръжка и експлоатация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9a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640" y="96840"/>
            <a:ext cx="8064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Методология за планиране на </a:t>
            </a:r>
            <a:br>
              <a:rPr sz="3600"/>
            </a:b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широкообхватната </a:t>
            </a:r>
            <a:r>
              <a:rPr b="1" lang="bg-BG" sz="3600" spc="-1" strike="noStrike">
                <a:solidFill>
                  <a:srgbClr val="ffcc66"/>
                </a:solidFill>
                <a:latin typeface="Times New Roman"/>
              </a:rPr>
              <a:t>мрежа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Отговаря на следните потребности: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Планиране на земеползването и географски въпроси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Опазване на биоразнообразието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Технически и правни изисквания за оперативна съвместимост и безопасност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Въвеждане на стандарти за ефективна интеграция на различните видове транспорт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Основни характеристики: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Свърза всички региони на ЕС по адекватен начин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Тя е мултимодална и предоставя инфраструктурната основа за превози на пътници и товари 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Обхваща всички елементи на основната мрежа</a:t>
            </a:r>
            <a:endParaRPr b="0" lang="en-US" sz="2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9a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93320" y="1192320"/>
            <a:ext cx="889308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Критерии за оформяне на мрежата: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39480" indent="-339480">
              <a:lnSpc>
                <a:spcPct val="75000"/>
              </a:lnSpc>
              <a:spcBef>
                <a:spcPts val="119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Териториална интеграция и сближаване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Нужди на вътрешния пазар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Външни и глобални търговски потоци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Трафик на пътници и товари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Екологични въпроси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Основни стъпки на планиране: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04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Определяне на основните възли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04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Свързване на основните възли и избор на междинни възли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04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Определяне на технически параметри по отношение на функциите и капацитета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04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Включване на спомагателна инфраструктура, повишаване на ефективността и устойчивостта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07640" y="96840"/>
            <a:ext cx="8064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Методология за планиране на </a:t>
            </a:r>
            <a:br>
              <a:rPr sz="3600"/>
            </a:b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основната </a:t>
            </a:r>
            <a:r>
              <a:rPr b="1" lang="bg-BG" sz="3600" spc="-1" strike="noStrike">
                <a:solidFill>
                  <a:srgbClr val="ffcc66"/>
                </a:solidFill>
                <a:latin typeface="Times New Roman"/>
              </a:rPr>
              <a:t>мрежа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9a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66"/>
                </a:solidFill>
                <a:latin typeface="Times New Roman"/>
              </a:rPr>
              <a:t>Участие на България в новата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EN-T </a:t>
            </a:r>
            <a:r>
              <a:rPr b="1" lang="bg-BG" sz="3600" spc="-1" strike="noStrike">
                <a:solidFill>
                  <a:srgbClr val="ffcc66"/>
                </a:solidFill>
                <a:latin typeface="Times New Roman"/>
              </a:rPr>
              <a:t>политика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186920"/>
            <a:ext cx="4968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ccffff"/>
                </a:solidFill>
                <a:latin typeface="Times New Roman"/>
              </a:rPr>
              <a:t>МТИТС събра и анализира данни за българските участъци в обхвата на широкообхватната и основната мрежи</a:t>
            </a:r>
            <a:endParaRPr b="0" lang="en-US" sz="25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ccffff"/>
                </a:solidFill>
                <a:latin typeface="Times New Roman"/>
              </a:rPr>
              <a:t>Работа с </a:t>
            </a: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TENtec </a:t>
            </a:r>
            <a:r>
              <a:rPr b="1" lang="bg-BG" sz="2500" spc="-1" strike="noStrike">
                <a:solidFill>
                  <a:srgbClr val="ccffff"/>
                </a:solidFill>
                <a:latin typeface="Times New Roman"/>
              </a:rPr>
              <a:t>портала на ЕК</a:t>
            </a:r>
            <a:endParaRPr b="0" lang="en-US" sz="25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ccffff"/>
                </a:solidFill>
                <a:latin typeface="Times New Roman"/>
              </a:rPr>
              <a:t>Участия в заседания Постоянния комитет по развитие на </a:t>
            </a:r>
            <a:r>
              <a:rPr b="1" lang="en-US" sz="2500" spc="-1" strike="noStrike">
                <a:solidFill>
                  <a:srgbClr val="ccffff"/>
                </a:solidFill>
                <a:latin typeface="Times New Roman"/>
              </a:rPr>
              <a:t>TEN-T</a:t>
            </a:r>
            <a:endParaRPr b="0" lang="en-US" sz="25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ccffff"/>
                </a:solidFill>
                <a:latin typeface="Times New Roman"/>
              </a:rPr>
              <a:t>Двустранни преговори с ЕК </a:t>
            </a:r>
            <a:endParaRPr b="0" lang="en-US" sz="25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ccffff"/>
                </a:solidFill>
                <a:latin typeface="Times New Roman"/>
              </a:rPr>
              <a:t>Срещи на високо равнище за бъдещата транспортна политика на ЕС</a:t>
            </a:r>
            <a:endParaRPr b="0" lang="en-US" sz="25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84720" y="1484280"/>
            <a:ext cx="2664000" cy="156996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659640" y="4754520"/>
            <a:ext cx="2035080" cy="133020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72280" y="3505320"/>
            <a:ext cx="2309760" cy="95076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9a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3087360"/>
            <a:ext cx="87487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ШИРОКООБХВАТНА МРЕЖА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9a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66760" y="160200"/>
            <a:ext cx="78487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Пътна инфраструктура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105520" y="1278000"/>
            <a:ext cx="39592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5</a:t>
            </a:r>
            <a:r>
              <a:rPr b="1" lang="bg-BG" sz="2600" spc="-1" strike="noStrike">
                <a:solidFill>
                  <a:srgbClr val="ccffff"/>
                </a:solidFill>
                <a:latin typeface="Times New Roman"/>
              </a:rPr>
              <a:t> нови предложения: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cc66"/>
                </a:solidFill>
                <a:latin typeface="Times New Roman"/>
              </a:rPr>
              <a:t>Доизграждане на автомагистрала “Хемус”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cc66"/>
                </a:solidFill>
                <a:latin typeface="Times New Roman"/>
              </a:rPr>
              <a:t>Скоростен път “Рила”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cc66"/>
                </a:solidFill>
                <a:latin typeface="Times New Roman"/>
              </a:rPr>
              <a:t>Скоростен път I-2 Русе – Шумен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cc66"/>
                </a:solidFill>
                <a:latin typeface="Times New Roman"/>
              </a:rPr>
              <a:t>Скоростен път Варна – Дуранкулак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cc66"/>
                </a:solidFill>
                <a:latin typeface="Times New Roman"/>
              </a:rPr>
              <a:t>Път Пловдив – Рудозем  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8000" y="1685880"/>
            <a:ext cx="4968720" cy="411012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13:49:34Z</dcterms:created>
  <dc:creator>Marina Agalareva</dc:creator>
  <dc:description/>
  <dc:language>en-US</dc:language>
  <cp:lastModifiedBy>kvardev</cp:lastModifiedBy>
  <dcterms:modified xsi:type="dcterms:W3CDTF">2011-10-19T09:19:54Z</dcterms:modified>
  <cp:revision>89</cp:revision>
  <dc:subject/>
  <dc:title>Slide 1</dc:title>
</cp:coreProperties>
</file>