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1760" y="363996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25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1760" y="36399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22560" y="36399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1240" y="13712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1080" y="13712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1760" y="36399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1240" y="36399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21080" y="36399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22560" y="13712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2560" y="13712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61760" y="36399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25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22560" y="36399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25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363996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61760" y="363996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25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36399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22560" y="36399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41240" y="13712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1080" y="13712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61760" y="36399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41240" y="36399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21080" y="36399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2560" y="13712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22560" y="13712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1760" y="36399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225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22560" y="36399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25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363996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1760" y="363996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225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1760" y="36399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22560" y="36399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41240" y="13712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21080" y="13712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1760" y="36399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41240" y="36399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21080" y="36399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22560" y="13712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2560" y="13712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1760" y="36399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25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22560" y="36399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25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1760" y="363996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ff99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10920" y="6021000"/>
            <a:ext cx="80643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3358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335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335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335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	</a:t>
            </a:r>
            <a:fld id="{4DD58E16-92D3-4815-9782-16DF3407CBF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762120" y="5987880"/>
            <a:ext cx="5029200" cy="73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7"/>
          <p:cNvSpPr/>
          <p:nvPr/>
        </p:nvSpPr>
        <p:spPr>
          <a:xfrm>
            <a:off x="1042920" y="414972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333399"/>
                </a:solidFill>
                <a:latin typeface="Arial"/>
              </a:rPr>
              <a:t>Конференция “Стратегическа инфраструктура 2013”, 09.04.2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74" descr="NKSIP%20logo_bg"/>
          <p:cNvPicPr/>
          <p:nvPr/>
        </p:nvPicPr>
        <p:blipFill>
          <a:blip r:embed="rId2"/>
          <a:stretch/>
        </p:blipFill>
        <p:spPr>
          <a:xfrm>
            <a:off x="762120" y="5867280"/>
            <a:ext cx="3601800" cy="700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ff99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762120" y="5987880"/>
            <a:ext cx="5029200" cy="7336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8458200" y="0"/>
            <a:ext cx="685800" cy="1219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24507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ff99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2"/>
          </p:nvPr>
        </p:nvSpPr>
        <p:spPr>
          <a:xfrm>
            <a:off x="610920" y="6021000"/>
            <a:ext cx="80643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3358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335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335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335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	</a:t>
            </a:r>
            <a:fld id="{2668E2A5-E669-42BE-9AAC-1EAACB2A886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611280" y="6021360"/>
            <a:ext cx="8064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tabLst>
                <a:tab algn="l" pos="0"/>
                <a:tab algn="r" pos="8335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8335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8335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fld id="{619DBFD2-B5CF-457B-ADF4-B8A5A6D73285}" type="slidenum">
              <a:rPr b="0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219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400" spc="-1" strike="noStrike">
                <a:solidFill>
                  <a:srgbClr val="ffffff"/>
                </a:solidFill>
                <a:latin typeface="Arial"/>
              </a:rPr>
              <a:t>Автомагистрала „Хемус“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Bulgaria-Hemus road map 140211"/>
          <p:cNvPicPr/>
          <p:nvPr/>
        </p:nvPicPr>
        <p:blipFill>
          <a:blip r:embed="rId1"/>
          <a:stretch/>
        </p:blipFill>
        <p:spPr>
          <a:xfrm>
            <a:off x="985680" y="1398600"/>
            <a:ext cx="73152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611280" y="6021360"/>
            <a:ext cx="8064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tabLst>
                <a:tab algn="l" pos="0"/>
                <a:tab algn="r" pos="8335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8335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8335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fld id="{E99E9591-F953-4481-BC91-6BB6C8C923A0}" type="slidenum">
              <a:rPr b="0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219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400" spc="-1" strike="noStrike">
                <a:solidFill>
                  <a:srgbClr val="ffffff"/>
                </a:solidFill>
                <a:latin typeface="Arial"/>
              </a:rPr>
              <a:t>Всички разглеждани варианти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4" descr=""/>
          <p:cNvPicPr/>
          <p:nvPr/>
        </p:nvPicPr>
        <p:blipFill>
          <a:blip r:embed="rId1"/>
          <a:stretch/>
        </p:blipFill>
        <p:spPr>
          <a:xfrm>
            <a:off x="630360" y="1295280"/>
            <a:ext cx="767556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611280" y="6021360"/>
            <a:ext cx="8064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tabLst>
                <a:tab algn="l" pos="0"/>
                <a:tab algn="r" pos="8335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8335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8335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fld id="{46358913-86D5-4D6D-967E-6BF55903D1A2}" type="slidenum">
              <a:rPr b="0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219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400" spc="-1" strike="noStrike">
                <a:solidFill>
                  <a:srgbClr val="ffffff"/>
                </a:solidFill>
                <a:latin typeface="Arial"/>
              </a:rPr>
              <a:t>Избрани варианти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rcRect l="5618" t="15109" r="5423" b="7563"/>
          <a:stretch/>
        </p:blipFill>
        <p:spPr>
          <a:xfrm>
            <a:off x="797040" y="1281240"/>
            <a:ext cx="771372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sen</dc:creator>
  <dc:description/>
  <dc:language>en-US</dc:language>
  <cp:lastModifiedBy>user</cp:lastModifiedBy>
  <dcterms:modified xsi:type="dcterms:W3CDTF">2014-05-12T08:31:29Z</dcterms:modified>
  <cp:revision>4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