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124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108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176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124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108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124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108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176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124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108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4124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1080" y="13712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176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4124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21080" y="36399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560" y="36399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3712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1760" y="36399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99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920" y="6021000"/>
            <a:ext cx="8064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fld id="{61C11D45-10B4-408A-BA7A-EE8BF73EA8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762120" y="5987880"/>
            <a:ext cx="5029200" cy="73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7"/>
          <p:cNvSpPr/>
          <p:nvPr/>
        </p:nvSpPr>
        <p:spPr>
          <a:xfrm>
            <a:off x="1042920" y="41497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333399"/>
                </a:solidFill>
                <a:latin typeface="Arial"/>
              </a:rPr>
              <a:t>Конференция “Стратегическа инфраструктура 2013”, 09.04.2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4" descr="NKSIP%20logo_bg"/>
          <p:cNvPicPr/>
          <p:nvPr/>
        </p:nvPicPr>
        <p:blipFill>
          <a:blip r:embed="rId2"/>
          <a:stretch/>
        </p:blipFill>
        <p:spPr>
          <a:xfrm>
            <a:off x="762120" y="5867280"/>
            <a:ext cx="3601800" cy="7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99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762120" y="5987880"/>
            <a:ext cx="5029200" cy="733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8458200" y="0"/>
            <a:ext cx="685800" cy="1219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2450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99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610920" y="6021000"/>
            <a:ext cx="8064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fld id="{8AF10CA0-69F9-417B-BA77-376F9BFBA4A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11280" y="602136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fld id="{A9883168-782B-4BF7-B422-9A2974E2F081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ff"/>
                </a:solidFill>
                <a:latin typeface="Arial"/>
              </a:rPr>
              <a:t>Автомагистрала „Хемус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Bulgaria-Hemus road map 140211"/>
          <p:cNvPicPr/>
          <p:nvPr/>
        </p:nvPicPr>
        <p:blipFill>
          <a:blip r:embed="rId1"/>
          <a:stretch/>
        </p:blipFill>
        <p:spPr>
          <a:xfrm>
            <a:off x="985680" y="1398600"/>
            <a:ext cx="7315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11280" y="602136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fld id="{99B771DA-830D-4583-B6B8-D0465FC4D9B9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ff"/>
                </a:solidFill>
                <a:latin typeface="Arial"/>
              </a:rPr>
              <a:t>Всички разглеждани вариан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4" descr=""/>
          <p:cNvPicPr/>
          <p:nvPr/>
        </p:nvPicPr>
        <p:blipFill>
          <a:blip r:embed="rId1"/>
          <a:stretch/>
        </p:blipFill>
        <p:spPr>
          <a:xfrm>
            <a:off x="630360" y="1295280"/>
            <a:ext cx="76755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11280" y="6021360"/>
            <a:ext cx="8064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335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fld id="{C5AB7FE2-9C72-4D65-BAB5-F5D0CD0369B9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ff"/>
                </a:solidFill>
                <a:latin typeface="Arial"/>
              </a:rPr>
              <a:t>Избрани вариан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5618" t="15109" r="5423" b="7563"/>
          <a:stretch/>
        </p:blipFill>
        <p:spPr>
          <a:xfrm>
            <a:off x="797040" y="1281240"/>
            <a:ext cx="7713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sen</dc:creator>
  <dc:description/>
  <dc:language>en-US</dc:language>
  <cp:lastModifiedBy>user</cp:lastModifiedBy>
  <dcterms:modified xsi:type="dcterms:W3CDTF">2014-05-12T08:31:29Z</dcterms:modified>
  <cp:revision>4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