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51055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27200" y="4228200"/>
            <a:ext cx="51055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3320" y="18666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27200" y="42282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3320" y="42282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1643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53400" y="1866600"/>
            <a:ext cx="1643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9960" y="1866600"/>
            <a:ext cx="1643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27200" y="4228200"/>
            <a:ext cx="1643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253400" y="4228200"/>
            <a:ext cx="1643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9960" y="4228200"/>
            <a:ext cx="1643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527200" y="1866600"/>
            <a:ext cx="51055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51055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2491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3320" y="1866600"/>
            <a:ext cx="2491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286000" y="1150920"/>
            <a:ext cx="651528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3320" y="1866600"/>
            <a:ext cx="2491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527200" y="42282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27200" y="1866600"/>
            <a:ext cx="51055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2491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3320" y="18666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3320" y="42282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3320" y="18666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27200" y="4228200"/>
            <a:ext cx="51055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51055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27200" y="4228200"/>
            <a:ext cx="51055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3320" y="18666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27200" y="42282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43320" y="42282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1643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53400" y="1866600"/>
            <a:ext cx="1643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79960" y="1866600"/>
            <a:ext cx="1643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527200" y="4228200"/>
            <a:ext cx="1643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253400" y="4228200"/>
            <a:ext cx="1643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79960" y="4228200"/>
            <a:ext cx="1643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51055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2491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3320" y="1866600"/>
            <a:ext cx="2491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0" y="1150920"/>
            <a:ext cx="651528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3320" y="1866600"/>
            <a:ext cx="2491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27200" y="42282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2491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3320" y="18666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3320" y="42282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3320" y="18666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27200" y="4228200"/>
            <a:ext cx="51055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6320" y="6197760"/>
            <a:ext cx="914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7865-5A19-4011-9274-B0FA593A6573}" type="slidenum">
              <a:rPr b="0" lang="en-US" sz="1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27200" y="1866600"/>
            <a:ext cx="51055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808080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120000"/>
              <a:buFont typeface="Times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8800" y="45208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1700" spc="-1" strike="noStrike">
              <a:solidFill>
                <a:srgbClr val="808080"/>
              </a:solidFill>
              <a:latin typeface="Verdana"/>
            </a:endParaRPr>
          </a:p>
          <a:p>
            <a:pPr lvl="1" marL="457200" indent="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Verdana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74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74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74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solarism@mail.bg" TargetMode="External"/><Relationship Id="rId2" Type="http://schemas.openxmlformats.org/officeDocument/2006/relationships/hyperlink" Target="http://www.solarism.eu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6920" y="2276280"/>
            <a:ext cx="4753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bg-BG" sz="3200" spc="-1" strike="noStrike">
                <a:solidFill>
                  <a:srgbClr val="000000"/>
                </a:solidFill>
                <a:latin typeface="Verdana"/>
              </a:rPr>
              <a:t>СОЛАРИС М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bg-BG" sz="3200" spc="-1" strike="noStrike">
                <a:solidFill>
                  <a:srgbClr val="000000"/>
                </a:solidFill>
                <a:latin typeface="Verdana"/>
              </a:rPr>
              <a:t>ЕООД</a:t>
            </a:r>
            <a:r>
              <a:rPr b="1" lang="bg-BG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268360" y="4797360"/>
            <a:ext cx="6400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акуумно-тръбни слънчеви колектори за затопляне на вода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43280" y="5878440"/>
            <a:ext cx="4500720" cy="9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3860280"/>
            <a:ext cx="23860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Принципна схема за подгряване на плувен басейн с топлообменник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03640" y="260280"/>
            <a:ext cx="5761080" cy="640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56000" y="3212640"/>
            <a:ext cx="298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Принципна схема за затопляне на битова вода и подпомагане на котел за отопление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905440" cy="651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3212640"/>
            <a:ext cx="217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Принципна схема за затопляне на битова вода и подпомагане на котел за отопление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6373800" cy="64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68360" y="476280"/>
            <a:ext cx="48960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Промишлени системи за затопляне на вода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832720" cy="490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6010200" cy="4772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6083280" cy="4740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6120000" cy="4770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6264360" cy="4186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319640" cy="3240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6520" y="189000"/>
            <a:ext cx="4319640" cy="3240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4321440" cy="3124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643280" y="3573360"/>
            <a:ext cx="4321440" cy="3124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95640" y="3213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00"/>
                </a:solidFill>
                <a:latin typeface="Verdana"/>
              </a:rPr>
              <a:t>Ще ни откриете на </a:t>
            </a:r>
            <a:br>
              <a:rPr sz="2600"/>
            </a:br>
            <a:r>
              <a:rPr b="1" lang="bg-BG" sz="2600" spc="-1" strike="noStrike">
                <a:solidFill>
                  <a:srgbClr val="000000"/>
                </a:solidFill>
                <a:latin typeface="Verdana"/>
              </a:rPr>
              <a:t>тел.: 0878959709</a:t>
            </a:r>
            <a:br>
              <a:rPr sz="2600"/>
            </a:br>
            <a:r>
              <a:rPr b="1" lang="bg-BG" sz="2600" spc="-1" strike="noStrike">
                <a:solidFill>
                  <a:srgbClr val="000000"/>
                </a:solidFill>
                <a:latin typeface="Verdana"/>
              </a:rPr>
              <a:t>тел.: 0878932405</a:t>
            </a:r>
            <a:br>
              <a:rPr sz="2600"/>
            </a:br>
            <a:r>
              <a:rPr b="1" lang="bg-BG" sz="2600" spc="-1" strike="noStrike">
                <a:solidFill>
                  <a:srgbClr val="000000"/>
                </a:solidFill>
                <a:latin typeface="Verdana"/>
              </a:rPr>
              <a:t>тел.: 0878800506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1" lang="en-US" sz="2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olarism@mail.b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web: </a:t>
            </a:r>
            <a:r>
              <a:rPr b="1" lang="en-US" sz="26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solarism.eu</a:t>
            </a: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Проект “100”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51055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bg-BG" sz="1900" spc="-1" strike="noStrike">
                <a:solidFill>
                  <a:srgbClr val="000000"/>
                </a:solidFill>
                <a:latin typeface="Verdana"/>
              </a:rPr>
              <a:t>Фирма Соларис М ЕООД е основана през 2004г. с помощта на правителствен проект `100` за създаване на малки предприятия в град Силистра. Основната ни дейност е внос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bg-BG" sz="1900" spc="-1" strike="noStrike">
                <a:solidFill>
                  <a:srgbClr val="000000"/>
                </a:solidFill>
                <a:latin typeface="Verdana"/>
              </a:rPr>
              <a:t>проектиране и монтаж на високо-ефективни вакуумно-тръбни слънчеви колектори за подгряване на топла вода. Фирмата е създадена с амбициозната цел да отговори на все по-голямото търсене на алтернативни източници на енергия, продиктувано от промените в климата и завишените изисквания и норми на Европейския съюз за енергогенериращи продукт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Слънцето в България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51055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bg-BG" sz="1900" spc="-1" strike="noStrike">
                <a:solidFill>
                  <a:srgbClr val="000000"/>
                </a:solidFill>
                <a:latin typeface="Verdana"/>
              </a:rPr>
              <a:t>Нашата страна има достатъчно потенциал за използване на слънчева енергия, като в това отношение е сред относително слънчевите страни по света: статистическите данни сочат, че средногодишното слънцегреене над Сандански е 2600 часа, над Пловдив 2250 часа, а над София - 2050 часа. Средния брой слънчеви дни в годината е 200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Малко сметки …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5075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2000"/>
          </a:bodyPr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Verdana"/>
              </a:rPr>
              <a:t>Средностатистическия бойлер Ви дава топлина за сметка на около 1/4 от общите Ви сметки за електроенергия. При нашите климатични условия енергията, която 1 кв. метър колекторна площ може да усвои достига до 800 W/h мощност!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Verdana"/>
              </a:rPr>
              <a:t>На таблицата се вижда средната слънчева активност над България през годината.</a:t>
            </a:r>
            <a:r>
              <a:rPr b="0" lang="bg-BG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835280" y="3259080"/>
          <a:ext cx="6192720" cy="22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259080"/>
                    <a:ext cx="6192720" cy="22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Технология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686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Verdana"/>
              </a:rPr>
              <a:t>Вакуумните тръби са изработени от бор-силикатно стъкло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ърху което има нанесено плазмено покритие от алуминий и алуминиев нитрит, осигуряващ коефициент на поглъщане по-голям от 90% (доближаващ се до коефициента на абсолютно черно тяло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Материал – бор-силикатно стъкло, изработено по стандарт ISO 3589:1991; пропускливост на борсиликатното стъкло: 0.92; абсорбираща способност на обшивноя слой на соларните тръби: 0.94; хемисферично предаване: 0.08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Тръбите устояват безпроблемно на градушка с диаметър до 35 мм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здържливост на системите при ниски температури - до -30 градуса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Приложение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51055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Verdana"/>
              </a:rPr>
              <a:t>Нашите слънчеви системи са подходящи за захранване с топла вода на хотели, ресторанти, басейни, вили, еднофамилни къщи, болници, както и всякакъв вид обществени и жилищни сгради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Verdana"/>
              </a:rPr>
              <a:t>Имаме възможност да изпълняваме поръчки на територията на цялата страна, както и в съседните държави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Verdana"/>
              </a:rPr>
              <a:t>Предлагаме Ви соларни системи с високо качество, лесна инсталация и бърза възвръщаемост!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39640" y="907560"/>
            <a:ext cx="6514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Verdana"/>
              </a:rPr>
              <a:t>Моделна гама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P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64000" y="1628280"/>
            <a:ext cx="558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вътрешен абсорбер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материал на абсорбера - алуминий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диаметър на тръбите: 70мм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дължина на тръбите: 1700мм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дебелина на стъклената стена – 2.5мм.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количество тръби за един колектор: 10бр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тегло на една тръба – 2.2кг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вакуум - 5*10-3Pa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стартова температура - ≤25℃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фактическа нагревна площ на колектора: 1,60м2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мощност: 1.28к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宋体"/>
              </a:rPr>
              <a:t>W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коефициент на поглъщане: 94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отразяваща способност: 6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степен на преобразуване: 730 </a:t>
            </a:r>
            <a:r>
              <a:rPr b="1" lang="en" sz="1100" spc="-1" strike="noStrike">
                <a:solidFill>
                  <a:srgbClr val="000000"/>
                </a:solidFill>
                <a:latin typeface="Verdana"/>
                <a:ea typeface="宋体"/>
              </a:rPr>
              <a:t>kWh</a:t>
            </a: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/кв.м. годишно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възможност за работа при минусови температури ( до -30</a:t>
            </a:r>
            <a:r>
              <a:rPr b="1" lang="bg-BG" sz="1100" spc="-1" strike="noStrike" baseline="30000">
                <a:solidFill>
                  <a:srgbClr val="000000"/>
                </a:solidFill>
                <a:latin typeface="Verdana"/>
              </a:rPr>
              <a:t>о</a:t>
            </a: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 С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произведено количество вода за 12 часа: 100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/60</a:t>
            </a:r>
            <a:r>
              <a:rPr b="1" lang="bg-BG" sz="1100" spc="-1" strike="noStrike" baseline="30000">
                <a:solidFill>
                  <a:srgbClr val="000000"/>
                </a:solidFill>
                <a:latin typeface="Verdana"/>
              </a:rPr>
              <a:t>о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гаранция на конструкцията и тръбопроводите: 36 месеца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целогодишна работа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издържливост на вятър – до 30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宋体"/>
              </a:rPr>
              <a:t>m</a:t>
            </a: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宋体"/>
              </a:rPr>
              <a:t>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издържливост на градушка – до 35мм. диаметър на зърното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работно налягане – до 10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宋体"/>
              </a:rPr>
              <a:t>ba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0600" y="1773360"/>
            <a:ext cx="3359880" cy="4690440"/>
            <a:chOff x="30600" y="1773360"/>
            <a:chExt cx="3359880" cy="4690440"/>
          </a:xfrm>
        </p:grpSpPr>
        <p:sp>
          <p:nvSpPr>
            <p:cNvPr id="97" name=""/>
            <p:cNvSpPr/>
            <p:nvPr/>
          </p:nvSpPr>
          <p:spPr>
            <a:xfrm>
              <a:off x="30600" y="5821200"/>
              <a:ext cx="335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3333cc"/>
                  </a:solidFill>
                  <a:latin typeface="Tahoma"/>
                </a:rPr>
                <a:t>Система за високо наляган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Tahoma"/>
                </a:rPr>
                <a:t>Тип тръба -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HCM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250920" y="1773360"/>
              <a:ext cx="2970000" cy="396072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Verdana"/>
              </a:rPr>
              <a:t>Моделна гама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PV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6360" y="1866960"/>
            <a:ext cx="35575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тип тръба –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SLP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моделът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SLPV</a:t>
            </a: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-42-47/1500-24 с мощност 3.71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kW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диаметър на тръбите: 47мм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дължина на тръбите: 1500мм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дебелина на стъклената стена: 2.5мм.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количество тръби за един колектор: 24бр.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коефициент на поглъщане: 94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отразяваща способност: 6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степен на преобразуване: 730 </a:t>
            </a:r>
            <a:r>
              <a:rPr b="1" lang="en" sz="1100" spc="-1" strike="noStrike">
                <a:solidFill>
                  <a:srgbClr val="000000"/>
                </a:solidFill>
                <a:latin typeface="Verdana"/>
                <a:ea typeface="宋体"/>
              </a:rPr>
              <a:t>kWh</a:t>
            </a: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/кв.м. годишно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капацитет – 200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L/60</a:t>
            </a:r>
            <a:r>
              <a:rPr b="1" lang="en-US" sz="11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 24ч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фактическа нагревна площ на панела – 5.3 м2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издържливост на градушка – до 25мм. диаметър на зърното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219640" y="1844640"/>
            <a:ext cx="3610080" cy="3810960"/>
            <a:chOff x="5219640" y="1844640"/>
            <a:chExt cx="3610080" cy="381096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219640" y="1844640"/>
              <a:ext cx="3610080" cy="298116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sp>
          <p:nvSpPr>
            <p:cNvPr id="103" name=""/>
            <p:cNvSpPr/>
            <p:nvPr/>
          </p:nvSpPr>
          <p:spPr>
            <a:xfrm>
              <a:off x="5452560" y="5013000"/>
              <a:ext cx="3236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3333cc"/>
                  </a:solidFill>
                  <a:latin typeface="Tahoma"/>
                </a:rPr>
                <a:t>Система за ниско наляган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Tahoma"/>
                </a:rPr>
                <a:t>Тип тръба -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24000" y="5589720"/>
            <a:ext cx="44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зключително подходящи за затопляне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на басейни и индустриални систе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Verdana"/>
              </a:rPr>
              <a:t>Моделна гама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SLP/</a:t>
            </a:r>
            <a:r>
              <a:rPr b="1" lang="en-US" sz="3000" spc="-1" strike="noStrike">
                <a:solidFill>
                  <a:srgbClr val="3333cc"/>
                </a:solidFill>
                <a:latin typeface="Verdana"/>
              </a:rPr>
              <a:t>SLP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40000" y="1844280"/>
            <a:ext cx="4824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3333cc"/>
                </a:solidFill>
                <a:latin typeface="Verdana"/>
              </a:rPr>
              <a:t>подходящ за целогодишна употреба – дома, ресторанта и т.н.*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3333cc"/>
                </a:solidFill>
                <a:latin typeface="Verdana"/>
              </a:rPr>
              <a:t>вътрешна серпентина на водосъдържателя*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неръждаем водосъдържател с вместимост – 160л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диаметър на тръбите: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58</a:t>
            </a: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мм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дължина на тръбите: 1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00мм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количество тръби за един колектор: 20бр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фактическа нагревна площ на колектора: 4,60м2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мощност: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2.31</a:t>
            </a: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коефициент на поглъщане: 96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отразяваща способност: 4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степен на преобразуване: 730 </a:t>
            </a:r>
            <a:r>
              <a:rPr b="1" lang="en" sz="1100" spc="-1" strike="noStrike">
                <a:solidFill>
                  <a:srgbClr val="000000"/>
                </a:solidFill>
                <a:latin typeface="Verdana"/>
              </a:rPr>
              <a:t>kWh</a:t>
            </a: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/кв.м. годишно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произведено количество вода за 24 часа: 160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/60</a:t>
            </a:r>
            <a:r>
              <a:rPr b="1" lang="bg-BG" sz="1100" spc="-1" strike="noStrike" baseline="30000">
                <a:solidFill>
                  <a:srgbClr val="000000"/>
                </a:solidFill>
                <a:latin typeface="Verdana"/>
              </a:rPr>
              <a:t>о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гаранция на конструкцията и тръбопроводите: 2 год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целогодишна работа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работно налягане – до 1.2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a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издържливост на градушка – до 25мм. диаметър на зърното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възможност за работа при минусови температури ( до -30о С) – при зареждане със соларна течност (пропилен гликол или производна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79280" y="1989000"/>
            <a:ext cx="7008480" cy="4040280"/>
            <a:chOff x="179280" y="1989000"/>
            <a:chExt cx="7008480" cy="4040280"/>
          </a:xfrm>
        </p:grpSpPr>
        <p:sp>
          <p:nvSpPr>
            <p:cNvPr id="108" name=""/>
            <p:cNvSpPr/>
            <p:nvPr/>
          </p:nvSpPr>
          <p:spPr>
            <a:xfrm>
              <a:off x="4645080" y="5661000"/>
              <a:ext cx="254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3333cc"/>
                  </a:solidFill>
                  <a:latin typeface="Arial"/>
                </a:rPr>
                <a:t>* само за модел </a:t>
              </a: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SL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179280" y="1989000"/>
              <a:ext cx="3600720" cy="3600720"/>
            </a:xfrm>
            <a:prstGeom prst="rect">
              <a:avLst/>
            </a:prstGeom>
            <a:ln w="50760">
              <a:solidFill>
                <a:srgbClr val="333333"/>
              </a:solidFill>
              <a:miter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11:24:04Z</dcterms:created>
  <dc:creator>SKAYVER</dc:creator>
  <dc:description/>
  <dc:language>en-US</dc:language>
  <cp:lastModifiedBy>Demo</cp:lastModifiedBy>
  <dcterms:modified xsi:type="dcterms:W3CDTF">2007-09-14T09:28:01Z</dcterms:modified>
  <cp:revision>38</cp:revision>
  <dc:subject/>
  <dc:title>СОЛАРИС М </dc:title>
</cp:coreProperties>
</file>