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5951-A0A3-4555-8A77-1DB95F37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D783-6352-4FD9-8747-EE1FDE65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E722-589E-432E-8D00-990562EB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E841-01F2-4007-8C22-0356A4AE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7F99-0C6B-4968-B7B3-353E3C2C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DD7C-03BB-4873-9985-FF6DE7E2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A4E6-694F-4BBB-BCCE-1D1C222B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473F-90A2-4F13-93E9-F436327F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A957-7F23-4DA5-99B4-13CB9F30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7680-F643-41FE-9FB1-8F3D5750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D89B-3671-400B-A8DB-42DEFCFD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E015-CB9E-45C5-A365-46921926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5CF3-856D-4238-A021-8751E205E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050920" y="189000"/>
            <a:ext cx="51850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Република Бълг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5102280"/>
            <a:ext cx="889308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cc"/>
                </a:solidFill>
                <a:latin typeface="Arial"/>
              </a:rPr>
              <a:t>НОРМАТИВНА УРЕДБА, СЪСТОЯНИЕ И ИНСТИТУЦИОНАЛНО УСТРОЙСТВО НА ОТРАСЪЛ ВОДОСНАБДЯВАНЕ И КАНАЛИЗАЦИЯ</a:t>
            </a:r>
            <a:br>
              <a:rPr sz="2000"/>
            </a:br>
            <a:r>
              <a:rPr b="1" lang="bg-BG" sz="2000" spc="-1" strike="noStrike">
                <a:solidFill>
                  <a:srgbClr val="0000cc"/>
                </a:solidFill>
                <a:latin typeface="Arial"/>
              </a:rPr>
              <a:t>В РЕПУБЛИКА БЪЛГ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6624720" cy="42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1116000" y="33480"/>
            <a:ext cx="786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Регулиране на водоснабдителните и канализационните услуги в България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rganization Chart 3"/>
          <p:cNvGrpSpPr/>
          <p:nvPr/>
        </p:nvGrpSpPr>
        <p:grpSpPr>
          <a:xfrm>
            <a:off x="1619280" y="1268280"/>
            <a:ext cx="7431480" cy="5038560"/>
            <a:chOff x="1619280" y="1268280"/>
            <a:chExt cx="7431480" cy="5038560"/>
          </a:xfrm>
        </p:grpSpPr>
        <p:cxnSp>
          <p:nvCxnSpPr>
            <p:cNvPr id="151" name="_s55335"/>
            <p:cNvCxnSpPr>
              <a:stCxn id="152" idx="0"/>
              <a:endCxn id="153" idx="2"/>
            </p:cNvCxnSpPr>
            <p:nvPr/>
          </p:nvCxnSpPr>
          <p:spPr>
            <a:xfrm flipH="1" flipV="1" rot="5400000">
              <a:off x="7907760" y="4344120"/>
              <a:ext cx="501840" cy="114840"/>
            </a:xfrm>
            <a:prstGeom prst="bentConnector3">
              <a:avLst>
                <a:gd name="adj1" fmla="val 22756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4" name="_s55319"/>
            <p:cNvCxnSpPr/>
            <p:nvPr/>
          </p:nvCxnSpPr>
          <p:spPr>
            <a:xfrm flipV="1" rot="16200000">
              <a:off x="6508440" y="1257840"/>
              <a:ext cx="710280" cy="2890080"/>
            </a:xfrm>
            <a:prstGeom prst="bentConnector3">
              <a:avLst>
                <a:gd name="adj1" fmla="val 16075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5" name="_s55320"/>
            <p:cNvCxnSpPr/>
            <p:nvPr/>
          </p:nvCxnSpPr>
          <p:spPr>
            <a:xfrm flipH="1" flipV="1" rot="5400000">
              <a:off x="2100960" y="4413960"/>
              <a:ext cx="565920" cy="39240"/>
            </a:xfrm>
            <a:prstGeom prst="bentConnector3">
              <a:avLst>
                <a:gd name="adj1" fmla="val 1998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6" name="_s55321"/>
            <p:cNvCxnSpPr/>
            <p:nvPr/>
          </p:nvCxnSpPr>
          <p:spPr>
            <a:xfrm flipV="1" rot="16200000">
              <a:off x="5532480" y="2233800"/>
              <a:ext cx="710280" cy="938160"/>
            </a:xfrm>
            <a:prstGeom prst="bentConnector3">
              <a:avLst>
                <a:gd name="adj1" fmla="val 16075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7" name="_s55322"/>
            <p:cNvCxnSpPr/>
            <p:nvPr/>
          </p:nvCxnSpPr>
          <p:spPr>
            <a:xfrm flipH="1" flipV="1" rot="5400000">
              <a:off x="4525560" y="2197440"/>
              <a:ext cx="710280" cy="1011600"/>
            </a:xfrm>
            <a:prstGeom prst="bentConnector3">
              <a:avLst>
                <a:gd name="adj1" fmla="val 16075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8" name="_s55323"/>
            <p:cNvCxnSpPr/>
            <p:nvPr/>
          </p:nvCxnSpPr>
          <p:spPr>
            <a:xfrm flipH="1" flipV="1" rot="5400000">
              <a:off x="3565080" y="1221120"/>
              <a:ext cx="710280" cy="2963880"/>
            </a:xfrm>
            <a:prstGeom prst="bentConnector3">
              <a:avLst>
                <a:gd name="adj1" fmla="val 16075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59" name="_s55324"/>
            <p:cNvSpPr/>
            <p:nvPr/>
          </p:nvSpPr>
          <p:spPr>
            <a:xfrm>
              <a:off x="1619280" y="1268280"/>
              <a:ext cx="7416000" cy="14155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ЗАКОН З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РЕГУЛИРАНЕ НА ВОДОСНАБДИТЕЛНИ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И КАНАЛИЗАЦИОННИТЕ УСЛУГ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55325"/>
            <p:cNvSpPr/>
            <p:nvPr/>
          </p:nvSpPr>
          <p:spPr>
            <a:xfrm>
              <a:off x="1764360" y="3067920"/>
              <a:ext cx="1655640" cy="1083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Наредб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за дългосрочнит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нива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показателите з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качество на В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услугит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55326"/>
            <p:cNvSpPr/>
            <p:nvPr/>
          </p:nvSpPr>
          <p:spPr>
            <a:xfrm>
              <a:off x="3564000" y="3067920"/>
              <a:ext cx="1762560" cy="1083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Тарифа за таксите коит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се събират от ДКЕВР п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Закон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за регулиране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водоснабдителните 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канализационн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услуг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55327"/>
            <p:cNvSpPr/>
            <p:nvPr/>
          </p:nvSpPr>
          <p:spPr>
            <a:xfrm>
              <a:off x="5434920" y="3067920"/>
              <a:ext cx="1818000" cy="10832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Наредб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за условията и реда з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регистриране на експер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55328"/>
            <p:cNvSpPr/>
            <p:nvPr/>
          </p:nvSpPr>
          <p:spPr>
            <a:xfrm>
              <a:off x="1764360" y="4581360"/>
              <a:ext cx="1944720" cy="1725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Указания къ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Наредба за дългосрочнит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нива</a:t>
              </a: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, </a:t>
              </a: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условията и ред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за формиране на годишнит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целеви нива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показателите з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качество на В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услугит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55329"/>
            <p:cNvSpPr/>
            <p:nvPr/>
          </p:nvSpPr>
          <p:spPr>
            <a:xfrm>
              <a:off x="7379280" y="3067920"/>
              <a:ext cx="1671480" cy="10832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Наредб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за регулиран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цените на В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услугит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55334"/>
            <p:cNvSpPr/>
            <p:nvPr/>
          </p:nvSpPr>
          <p:spPr>
            <a:xfrm>
              <a:off x="7164360" y="4652280"/>
              <a:ext cx="1870920" cy="16545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Указания на ДКЕВ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за образуване на ценит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за доставяне на вода д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потребителите, отвеждан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и пречистване на отпадъчн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води на ВиК операторит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при ценово регулиране чре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норма на възвращаемост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капитал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0"/>
          <p:cNvSpPr/>
          <p:nvPr/>
        </p:nvSpPr>
        <p:spPr>
          <a:xfrm>
            <a:off x="250920" y="3933720"/>
            <a:ext cx="1439640" cy="12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>
                  <a:alpha val="70196"/>
                </a:srgbClr>
              </a:gs>
            </a:gsLst>
            <a:lin ang="2700000"/>
          </a:gra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Методика</a:t>
            </a:r>
            <a:br>
              <a:rPr sz="1000"/>
            </a:b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за регулиране 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допустимит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загуби на вода въ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водоснабдителнит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системи</a:t>
            </a: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МРРБ</a:t>
            </a:r>
            <a:r>
              <a:rPr b="0" lang="bg-BG" sz="1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900000" y="3645000"/>
            <a:ext cx="863640" cy="288720"/>
          </a:xfrm>
          <a:prstGeom prst="line">
            <a:avLst/>
          </a:prstGeom>
          <a:ln w="19080">
            <a:solidFill>
              <a:srgbClr val="00ccf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6568920"/>
            <a:ext cx="691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1042920" y="-21240"/>
            <a:ext cx="8101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Държавната комис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за енергийно и водно регули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934920" y="981000"/>
            <a:ext cx="82090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bg-BG" sz="1800" spc="-1" strike="noStrike">
                <a:solidFill>
                  <a:srgbClr val="0000cc"/>
                </a:solidFill>
                <a:latin typeface="Arial"/>
              </a:rPr>
              <a:t>съществява дейността си като:</a:t>
            </a: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Arial"/>
              </a:rPr>
              <a:t>Разглежда бизнес планове на ВиК операторите и изготвя доклад-анализи на планираните дейности за определения регулаторен период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Arial"/>
              </a:rPr>
              <a:t>Участва в периодични и извънредни проверки, и регулаторни прегледи, свързани с контрола на достигнатите нива за качество на предоставяните от ВиК операторите услуг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Arial"/>
              </a:rPr>
              <a:t>Разглежда молби и жалби на потребители до ДКЕВР, във връзка с дейността на ВиК операторите и извършва проверки с цел изясняване на поставените проблем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cc"/>
                </a:solidFill>
                <a:latin typeface="Arial"/>
              </a:rPr>
              <a:t>Извършва</a:t>
            </a:r>
            <a:r>
              <a:rPr b="1" lang="de-DE" sz="13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bg-BG" sz="1300" spc="-1" strike="noStrike">
                <a:solidFill>
                  <a:srgbClr val="0000cc"/>
                </a:solidFill>
                <a:latin typeface="Arial"/>
              </a:rPr>
              <a:t>предварителен контрол при подготовката на концесионните и другите видове договори за управление на ВиК системите, изготвя становища за съответствието им с нормативната уредб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cc"/>
                </a:solidFill>
                <a:latin typeface="Arial"/>
              </a:rPr>
              <a:t>Подготвя предложенията за избор на метод на ценово регулиран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cc"/>
                </a:solidFill>
                <a:latin typeface="Arial"/>
              </a:rPr>
              <a:t>Разглежда и анализира предложените за утвърждаване цени от ВиК операторит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cc"/>
                </a:solidFill>
                <a:latin typeface="Arial"/>
              </a:rPr>
              <a:t>Изготвя проекти на актовете на Комисията за утвърждаване на цени, заедно с мотивите към тя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cc"/>
                </a:solidFill>
                <a:latin typeface="Arial"/>
              </a:rPr>
              <a:t>Изготвя на предложения за налагане на принудителни административни мерки и административни наказа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cc"/>
                </a:solidFill>
                <a:latin typeface="Arial"/>
              </a:rPr>
              <a:t>Създава и поддържа база данни за ВиК операторите, свързани с разходите, утвърдените цени и тарифи, постигнатите нива на услуги и др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6568920"/>
            <a:ext cx="691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1042920" y="-720"/>
            <a:ext cx="7704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Проблеми при управление на отрасъл ВиК при съществуващата правна и институционална рам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900000" y="1628640"/>
            <a:ext cx="7848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1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cc"/>
                </a:solidFill>
                <a:latin typeface="Arial"/>
              </a:rPr>
              <a:t>Отказ на някои общини за включване в асоциации по В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желание за отделяне в допълнителни обособени терит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води до раздробяване на системите и предоставяне на ВиК услугите върху малки територии </a:t>
            </a: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cc"/>
                </a:solidFill>
                <a:latin typeface="Arial"/>
              </a:rPr>
              <a:t>Неравнопоставеност на малките спрямо по-големите обособени територии по отношение на качеството на услугите и възможностите за инвестиции:</a:t>
            </a: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Невъзможност за реализиране на „икономия от мащаба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Затруднения при наемане на високо квалифициран персонал за управление  и експлоатация на ВиК инфраструктур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Невъзможност за генериране на достатъчно приходи за осигуряване на модерна техника за експлоатация и превантивна поддръжка, както и за финансиране на реконструкция и модернизация на систем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Натоварване на населението в малките територии с високи  цени за ВиК услуг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6568920"/>
            <a:ext cx="691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1042920" y="188280"/>
            <a:ext cx="7777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Необходимост от рефо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900000" y="1125360"/>
            <a:ext cx="7848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Целта на реформата е гарантиране на</a:t>
            </a: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Подобряване на качеството на ВиК услуг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Предоставяне на ВиК услугите на потребителите на справедлива и  поносима ц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Регламентиране на собствеността на ВиК системите и съоръженията като публична държавна и публична общинска собстве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Създаване на асоциации по ВиК, кои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участват в управлението на  отр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съла в обособените територи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организират планирането на развитието  на инфраструктурата  с регионални генерални планове и дългосрочни инвестиционни прогр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възлагат чрез договори с операторите стопанисването и  експлоатацията на ВиК системите и   съоръженията и предоставянето на услуги на потребител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" y="6568920"/>
            <a:ext cx="691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1042920" y="188280"/>
            <a:ext cx="7777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Принципи на рефор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826920" y="1557360"/>
            <a:ext cx="7848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 algn="just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Провеждане на единна национално-отговорна политика в отрасъ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Поемане на отговорността от държавата и общините за доставяне на вода за питейно-битови нужди до всички потреби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Запазване на съществуващата и доказала своята ефективност регионална форма на планиране и управление на  ВиК-отрасъ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Прилагане на обективни критерии и равнопоставеност при ползване на системите за разпределение на водата между отделните населени ме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Прилагане на принципа на социална солидарност и справедливост при образуване на цената за доставка на питейна вода до  населените ме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 algn="just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1116000" y="-21240"/>
            <a:ext cx="7867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Пречиствателни станции за питейна вода за приоритетно изграж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187280" y="1125360"/>
            <a:ext cx="7777440" cy="53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1116000" y="188280"/>
            <a:ext cx="7867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  <a:ea typeface="Arial"/>
              </a:rPr>
              <a:t>ПСПВ в експлоа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900000" y="1009800"/>
            <a:ext cx="7786800" cy="51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3"/>
          <p:cNvSpPr/>
          <p:nvPr/>
        </p:nvSpPr>
        <p:spPr>
          <a:xfrm>
            <a:off x="1116000" y="188280"/>
            <a:ext cx="7867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Комплексни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и значими язовири в експлоатация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826920" y="765000"/>
            <a:ext cx="8064720" cy="574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Благодаря за вниманиет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116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Република Бълг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Ул. “Св.</a:t>
            </a:r>
            <a:r>
              <a:rPr b="1" lang="de-DE" sz="1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Св. Кирил и Методий” 17-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София 12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16000" y="189000"/>
            <a:ext cx="7812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Република Българ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 регионалното развитие и благоустройството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1763640" y="188280"/>
            <a:ext cx="62643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Нормативна уред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971640" y="1052640"/>
            <a:ext cx="7848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597240" indent="-597240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Рамкова директива за водите  2000/60/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Закон за регулиране на ВиК услуг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cc"/>
                </a:solidFill>
                <a:latin typeface="Arial"/>
              </a:rPr>
              <a:t>Н</a:t>
            </a: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аредба за утвърждаване на методика за определяне на допустимите загуби на вода във водоснабдителните систе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cc"/>
                </a:solidFill>
                <a:latin typeface="Arial"/>
              </a:rPr>
              <a:t>Н</a:t>
            </a: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аредба за регулиране на цените на водоснабдителните и канализационн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cc"/>
                </a:solidFill>
                <a:latin typeface="Arial"/>
              </a:rPr>
              <a:t>Н</a:t>
            </a: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аредба за дългосрочните нива на показателите за качество на  водоснабдителните и канализационн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Закон за устройство на територия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Наредба № 4 за условията и реда за присъединяване на потребителите и ползване на ВиК систем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Наредба № 9 за качествата на водите, предназначени за питейно-битово водоснабдяв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Закон за вод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Правилник за  организацията и дейността на Асоциациите по В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Наредба за изискванията и критериите за ВиК операторите, както и професионалната подготовка и квалификация на техническия им персона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Наредба за условията и реда за създаване и поддържане на  Единна информационна система за ВиК услугите и на Регистъра на асоциациите по ВиК и на ВиК оператори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Типов договор за възлагането, поддържането и експлоатацията на ВиК системите и съоръженията между асоциациите по ВиК или общинските съвети и ВиК оператор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Закон за концеси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Закон за държавната собствен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Закон за общинската собствен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1276200" y="188280"/>
            <a:ext cx="7867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Състояние на водоснабдяването и канализаци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2920" y="2565360"/>
            <a:ext cx="7867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Водоснабдяв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Канализационни системи и пречистване на отпадъчните води на населените ме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6568920"/>
            <a:ext cx="691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763640" y="188280"/>
            <a:ext cx="62643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Водоснабдяв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971640" y="1052640"/>
            <a:ext cx="7848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Изграденост на водоснабдителните систе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брой на водоснабдените населени места – 5 031 б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процент на населението, живеещо във водоснабдени населени места – 98,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Водопроводна мрежа е с обща дължина 74 400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Изградени са 49бр. ПСПВ; В строителство са 7 бр. ПСП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Изградени са 3 600 бр. помпени станции, 6 087 бр. водоеми и голям брой други съоръ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От изградените комплексни и значими язовири  12 бр. са с питейно-битово предназначение, с общ</a:t>
            </a: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наличен  полезен обем  1004,248 млн. м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³</a:t>
            </a: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 към месец януари 201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40 % от питейната вода е от повърхностни водоизточници и 60 % от подземни ресурс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България има недостатъчност на ресурси от питейна в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568920"/>
            <a:ext cx="691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042920" y="-21240"/>
            <a:ext cx="8101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Канализационни системи и пречистване на отпадъчните води на населените м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684360" y="836640"/>
            <a:ext cx="813564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Изградена канализационна мрежа и външни колектори – 9 570 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Делът на канализираните градове е 67 %, а на селата – 3,2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В експлоатация са 89 бр.ПСПВ, от тях 32 бр. отговарят на изискванията</a:t>
            </a: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123 агломерации с над 10 000 жители приоритетно трябва да бъдат обезпечени с пречиствателни станции за отпадъчни води, от тях са построени 58, от които: </a:t>
            </a: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14 бр. отговарят на изискванията на Директива 91/271/Е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44</a:t>
            </a:r>
            <a:r>
              <a:rPr b="0" lang="de-DE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бр. ПСОВ  се нуждаят от частична реконструкция и тя се изпълнява за 10 бр. от 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411 агломерации от 2 000 до 10 000 жители е необходимо да бъдат обезпечени с пречиствателни станции за отпадъчни води, от  тях са  изградени за 31 населени места. За останалите 380 агломерации изграждането предстои</a:t>
            </a: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В настоящия момент в процес на изграждане и реконструкция са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3 бр. пречиствателни станции за отпадъчни води</a:t>
            </a: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cc"/>
                </a:solidFill>
                <a:latin typeface="Arial"/>
              </a:rPr>
              <a:t>Предвидените средства от Европейските фондове за водния сектор частично покриват строителството на някои от П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1763640" y="83880"/>
            <a:ext cx="6264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Управление на ВиК систем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съгласно Закона за вод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55640" y="1268280"/>
            <a:ext cx="8208360" cy="4747680"/>
            <a:chOff x="755640" y="1268280"/>
            <a:chExt cx="8208360" cy="4747680"/>
          </a:xfrm>
        </p:grpSpPr>
        <p:cxnSp>
          <p:nvCxnSpPr>
            <p:cNvPr id="93" name="_s53262"/>
            <p:cNvCxnSpPr>
              <a:stCxn id="94" idx="1"/>
              <a:endCxn id="95" idx="2"/>
            </p:cNvCxnSpPr>
            <p:nvPr/>
          </p:nvCxnSpPr>
          <p:spPr>
            <a:xfrm flipH="1" rot="10800000">
              <a:off x="3310200" y="2126880"/>
              <a:ext cx="1585440" cy="814680"/>
            </a:xfrm>
            <a:prstGeom prst="bentConnector4">
              <a:avLst>
                <a:gd name="adj1" fmla="val -7199"/>
                <a:gd name="adj2" fmla="val 76392"/>
              </a:avLst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96" name="_s53263"/>
            <p:cNvCxnSpPr>
              <a:stCxn id="97" idx="0"/>
              <a:endCxn id="98" idx="2"/>
            </p:cNvCxnSpPr>
            <p:nvPr/>
          </p:nvCxnSpPr>
          <p:spPr>
            <a:xfrm flipV="1">
              <a:off x="7666920" y="4726080"/>
              <a:ext cx="3240" cy="430200"/>
            </a:xfrm>
            <a:prstGeom prst="bentConnector2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99" name="_s53264"/>
            <p:cNvCxnSpPr>
              <a:stCxn id="100" idx="0"/>
              <a:endCxn id="101" idx="2"/>
            </p:cNvCxnSpPr>
            <p:nvPr/>
          </p:nvCxnSpPr>
          <p:spPr>
            <a:xfrm flipV="1">
              <a:off x="2052000" y="4726080"/>
              <a:ext cx="3960" cy="430200"/>
            </a:xfrm>
            <a:prstGeom prst="bentConnector2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102" name="_s53265"/>
            <p:cNvCxnSpPr>
              <a:stCxn id="103" idx="0"/>
              <a:endCxn id="104" idx="2"/>
            </p:cNvCxnSpPr>
            <p:nvPr/>
          </p:nvCxnSpPr>
          <p:spPr>
            <a:xfrm flipH="1" flipV="1" rot="5400000">
              <a:off x="4643640" y="4937040"/>
              <a:ext cx="435600" cy="3240"/>
            </a:xfrm>
            <a:prstGeom prst="bentConnector3">
              <a:avLst>
                <a:gd name="adj1" fmla="val 26137"/>
              </a:avLst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105" name="_s53266"/>
            <p:cNvCxnSpPr>
              <a:stCxn id="98" idx="0"/>
              <a:endCxn id="95" idx="2"/>
            </p:cNvCxnSpPr>
            <p:nvPr/>
          </p:nvCxnSpPr>
          <p:spPr>
            <a:xfrm flipV="1" rot="16200000">
              <a:off x="5411160" y="1610640"/>
              <a:ext cx="1739880" cy="2772000"/>
            </a:xfrm>
            <a:prstGeom prst="bentConnector3">
              <a:avLst>
                <a:gd name="adj1" fmla="val 7098"/>
              </a:avLst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106" name="_s53267"/>
            <p:cNvCxnSpPr>
              <a:stCxn id="104" idx="0"/>
              <a:endCxn id="95" idx="2"/>
            </p:cNvCxnSpPr>
            <p:nvPr/>
          </p:nvCxnSpPr>
          <p:spPr>
            <a:xfrm flipH="1" flipV="1" rot="5400000">
              <a:off x="4013640" y="2976120"/>
              <a:ext cx="1731240" cy="32760"/>
            </a:xfrm>
            <a:prstGeom prst="bentConnector3">
              <a:avLst>
                <a:gd name="adj1" fmla="val 6593"/>
              </a:avLst>
            </a:prstGeom>
            <a:ln w="28440">
              <a:solidFill>
                <a:srgbClr val="0000ff"/>
              </a:solidFill>
              <a:miter/>
            </a:ln>
          </p:spPr>
        </p:cxnSp>
        <p:cxnSp>
          <p:nvCxnSpPr>
            <p:cNvPr id="107" name="_s53268"/>
            <p:cNvCxnSpPr/>
            <p:nvPr/>
          </p:nvCxnSpPr>
          <p:spPr>
            <a:xfrm flipH="1" flipV="1" rot="5400000">
              <a:off x="2599560" y="1579680"/>
              <a:ext cx="1743480" cy="2843640"/>
            </a:xfrm>
            <a:prstGeom prst="bentConnector3">
              <a:avLst>
                <a:gd name="adj1" fmla="val 7104"/>
              </a:avLst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95" name="_s53269"/>
            <p:cNvSpPr/>
            <p:nvPr/>
          </p:nvSpPr>
          <p:spPr>
            <a:xfrm>
              <a:off x="3310560" y="1268280"/>
              <a:ext cx="3170520" cy="859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МИНИСТЕРС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СЪВ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53270"/>
            <p:cNvSpPr/>
            <p:nvPr/>
          </p:nvSpPr>
          <p:spPr>
            <a:xfrm>
              <a:off x="755640" y="3867120"/>
              <a:ext cx="2593800" cy="859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АСОЦИАЦИЯ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ПО  В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53271"/>
            <p:cNvSpPr/>
            <p:nvPr/>
          </p:nvSpPr>
          <p:spPr>
            <a:xfrm>
              <a:off x="3563280" y="3858480"/>
              <a:ext cx="2596680" cy="862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АСОЦИАЦИЯ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ПО  В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53272"/>
            <p:cNvSpPr/>
            <p:nvPr/>
          </p:nvSpPr>
          <p:spPr>
            <a:xfrm>
              <a:off x="6370200" y="3867120"/>
              <a:ext cx="2593800" cy="859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ОБЩИНСКИ СЪВЕ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НА  ОБЩИНИТ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53273"/>
            <p:cNvSpPr/>
            <p:nvPr/>
          </p:nvSpPr>
          <p:spPr>
            <a:xfrm>
              <a:off x="3563280" y="5156640"/>
              <a:ext cx="2596680" cy="856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ОБОСОБЕНИ ТЕРИТОРИ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С ВиК ОПЕРАТОР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С ДЪРЖАВНО-ОБЩИНСК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УЧАСТ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53274"/>
            <p:cNvSpPr/>
            <p:nvPr/>
          </p:nvSpPr>
          <p:spPr>
            <a:xfrm>
              <a:off x="755640" y="5156640"/>
              <a:ext cx="2593800" cy="856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ОБОСОБЕНИ ТЕРИТОР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С ВиК ОПЕРАТОР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С ДЪРЖАВНО УЧАСТ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53275"/>
            <p:cNvSpPr/>
            <p:nvPr/>
          </p:nvSpPr>
          <p:spPr>
            <a:xfrm>
              <a:off x="6370200" y="5156640"/>
              <a:ext cx="2593800" cy="859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ОБОСОБЕНИ ТЕРИТОРИ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С ВиК ОПЕРАТОР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С ОБЩИНСКО УЧАСТ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53276"/>
            <p:cNvSpPr/>
            <p:nvPr/>
          </p:nvSpPr>
          <p:spPr>
            <a:xfrm>
              <a:off x="3310560" y="2512080"/>
              <a:ext cx="3170520" cy="859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3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МИНИСТЪР НА РЕГИОНАЛНОТ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РАЗВИТИЕ И БЛАГОУСТРОЙСТВОТ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ОБЩИНСКИТЕ СЪВЕТИ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КМЕТОВЕТЕ НА ОБЩИНИТ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6568920"/>
            <a:ext cx="691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1116000" y="-21240"/>
            <a:ext cx="8028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Функциониращи ВиК оператори на територия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на Република Българ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900000" y="1628640"/>
            <a:ext cx="784872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1015920" indent="-342720">
              <a:lnSpc>
                <a:spcPct val="105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63 ВОДНИ КОМПАНИИ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125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4 броя със 100 % държавно уча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125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5 броя  с 51 % държавно участие и 49 % общинско уча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125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22 броя със 100 % общинско уча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125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 брой отдадено на концесия – “Софийска вода” 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125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1 броя  частни водни компании, обслужващи обекти частна собстве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1116000" y="-92520"/>
            <a:ext cx="78678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cc"/>
                </a:solidFill>
                <a:latin typeface="Arial"/>
              </a:rPr>
              <a:t>Институционално устройство и съществуващи форми на управление във водоснабдяването и канализация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cc"/>
                </a:solidFill>
                <a:latin typeface="Arial"/>
              </a:rPr>
              <a:t>в Република Бълг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4000" y="1197000"/>
          <a:ext cx="8820000" cy="5186160"/>
        </p:xfrm>
        <a:graphic>
          <a:graphicData uri="http://schemas.openxmlformats.org/drawingml/2006/table">
            <a:tbl>
              <a:tblPr/>
              <a:tblGrid>
                <a:gridCol w="1796760"/>
                <a:gridCol w="2419560"/>
                <a:gridCol w="2400120"/>
                <a:gridCol w="220356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Форма на управ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00% държа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Смесена:  51%държа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bg-BG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9%общинс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00% общинс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 БЛАГОЕВГРА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. БУРГ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. ВИД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. ДОБРИ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5. ПАЗАРДЖИ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. ПЛЕВЕ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7. ПЛОВДИ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8. РАЗГРА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9. СМОЛЯ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0.СОФИЯ-ОБЛА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1.СТАРА ЗАГО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2.ХАСКО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3.ЯМБО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4.КЮСТЕНДИ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 ВАР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. ВРА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. ГАБРО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. ДИМИТРОВГРА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5. ИСПЕР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. КЪРДЖА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7. ЛОВЕ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8. МОНТА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9. ПЕРНИ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0.РУС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1.СИЛИСТ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2.СЛИВЕ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3.ТЪРГОВИЩ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4.ШУМЕ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5.ВЕЛИКО ТЪРНО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 БАТ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. БЕЛО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. БЕРКОВ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. БОТЕВГРА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5. БРАЦИГО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. ВЕЛИНГРА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7. ДУПН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8. КРЕС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9. КУБРА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0.ПАНАГЮРИЩ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1.ПЕТРИ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2.ПЕЩЕ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3.РАКИТО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4.САНДАНС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5.СВИЩ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6.СЕВЛИЕ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7.СОФИЯ ГРАД</a:t>
                      </a:r>
                      <a:r>
                        <a:rPr b="1" lang="de-DE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-K</a:t>
                      </a: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ОНЦЕС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8.СТРЕЛЧ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9.ТРОЯН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0.С.МИКРЕ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1.СТАМБОЛО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2.САПАРЕВА БАН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3.КНЕЖ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324000" y="6567480"/>
            <a:ext cx="88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0000cc"/>
                </a:solidFill>
                <a:latin typeface="Arial"/>
              </a:rPr>
              <a:t>11 броя частни ВиК оператори, обслужващи обекти частна собстве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1116000" y="-21240"/>
            <a:ext cx="7867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Регулиране на водоснабдителните и канализационните услуги в България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Organization Chart 3"/>
          <p:cNvGrpSpPr/>
          <p:nvPr/>
        </p:nvGrpSpPr>
        <p:grpSpPr>
          <a:xfrm>
            <a:off x="468720" y="1267920"/>
            <a:ext cx="8495280" cy="4751640"/>
            <a:chOff x="468720" y="1267920"/>
            <a:chExt cx="8495280" cy="4751640"/>
          </a:xfrm>
        </p:grpSpPr>
        <p:cxnSp>
          <p:nvCxnSpPr>
            <p:cNvPr id="133" name="_s7178"/>
            <p:cNvCxnSpPr>
              <a:stCxn id="134" idx="0"/>
              <a:endCxn id="135" idx="2"/>
            </p:cNvCxnSpPr>
            <p:nvPr/>
          </p:nvCxnSpPr>
          <p:spPr>
            <a:xfrm flipV="1" rot="16200000">
              <a:off x="4280400" y="2058120"/>
              <a:ext cx="578520" cy="3960"/>
            </a:xfrm>
            <a:prstGeom prst="bentConnector3">
              <a:avLst>
                <a:gd name="adj1" fmla="val 1973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36" name="_s7179"/>
            <p:cNvCxnSpPr/>
            <p:nvPr/>
          </p:nvCxnSpPr>
          <p:spPr>
            <a:xfrm flipV="1" rot="16200000">
              <a:off x="5221080" y="617760"/>
              <a:ext cx="2234160" cy="3533760"/>
            </a:xfrm>
            <a:prstGeom prst="bentConnector3">
              <a:avLst>
                <a:gd name="adj1" fmla="val 510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37" name="_s7180"/>
            <p:cNvCxnSpPr/>
            <p:nvPr/>
          </p:nvCxnSpPr>
          <p:spPr>
            <a:xfrm flipV="1" rot="16200000">
              <a:off x="4178880" y="1659960"/>
              <a:ext cx="2234160" cy="1449360"/>
            </a:xfrm>
            <a:prstGeom prst="bentConnector3">
              <a:avLst>
                <a:gd name="adj1" fmla="val 510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38" name="_s7182"/>
            <p:cNvCxnSpPr/>
            <p:nvPr/>
          </p:nvCxnSpPr>
          <p:spPr>
            <a:xfrm flipH="1" flipV="1" rot="5400000">
              <a:off x="3038400" y="1936440"/>
              <a:ext cx="2234160" cy="896760"/>
            </a:xfrm>
            <a:prstGeom prst="bentConnector3">
              <a:avLst>
                <a:gd name="adj1" fmla="val 510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39" name="_s7183"/>
            <p:cNvCxnSpPr/>
            <p:nvPr/>
          </p:nvCxnSpPr>
          <p:spPr>
            <a:xfrm flipH="1" flipV="1" rot="5400000">
              <a:off x="1850040" y="748080"/>
              <a:ext cx="2234160" cy="3273480"/>
            </a:xfrm>
            <a:prstGeom prst="bentConnector3">
              <a:avLst>
                <a:gd name="adj1" fmla="val 5108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35" name="_s7184"/>
            <p:cNvSpPr/>
            <p:nvPr/>
          </p:nvSpPr>
          <p:spPr>
            <a:xfrm>
              <a:off x="3058920" y="1268280"/>
              <a:ext cx="3018960" cy="503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МИНИСТЕРСКИ СЪВ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7185"/>
            <p:cNvSpPr/>
            <p:nvPr/>
          </p:nvSpPr>
          <p:spPr>
            <a:xfrm>
              <a:off x="468720" y="3500280"/>
              <a:ext cx="1655280" cy="1584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14 БРО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ЕО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ДЪРЖАВН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СОБСТВЕНОС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МРР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7186"/>
            <p:cNvSpPr/>
            <p:nvPr/>
          </p:nvSpPr>
          <p:spPr>
            <a:xfrm>
              <a:off x="2701080" y="3500280"/>
              <a:ext cx="1943280" cy="1584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15 БРО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О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51% - ДЪРЖАВН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СОБСТВЕНОС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МРР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49% - ОБЩИНС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СОБСТВЕНОС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7188"/>
            <p:cNvSpPr/>
            <p:nvPr/>
          </p:nvSpPr>
          <p:spPr>
            <a:xfrm>
              <a:off x="5076000" y="3500280"/>
              <a:ext cx="1739520" cy="1584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23 БРО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ЕО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ОБЩИНС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СОБСТВЕНОС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7189"/>
            <p:cNvSpPr/>
            <p:nvPr/>
          </p:nvSpPr>
          <p:spPr>
            <a:xfrm>
              <a:off x="7236000" y="3500280"/>
              <a:ext cx="1728000" cy="25192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4000" rIns="0" tIns="118800" bIns="11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cc"/>
                  </a:solidFill>
                  <a:latin typeface="Arial"/>
                </a:rPr>
                <a:t>ЧЛ. 2, АЛ. 3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cc"/>
                  </a:solidFill>
                  <a:latin typeface="Arial"/>
                </a:rPr>
                <a:t>ОТ ЗРВ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НАПОИТЕЛН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  </a:t>
              </a: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СИСТЕМ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ЯЗОВИРИ И КАСКАД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ПРОМИШЛЕН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ПРЕДПРИЯТ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ЕДНОЛИЧНИ ТЪРГОВЦ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ВОДОСНАБДИТЕЛН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  </a:t>
              </a: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КООПЕРАЦ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  </a:t>
              </a: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(НАД 1</a:t>
              </a: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0</a:t>
              </a: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0 БРОЯ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7190"/>
            <p:cNvSpPr/>
            <p:nvPr/>
          </p:nvSpPr>
          <p:spPr>
            <a:xfrm>
              <a:off x="1258560" y="2349360"/>
              <a:ext cx="6626520" cy="5047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ДЪРЖАВНА КОМИСИЯ ЗА ЕНЕРГИИНО И ВОДНО РЕГУЛИРАН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1:44:08Z</dcterms:created>
  <dc:creator>PetkovI</dc:creator>
  <dc:description/>
  <dc:language>en-US</dc:language>
  <cp:lastModifiedBy>PetkovI</cp:lastModifiedBy>
  <dcterms:modified xsi:type="dcterms:W3CDTF">2011-04-08T10:52:13Z</dcterms:modified>
  <cp:revision>94</cp:revision>
  <dc:subject/>
  <dc:title>Slide 1</dc:title>
</cp:coreProperties>
</file>