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4CF-F91A-423C-81DE-723F9D6A4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7588-36DC-40E7-A555-3629C532F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624-D6D8-4305-814B-A3BED3757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C85A-49C6-4DCB-B866-2E7BDDDA9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F08D-7B84-441F-A713-71B1CDF5A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D30C-AD14-4A23-999E-3A3ACDBC3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8C5-FB85-4DE1-9A07-49D7821BE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3B91-5E35-4FC7-8B15-11A7E1CB2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BED-8A98-40FF-897D-6AAEED3612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138-1E74-40CD-8EFF-87B699510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BC3-671E-4098-BA3D-35F2812C4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775E-F4D5-4634-A7AE-186FF99DC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F72-6EE5-46B3-A947-6021F2A2A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74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48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964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74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48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99640" y="941040"/>
            <a:ext cx="741708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074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48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9964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074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48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9640" y="941040"/>
            <a:ext cx="741708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468360" y="468360"/>
            <a:ext cx="8200800" cy="5921280"/>
          </a:xfrm>
          <a:prstGeom prst="rect">
            <a:avLst/>
          </a:prstGeom>
          <a:noFill/>
          <a:ln cap="sq" w="12600">
            <a:solidFill>
              <a:srgbClr val="e0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23"/>
          <p:cNvSpPr/>
          <p:nvPr/>
        </p:nvSpPr>
        <p:spPr>
          <a:xfrm>
            <a:off x="403200" y="115920"/>
            <a:ext cx="632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BAIS Conference 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201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4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8434440" y="6137280"/>
            <a:ext cx="234720" cy="25236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20"/>
          <p:cNvSpPr/>
          <p:nvPr/>
        </p:nvSpPr>
        <p:spPr>
          <a:xfrm>
            <a:off x="8275680" y="6130800"/>
            <a:ext cx="54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D6AF-4D62-4952-8172-96202F17FE5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RW_tagline_red.png"/>
          <p:cNvPicPr/>
          <p:nvPr/>
        </p:nvPicPr>
        <p:blipFill>
          <a:blip r:embed="rId9"/>
          <a:stretch/>
        </p:blipFill>
        <p:spPr>
          <a:xfrm>
            <a:off x="7077240" y="6570720"/>
            <a:ext cx="1596960" cy="100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10"/>
          <a:stretch/>
        </p:blipFill>
        <p:spPr>
          <a:xfrm>
            <a:off x="466560" y="6497640"/>
            <a:ext cx="1530360" cy="28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9640" y="1671480"/>
            <a:ext cx="741708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409680" y="115920"/>
            <a:ext cx="632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BAIS Conference 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201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4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68360" y="468360"/>
            <a:ext cx="8200800" cy="59212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8434440" y="6137280"/>
            <a:ext cx="234720" cy="25236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0"/>
          <p:cNvSpPr/>
          <p:nvPr/>
        </p:nvSpPr>
        <p:spPr>
          <a:xfrm>
            <a:off x="8275680" y="6130800"/>
            <a:ext cx="54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73F0-C598-4442-A009-1E5EED1A060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RW_tagline_red.png"/>
          <p:cNvPicPr/>
          <p:nvPr/>
        </p:nvPicPr>
        <p:blipFill>
          <a:blip r:embed="rId9"/>
          <a:stretch/>
        </p:blipFill>
        <p:spPr>
          <a:xfrm>
            <a:off x="7077240" y="6570720"/>
            <a:ext cx="1596960" cy="10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10"/>
          <a:stretch/>
        </p:blipFill>
        <p:spPr>
          <a:xfrm>
            <a:off x="466560" y="6497640"/>
            <a:ext cx="1530360" cy="28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3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urim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C:\Documents and Settings\emg\Desktop\Fire in Pankowstrasse, Berlin, Germany.jpg"/>
          <p:cNvPicPr/>
          <p:nvPr/>
        </p:nvPicPr>
        <p:blipFill>
          <a:blip r:embed="rId1"/>
          <a:srcRect l="-5185" t="16412" r="0" b="32629"/>
          <a:stretch/>
        </p:blipFill>
        <p:spPr>
          <a:xfrm>
            <a:off x="0" y="163440"/>
            <a:ext cx="8675640" cy="6407280"/>
          </a:xfrm>
          <a:prstGeom prst="rect">
            <a:avLst/>
          </a:prstGeom>
          <a:ln w="0">
            <a:noFill/>
          </a:ln>
        </p:spPr>
      </p:pic>
      <p:sp>
        <p:nvSpPr>
          <p:cNvPr id="96" name="Frame 2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69800 w 9144000"/>
              <a:gd name="textAreaRight" fmla="*/ 8674200 w 9144000"/>
              <a:gd name="textAreaTop" fmla="*/ 469800 h 6858000"/>
              <a:gd name="textAreaBottom" fmla="*/ 63882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69979" y="469979"/>
                </a:moveTo>
                <a:lnTo>
                  <a:pt x="469979" y="6388021"/>
                </a:lnTo>
                <a:lnTo>
                  <a:pt x="8674021" y="6388021"/>
                </a:lnTo>
                <a:lnTo>
                  <a:pt x="8674021" y="469979"/>
                </a:lnTo>
                <a:close/>
              </a:path>
            </a:pathLst>
          </a:cu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4832280" y="2637000"/>
            <a:ext cx="4311720" cy="300168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1"/>
          <p:cNvSpPr/>
          <p:nvPr/>
        </p:nvSpPr>
        <p:spPr>
          <a:xfrm>
            <a:off x="5076720" y="2781360"/>
            <a:ext cx="3440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su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mpo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2"/>
          <p:cNvSpPr/>
          <p:nvPr/>
        </p:nvSpPr>
        <p:spPr>
          <a:xfrm>
            <a:off x="5580000" y="5345280"/>
            <a:ext cx="3456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Emilian Grigore, </a:t>
            </a:r>
            <a:r>
              <a:rPr b="0" lang="sk-SK" sz="900" spc="-1" strike="noStrike">
                <a:solidFill>
                  <a:srgbClr val="ffffff"/>
                </a:solidFill>
                <a:latin typeface="Arial"/>
              </a:rPr>
              <a:t>ROCKWOO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RW_tagline_white.png"/>
          <p:cNvPicPr/>
          <p:nvPr/>
        </p:nvPicPr>
        <p:blipFill>
          <a:blip r:embed="rId2"/>
          <a:stretch/>
        </p:blipFill>
        <p:spPr>
          <a:xfrm>
            <a:off x="7077240" y="6570720"/>
            <a:ext cx="1598400" cy="10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3"/>
          <a:stretch/>
        </p:blipFill>
        <p:spPr>
          <a:xfrm>
            <a:off x="468360" y="6500880"/>
            <a:ext cx="1528560" cy="280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1"/>
          <p:cNvSpPr/>
          <p:nvPr/>
        </p:nvSpPr>
        <p:spPr>
          <a:xfrm>
            <a:off x="4932360" y="2763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easons to be serious about fir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Renovation: a growing concern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ombustible material during renovation: a source of fire ha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nfinished buildings do not comply with Building Cod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hanghai fire 2010: hopefully the last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x462-7.jpg"/>
          <p:cNvPicPr/>
          <p:nvPr/>
        </p:nvPicPr>
        <p:blipFill>
          <a:blip r:embed="rId1"/>
          <a:stretch/>
        </p:blipFill>
        <p:spPr>
          <a:xfrm>
            <a:off x="4859280" y="0"/>
            <a:ext cx="3119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60872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Fires do happen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87280" y="1413000"/>
            <a:ext cx="2376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ijon, Franc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skolc, Hung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acade Fire in Dijon.bmp"/>
          <p:cNvPicPr/>
          <p:nvPr/>
        </p:nvPicPr>
        <p:blipFill>
          <a:blip r:embed="rId11"/>
          <a:srcRect l="130" t="17740" r="0" b="4031"/>
          <a:stretch/>
        </p:blipFill>
        <p:spPr>
          <a:xfrm>
            <a:off x="5580000" y="0"/>
            <a:ext cx="2589120" cy="246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156_DSCF6728_n"/>
          <p:cNvPicPr/>
          <p:nvPr/>
        </p:nvPicPr>
        <p:blipFill>
          <a:blip r:embed="rId12"/>
          <a:srcRect l="-260" t="0" r="130" b="20598"/>
          <a:stretch/>
        </p:blipFill>
        <p:spPr>
          <a:xfrm>
            <a:off x="5573880" y="4437000"/>
            <a:ext cx="2595240" cy="197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13"/>
          <a:srcRect l="0" t="0" r="0" b="-13604"/>
          <a:stretch/>
        </p:blipFill>
        <p:spPr>
          <a:xfrm>
            <a:off x="5573880" y="2708280"/>
            <a:ext cx="2595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1" descr=""/>
          <p:cNvPicPr/>
          <p:nvPr/>
        </p:nvPicPr>
        <p:blipFill>
          <a:blip r:embed="rId1"/>
          <a:stretch/>
        </p:blipFill>
        <p:spPr>
          <a:xfrm>
            <a:off x="5981760" y="3935520"/>
            <a:ext cx="2190600" cy="2301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60872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Fires happen when something goes wrong..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Do we apply safety measures against known risks?</a:t>
            </a:r>
            <a:br>
              <a:rPr sz="2400"/>
            </a:b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pic>
        <p:nvPicPr>
          <p:cNvPr id="191" name="Content Placeholder 9" descr="Hromada izolaci all"/>
          <p:cNvPicPr/>
          <p:nvPr/>
        </p:nvPicPr>
        <p:blipFill>
          <a:blip r:embed="rId2"/>
          <a:srcRect l="1343" t="8532" r="0" b="0"/>
          <a:stretch/>
        </p:blipFill>
        <p:spPr>
          <a:xfrm>
            <a:off x="5765760" y="558720"/>
            <a:ext cx="2448000" cy="2019240"/>
          </a:xfrm>
          <a:prstGeom prst="rect">
            <a:avLst/>
          </a:prstGeom>
          <a:ln w="0">
            <a:noFill/>
          </a:ln>
        </p:spPr>
      </p:pic>
      <p:pic>
        <p:nvPicPr>
          <p:cNvPr id="192" name="Content Placeholder 10" descr="symbol A1"/>
          <p:cNvPicPr/>
          <p:nvPr/>
        </p:nvPicPr>
        <p:blipFill>
          <a:blip r:embed="rId3"/>
          <a:stretch/>
        </p:blipFill>
        <p:spPr>
          <a:xfrm>
            <a:off x="6084720" y="2421000"/>
            <a:ext cx="1473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y care about fire safety of ETICS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he amount of combustibles applied to external walls is growing: both in m</a:t>
            </a:r>
            <a:r>
              <a:rPr b="0" lang="sk-SK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and thic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echnologies develop: renders became thin and orga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uring renovation, fire safety is a special conc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y care about fire safety of ETICS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clared fire safety is achieved only if the building practice assures the perfect quality of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20 years of mass application is the time to look at fir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s still not agreed how ETIC systems increase fire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x462-3.jpg"/>
          <p:cNvPicPr/>
          <p:nvPr/>
        </p:nvPicPr>
        <p:blipFill>
          <a:blip r:embed="rId1"/>
          <a:stretch/>
        </p:blipFill>
        <p:spPr>
          <a:xfrm>
            <a:off x="4835520" y="0"/>
            <a:ext cx="334152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ich applications are critical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ublic buildings of social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Homes for the elderly &amp; the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edical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Schools and kindergar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835520" y="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ich applications are critical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High-rise buil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ultiple risks of fire spread, sever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imited means of escape – often only one escape rou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imited means of fire fighting – only from th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Facade Fire in Dijon.bmp"/>
          <p:cNvPicPr/>
          <p:nvPr/>
        </p:nvPicPr>
        <p:blipFill>
          <a:blip r:embed="rId1"/>
          <a:srcRect l="712" t="0" r="0" b="0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es Europe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ber states decide what level of fire safety to apply, and 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class is no more than a very minim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net against small f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-scale test for ETICS starte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developed in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oke: toxicity is not part of existing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OBR_4_DSCF6218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 Member States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egulations governing fire safety of ETICS di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roclass is not accepted as the sole criterion in many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s a result, one ETICS is safe in one member state but not in anoth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 Member States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Large-scale national tests are plenty and on the increa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gh-rise &amp; social public buildings often have a higher level of fire safety – non combustible structure is a must in many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15" descr="Test at BRE 170610 067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ntent Placeholder 2" descr=""/>
          <p:cNvPicPr/>
          <p:nvPr/>
        </p:nvPicPr>
        <p:blipFill>
          <a:blip r:embed="rId1"/>
          <a:srcRect l="9800" t="456" r="23046" b="377"/>
          <a:stretch/>
        </p:blipFill>
        <p:spPr>
          <a:xfrm>
            <a:off x="4835520" y="0"/>
            <a:ext cx="3341520" cy="5383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Fire barriers: a solution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88840" y="155232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o pass local fire tests, some Member States require non-combustible barriers within combustible ETICS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ir safety effect depends on man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sen fire scenario: size, duration, win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of all components, including re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RIMA report: </a:t>
            </a:r>
            <a:r>
              <a:rPr b="0" lang="sk-SK" sz="1400" spc="-1" strike="noStrike" u="sng">
                <a:solidFill>
                  <a:srgbClr val="003d47"/>
                </a:solidFill>
                <a:uFillTx/>
                <a:latin typeface="Arial"/>
                <a:hlinkClick r:id="rId2"/>
              </a:rPr>
              <a:t>www.eurima.org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ect installation quality in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SzPct val="1541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8:52:07Z</dcterms:created>
  <dc:creator>Emilian Grigore (RW-TUR/G)</dc:creator>
  <dc:description/>
  <dc:language>en-US</dc:language>
  <cp:lastModifiedBy>Utilizator</cp:lastModifiedBy>
  <dcterms:modified xsi:type="dcterms:W3CDTF">2014-10-07T19:51:29Z</dcterms:modified>
  <cp:revision>12</cp:revision>
  <dc:subject/>
  <dc:title>PowerPoint Presentation</dc:title>
</cp:coreProperties>
</file>