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2CD5-6344-499E-9652-19E1B826FF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EA91-2D1E-4A43-99B6-A52F123435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408-0B28-4C90-AF99-5382115A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4AD-0173-4E1A-B3A1-C6802477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270-F4D8-40EF-9805-0E4EB047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F30-047B-45DB-AD75-F07CBE89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528-6719-4483-956D-A147804B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8EA-A8E4-4677-A101-ECD22653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E1B-4AFF-4CD7-9F7C-0F276A76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47E-B8A6-4811-A315-D459F07F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82F-F36E-4945-AA7D-572F366E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76D-7651-41A8-874F-FD756B70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402-4C30-42C0-B21E-E676D103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265-03CA-4517-B4EB-B0BB99F7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0A52-186A-47EC-A8D6-A146510762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5126040" y="2370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1096920"/>
            <a:ext cx="9142560" cy="100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4654440" y="4722840"/>
            <a:ext cx="432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Здравко Георги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офийска енергийна агенция - СОФ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2500200" y="1214280"/>
            <a:ext cx="6642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8000"/>
                </a:solidFill>
                <a:latin typeface="Arial"/>
              </a:rPr>
              <a:t>План за действие за устойчиво енергийно развитие на Со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1571760" y="350028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8000"/>
                </a:solidFill>
                <a:latin typeface="Arial"/>
              </a:rPr>
              <a:t>„</a:t>
            </a:r>
            <a:r>
              <a:rPr b="1" lang="bg-BG" sz="1800" spc="-1" strike="noStrike">
                <a:solidFill>
                  <a:srgbClr val="008000"/>
                </a:solidFill>
                <a:latin typeface="Arial"/>
              </a:rPr>
              <a:t>София 2020 – зелената и интелигентна столица на България – модел за устойчив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7304040" y="6226200"/>
            <a:ext cx="18385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 – Улично освет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601560" y="6922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ично освет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дернизация на съществуващата система за улично осветление във всички райони на гр. София; Оптимално управление с регулиране на осветеността; Енергоефективно парково осветление и осветление на паметници; Енергоефективна пътна сигнализац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6600" y="2349360"/>
          <a:ext cx="7929360" cy="4059360"/>
        </p:xfrm>
        <a:graphic>
          <a:graphicData uri="http://schemas.openxmlformats.org/drawingml/2006/table">
            <a:tbl>
              <a:tblPr/>
              <a:tblGrid>
                <a:gridCol w="1228680"/>
                <a:gridCol w="1290600"/>
                <a:gridCol w="2289240"/>
                <a:gridCol w="1617480"/>
                <a:gridCol w="1503360"/>
              </a:tblGrid>
              <a:tr h="23544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разходите,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Е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енерго-спестяван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&gt;50%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производство на енергия от възобновяеми източници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намаляването на емисиите на СО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о мерк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[t/год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430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5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2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1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 – Транспорт и моб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606600" y="620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 и мобилнос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ъвеждане на интелигентна система за контрол и управление на трафика; Доставка и въвеждане в експлоатация на нови модерни превозни средства. Оптимизация и рехабилитация на съществуващата транспортната мрежа и намаляване на закъсненията и задръстванията на движението.  Поетапна схема за израждане на велосипедни алеи (117.7 км)  Въвеждане в експлоатация на предвидените продължения на линиите на Метрополитен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ишаване привлекателността на обществения транспор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лектромобилн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82640" y="3068640"/>
          <a:ext cx="7929720" cy="3494160"/>
        </p:xfrm>
        <a:graphic>
          <a:graphicData uri="http://schemas.openxmlformats.org/drawingml/2006/table">
            <a:tbl>
              <a:tblPr/>
              <a:tblGrid>
                <a:gridCol w="1228680"/>
                <a:gridCol w="1290600"/>
                <a:gridCol w="2289240"/>
                <a:gridCol w="1617840"/>
                <a:gridCol w="1503360"/>
              </a:tblGrid>
              <a:tr h="1789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разходите,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Е 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енерго-спестяван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15%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производство на енергия от възобновяеми източници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намаляването на емисиите на СО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о мерк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[t/год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430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200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 6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7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4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 – градско планира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611280" y="1038240"/>
            <a:ext cx="82818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Запазване на урбанизираната територия в границите, приети с изменението на ОУП през 2009 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Енергоефективно развитие на градското стопанство – инфраструктура свързана с управление на отпадъците и вод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Енергоефективно организиране на транспортната систе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пределяне на по-високи стандарти за енергийна ефективност и използване на ВЕИ за нови сгради и при реновиране на съществуващ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 – обществени поръ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03280" y="90792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ключване в техническите спецификации на изисквания за допустимост, които задължават участниците да предлагат продукти, отговарящи на минимални изисквания за постигане на енергийна ефективно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2.  Използване изискванията за енергийна ефективност на разпоредбите от ЗОП като показатели за оценка на оферт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методиката, определена с наредба по ЗОП за изчисляване на разходите за потребление на енергия, емисии СО2, азотни оксиди и т.н. при доставка на транспортни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Участие на сектора на комуналните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571680" y="785880"/>
            <a:ext cx="821520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бласти на сътрудничество между Столична община и доставчиците на енергия и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едоставяне на информация – годишно, за оценка на резултат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т изпълнение на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Участие в информационни дни – изготвяне на информационни материали, конкурси и др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ъгласуване на инвестиционни проекти, които имат ефект върху емисиите СО</a:t>
            </a:r>
            <a:r>
              <a:rPr b="0" lang="bg-BG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в Столична общ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ounded Rectangle 3"/>
          <p:cNvSpPr/>
          <p:nvPr/>
        </p:nvSpPr>
        <p:spPr>
          <a:xfrm>
            <a:off x="371520" y="4869000"/>
            <a:ext cx="8429760" cy="157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Битови отпадъци и пречистване на 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1009800" y="584280"/>
            <a:ext cx="7783200" cy="58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ползване на потенциала от сметищен газ на ДТБО – Суход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амаляване на депонираните отпадъци и производство на биогаз от органичната компонента в отпадъци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оизводство на топлинна и електроенергия от биог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Очакван ефект от намаляване на органичната компонента – окол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70 000 т/г. намаление на СО</a:t>
            </a:r>
            <a:r>
              <a:rPr b="1" lang="bg-BG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Мотивиране на граждан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79280" y="1500120"/>
            <a:ext cx="87138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Комуникационна стратег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нформиране и консулти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Техническа помощ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Ежегодно организиране на енергийни д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Енергийно образ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ed Rectangle 1"/>
          <p:cNvSpPr/>
          <p:nvPr/>
        </p:nvSpPr>
        <p:spPr>
          <a:xfrm>
            <a:off x="108000" y="5675400"/>
            <a:ext cx="8785080" cy="88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109692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73120" y="1125360"/>
            <a:ext cx="85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92929"/>
                </a:solidFill>
                <a:latin typeface="Arial"/>
              </a:rPr>
              <a:t>Сценарий за намаляване на СО2 емисиите до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266760" y="2093760"/>
            <a:ext cx="8534520" cy="3567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image002"/>
          <p:cNvPicPr/>
          <p:nvPr/>
        </p:nvPicPr>
        <p:blipFill>
          <a:blip r:embed="rId2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236520" y="5950080"/>
            <a:ext cx="86565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Цел: 22% намаление на емисиите на СО</a:t>
            </a:r>
            <a:r>
              <a:rPr b="1" lang="bg-BG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до 2020 г. спрямо 2007 г. –                    1 005 261 т/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0" y="-428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пределение на целите по се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2017800" y="785880"/>
            <a:ext cx="41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пестени емисии по сектори т/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Chart 5" descr=""/>
          <p:cNvPicPr/>
          <p:nvPr/>
        </p:nvPicPr>
        <p:blipFill>
          <a:blip r:embed="rId1"/>
          <a:stretch/>
        </p:blipFill>
        <p:spPr>
          <a:xfrm>
            <a:off x="426960" y="1212840"/>
            <a:ext cx="8217000" cy="52182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Участие на заинтересованите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"/>
          <p:cNvPicPr/>
          <p:nvPr/>
        </p:nvPicPr>
        <p:blipFill>
          <a:blip r:embed="rId3"/>
          <a:stretch/>
        </p:blipFill>
        <p:spPr>
          <a:xfrm>
            <a:off x="1214280" y="1731960"/>
            <a:ext cx="6734160" cy="47912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440" y="114300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73120" y="1125360"/>
            <a:ext cx="85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92929"/>
                </a:solidFill>
                <a:latin typeface="Arial"/>
              </a:rPr>
              <a:t>Конвентът на кметовете и Столична общи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8"/>
          <p:cNvCxnSpPr/>
          <p:nvPr/>
        </p:nvCxnSpPr>
        <p:spPr>
          <a:xfrm flipH="1">
            <a:off x="5000400" y="1999800"/>
            <a:ext cx="2160" cy="4001400"/>
          </a:xfrm>
          <a:prstGeom prst="straightConnector1">
            <a:avLst/>
          </a:prstGeom>
          <a:ln w="10800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60" name="TextBox 10"/>
          <p:cNvSpPr/>
          <p:nvPr/>
        </p:nvSpPr>
        <p:spPr>
          <a:xfrm>
            <a:off x="5429160" y="2000160"/>
            <a:ext cx="350064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6.05.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02.08.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04.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09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пълнение на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вугодишни докл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ниторингова инвентаризация 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миси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2016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73120" y="1924200"/>
            <a:ext cx="3505320" cy="4564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обри практики в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611280" y="2541600"/>
            <a:ext cx="7924680" cy="38098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760320" y="191628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нергиен мениджмънт в 17 сгради на район Надежда – 30% енергий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естя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обри практики в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4068720" y="5194440"/>
            <a:ext cx="4638600" cy="12096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3029400" y="1617840"/>
            <a:ext cx="606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стемата за мониторинг и енергиен мениджмъ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хваща – системите за отопление и БГВ, слънч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рмална и фотоволтаична инсталация (над 50 точк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зможност за разши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4"/>
          <a:stretch/>
        </p:blipFill>
        <p:spPr>
          <a:xfrm>
            <a:off x="6300720" y="3111480"/>
            <a:ext cx="2433600" cy="1542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5"/>
          <a:stretch/>
        </p:blipFill>
        <p:spPr>
          <a:xfrm>
            <a:off x="3233880" y="3284640"/>
            <a:ext cx="2868480" cy="176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6"/>
          <a:stretch/>
        </p:blipFill>
        <p:spPr>
          <a:xfrm>
            <a:off x="482760" y="2147760"/>
            <a:ext cx="2355840" cy="133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7"/>
          <a:stretch/>
        </p:blipFill>
        <p:spPr>
          <a:xfrm>
            <a:off x="299880" y="4397400"/>
            <a:ext cx="2719440" cy="2265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2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712800" y="1646280"/>
            <a:ext cx="5987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за енергиен мениджмънт и оптимизиране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аботата на абонатните станци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30% намаление на разходите за отопление (около 6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h/y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), инвестиция – 38 000 лев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Д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ънчеви термални инсталации за битова гореща вод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очакван ефект около 1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h/y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инвестиции 245 000 лев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Д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волтаична инсталация за производство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лектрическа енергия от слънцето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ишни икономи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т 49 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Wh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инвести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7 000 лева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Д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светление -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69 тела – около 110 000 k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/y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кономия на енергия на стойност около 16000 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ойност на инвестицията – около 52000 лв. с ДДС.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обри практики в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s://scontent-a-ams.xx.fbcdn.net/hphotos-xfa1/v/t1.0-9/10690288_574466282658618_2708214232901418688_n.jpg?oh=00406cd8ebd6baf5d32b94aa69a6eb11&amp;oe=54D0A941"/>
          <p:cNvPicPr/>
          <p:nvPr/>
        </p:nvPicPr>
        <p:blipFill>
          <a:blip r:embed="rId3"/>
          <a:stretch/>
        </p:blipFill>
        <p:spPr>
          <a:xfrm>
            <a:off x="7130880" y="2112840"/>
            <a:ext cx="1408320" cy="1370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https://scontent-a-ams.xx.fbcdn.net/hphotos-xap1/v/t1.0-9/10672323_574466285991951_428538680732606386_n.jpg?oh=e9e2bdc4cbda11af395af5d98adb8a7a&amp;oe=54866C1F"/>
          <p:cNvPicPr/>
          <p:nvPr/>
        </p:nvPicPr>
        <p:blipFill>
          <a:blip r:embed="rId4"/>
          <a:stretch/>
        </p:blipFill>
        <p:spPr>
          <a:xfrm>
            <a:off x="7292880" y="3789360"/>
            <a:ext cx="1435320" cy="114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5"/>
          <a:stretch/>
        </p:blipFill>
        <p:spPr>
          <a:xfrm>
            <a:off x="7467480" y="5019840"/>
            <a:ext cx="1084320" cy="19303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обри практики в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296726_282626448425960_266327520055853_957613_1344443605_n"/>
          <p:cNvPicPr/>
          <p:nvPr/>
        </p:nvPicPr>
        <p:blipFill>
          <a:blip r:embed="rId3"/>
          <a:stretch/>
        </p:blipFill>
        <p:spPr>
          <a:xfrm>
            <a:off x="109440" y="1609560"/>
            <a:ext cx="2857680" cy="228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4"/>
          <a:stretch/>
        </p:blipFill>
        <p:spPr>
          <a:xfrm>
            <a:off x="3492360" y="1751040"/>
            <a:ext cx="5367600" cy="482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292091_282630498425555_266327520055853_957622_1170409533_n"/>
          <p:cNvPicPr/>
          <p:nvPr/>
        </p:nvPicPr>
        <p:blipFill>
          <a:blip r:embed="rId5"/>
          <a:stretch/>
        </p:blipFill>
        <p:spPr>
          <a:xfrm>
            <a:off x="77760" y="3921120"/>
            <a:ext cx="3224160" cy="24066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7"/>
          <p:cNvSpPr/>
          <p:nvPr/>
        </p:nvSpPr>
        <p:spPr>
          <a:xfrm>
            <a:off x="299160" y="64119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ДЗ 60 – 59,6% ико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Chart 1" descr=""/>
          <p:cNvPicPr/>
          <p:nvPr/>
        </p:nvPicPr>
        <p:blipFill>
          <a:blip r:embed="rId1"/>
          <a:stretch/>
        </p:blipFill>
        <p:spPr>
          <a:xfrm>
            <a:off x="285840" y="1616040"/>
            <a:ext cx="7145280" cy="42847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317160" y="5877000"/>
            <a:ext cx="65296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Отчитане на климатични дан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Денградуси за 2008: 2361 спрямо денградуси за 2013: 24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обри практики в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image002"/>
          <p:cNvPicPr/>
          <p:nvPr/>
        </p:nvPicPr>
        <p:blipFill>
          <a:blip r:embed="rId2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3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4"/>
          <a:stretch/>
        </p:blipFill>
        <p:spPr>
          <a:xfrm>
            <a:off x="7145280" y="1700280"/>
            <a:ext cx="1998720" cy="1498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5"/>
          <a:stretch/>
        </p:blipFill>
        <p:spPr>
          <a:xfrm>
            <a:off x="6953400" y="4856040"/>
            <a:ext cx="2190600" cy="16430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1440" y="105264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обри практики в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s://scontent-fra3-1.xx.fbcdn.net/hphotos-xpa1/v/l/t1.0-9/10345544_587483548023558_5215787857274212769_n.jpg?oh=708b437ee150b5abe9fda69097664689&amp;oe=56049187"/>
          <p:cNvPicPr/>
          <p:nvPr/>
        </p:nvPicPr>
        <p:blipFill>
          <a:blip r:embed="rId3"/>
          <a:stretch/>
        </p:blipFill>
        <p:spPr>
          <a:xfrm>
            <a:off x="291960" y="1916280"/>
            <a:ext cx="4357800" cy="3268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s://scontent-fra3-1.xx.fbcdn.net/hphotos-xfa1/v/t1.0-9/10616154_587483631356883_6466807630347560432_n.jpg?oh=dbb49ae3062971eacaf87358b9012c6b&amp;oe=55C67C63"/>
          <p:cNvPicPr/>
          <p:nvPr/>
        </p:nvPicPr>
        <p:blipFill>
          <a:blip r:embed="rId4"/>
          <a:stretch/>
        </p:blipFill>
        <p:spPr>
          <a:xfrm>
            <a:off x="5940360" y="1919160"/>
            <a:ext cx="2392560" cy="1795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5"/>
          <a:stretch/>
        </p:blipFill>
        <p:spPr>
          <a:xfrm>
            <a:off x="5950080" y="3860640"/>
            <a:ext cx="2485800" cy="1791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946440" y="5651640"/>
            <a:ext cx="568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ървата „зелена“ детска градина в Долни Бог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рмопомпена инсталация – вода-вода с С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ънчева инсталация за топла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0" y="109692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876240" y="2071800"/>
            <a:ext cx="76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Благодаря ви за вниманиет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image002"/>
          <p:cNvPicPr/>
          <p:nvPr/>
        </p:nvPicPr>
        <p:blipFill>
          <a:blip r:embed="rId1"/>
          <a:stretch/>
        </p:blipFill>
        <p:spPr>
          <a:xfrm>
            <a:off x="285840" y="0"/>
            <a:ext cx="871560" cy="1000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"/>
          <p:cNvPicPr/>
          <p:nvPr/>
        </p:nvPicPr>
        <p:blipFill>
          <a:blip r:embed="rId2"/>
          <a:stretch/>
        </p:blipFill>
        <p:spPr>
          <a:xfrm>
            <a:off x="4276800" y="0"/>
            <a:ext cx="4867200" cy="9525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"/>
          <p:cNvSpPr/>
          <p:nvPr/>
        </p:nvSpPr>
        <p:spPr>
          <a:xfrm>
            <a:off x="2151000" y="3933720"/>
            <a:ext cx="60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За контакт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офийска енергийна агенция – СОФ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л.: 94349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мейл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@sofen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7297560" y="6203880"/>
            <a:ext cx="18385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428840" y="364320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44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92929"/>
                </a:solidFill>
                <a:latin typeface="Arial"/>
              </a:rPr>
              <a:t>Мото, визия и приорит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714240" y="1989000"/>
            <a:ext cx="81439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Визия и приорите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стойчиво развитие на градската инфраструктура и енергийна ефективност на сградния фо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стойчиво развитие на транспорта и градската моб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ползотворяване на възобновяемите енергийни източн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отивиране на гражданите и бизнеса за разумно използване на енерг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азвиване на местния капац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7"/>
          <p:cNvSpPr/>
          <p:nvPr/>
        </p:nvSpPr>
        <p:spPr>
          <a:xfrm>
            <a:off x="428760" y="785880"/>
            <a:ext cx="8429400" cy="1000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"София 2020 - зелената и интелигентна столица на България - модел за устойчиво развити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Роли на местните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3"/>
          <p:cNvSpPr/>
          <p:nvPr/>
        </p:nvSpPr>
        <p:spPr>
          <a:xfrm>
            <a:off x="214200" y="714240"/>
            <a:ext cx="4071960" cy="2786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отребител и доставчик на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сг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обществен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улично освет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обществени поръ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4643280" y="642960"/>
            <a:ext cx="4500720" cy="30002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ланиране, разработване и регули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градско плани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организиране на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тандарти за оползотворяване на ВЕИ и ко-ген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тандарти за 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5"/>
          <p:cNvSpPr/>
          <p:nvPr/>
        </p:nvSpPr>
        <p:spPr>
          <a:xfrm>
            <a:off x="4714920" y="3929040"/>
            <a:ext cx="4429080" cy="26431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оизводител и достав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-оползотворяване на В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ови когенерационни мощ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6"/>
          <p:cNvSpPr/>
          <p:nvPr/>
        </p:nvSpPr>
        <p:spPr>
          <a:xfrm>
            <a:off x="142920" y="3643200"/>
            <a:ext cx="4429080" cy="30006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нсултант, мотиватор, 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нформиране на заинтересован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ангажиране на цялата общ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iagram 1" descr=""/>
          <p:cNvPicPr/>
          <p:nvPr/>
        </p:nvPicPr>
        <p:blipFill>
          <a:blip r:embed="rId1"/>
          <a:stretch/>
        </p:blipFill>
        <p:spPr>
          <a:xfrm>
            <a:off x="285840" y="384120"/>
            <a:ext cx="8675640" cy="6040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44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92929"/>
                </a:solidFill>
                <a:latin typeface="Arial"/>
              </a:rPr>
              <a:t>Органиграма на Столична община във връзка с Конв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21"/>
          <p:cNvSpPr/>
          <p:nvPr/>
        </p:nvSpPr>
        <p:spPr>
          <a:xfrm>
            <a:off x="0" y="6072120"/>
            <a:ext cx="3214800" cy="7858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Комуникационна страте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44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92929"/>
                </a:solidFill>
                <a:latin typeface="Arial"/>
              </a:rPr>
              <a:t>Развитие на Плана за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27"/>
          <p:cNvSpPr/>
          <p:nvPr/>
        </p:nvSpPr>
        <p:spPr>
          <a:xfrm>
            <a:off x="1928880" y="1857240"/>
            <a:ext cx="6143400" cy="7146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Екологична и енергийна ви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32"/>
          <p:cNvSpPr/>
          <p:nvPr/>
        </p:nvSpPr>
        <p:spPr>
          <a:xfrm>
            <a:off x="214200" y="3000240"/>
            <a:ext cx="3284640" cy="2500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ограми за качеството на въздуха, управление на водите и отпадъц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3"/>
          <p:cNvSpPr/>
          <p:nvPr/>
        </p:nvSpPr>
        <p:spPr>
          <a:xfrm>
            <a:off x="3786120" y="3143160"/>
            <a:ext cx="2428920" cy="235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ограми за ЕЕ и В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4"/>
          <p:cNvSpPr/>
          <p:nvPr/>
        </p:nvSpPr>
        <p:spPr>
          <a:xfrm>
            <a:off x="6535800" y="3000240"/>
            <a:ext cx="2608200" cy="2571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ограми за транспорт и моб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40"/>
          <p:cNvCxnSpPr>
            <a:stCxn id="84" idx="2"/>
            <a:endCxn id="85" idx="0"/>
          </p:cNvCxnSpPr>
          <p:nvPr/>
        </p:nvCxnSpPr>
        <p:spPr>
          <a:xfrm flipH="1">
            <a:off x="1855440" y="2571840"/>
            <a:ext cx="3145680" cy="42912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9" name="Straight Arrow Connector 41"/>
          <p:cNvCxnSpPr>
            <a:stCxn id="84" idx="2"/>
            <a:endCxn id="86" idx="0"/>
          </p:cNvCxnSpPr>
          <p:nvPr/>
        </p:nvCxnSpPr>
        <p:spPr>
          <a:xfrm>
            <a:off x="4999680" y="2571480"/>
            <a:ext cx="1080" cy="57204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0" name="Straight Arrow Connector 42"/>
          <p:cNvCxnSpPr>
            <a:stCxn id="84" idx="2"/>
            <a:endCxn id="87" idx="0"/>
          </p:cNvCxnSpPr>
          <p:nvPr/>
        </p:nvCxnSpPr>
        <p:spPr>
          <a:xfrm>
            <a:off x="4999680" y="2571840"/>
            <a:ext cx="2840760" cy="42912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1" name="Straight Arrow Connector 47"/>
          <p:cNvCxnSpPr>
            <a:stCxn id="86" idx="2"/>
            <a:endCxn id="92" idx="0"/>
          </p:cNvCxnSpPr>
          <p:nvPr/>
        </p:nvCxnSpPr>
        <p:spPr>
          <a:xfrm flipH="1">
            <a:off x="4998240" y="5500800"/>
            <a:ext cx="2520" cy="64332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92" name="Rounded Rectangle 49"/>
          <p:cNvSpPr/>
          <p:nvPr/>
        </p:nvSpPr>
        <p:spPr>
          <a:xfrm>
            <a:off x="3784680" y="6143760"/>
            <a:ext cx="2428920" cy="571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ДУ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50"/>
          <p:cNvCxnSpPr>
            <a:stCxn id="85" idx="2"/>
            <a:endCxn id="92" idx="0"/>
          </p:cNvCxnSpPr>
          <p:nvPr/>
        </p:nvCxnSpPr>
        <p:spPr>
          <a:xfrm>
            <a:off x="1854720" y="5500800"/>
            <a:ext cx="3143880" cy="64332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94" name="Straight Arrow Connector 52"/>
          <p:cNvCxnSpPr>
            <a:stCxn id="87" idx="2"/>
            <a:endCxn id="92" idx="0"/>
          </p:cNvCxnSpPr>
          <p:nvPr/>
        </p:nvCxnSpPr>
        <p:spPr>
          <a:xfrm flipH="1">
            <a:off x="4998600" y="5572080"/>
            <a:ext cx="2842560" cy="57240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95" name="Rounded Rectangle 60"/>
          <p:cNvSpPr/>
          <p:nvPr/>
        </p:nvSpPr>
        <p:spPr>
          <a:xfrm>
            <a:off x="6443640" y="6072120"/>
            <a:ext cx="2733840" cy="7858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Мониторинг и 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6"/>
          <p:cNvSpPr/>
          <p:nvPr/>
        </p:nvSpPr>
        <p:spPr>
          <a:xfrm>
            <a:off x="1857240" y="785880"/>
            <a:ext cx="6143760" cy="7142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Стратегия за регионално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бщински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42960" y="1000080"/>
            <a:ext cx="8072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бщински сград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овиране, въвеждане на енергиен мениджмънт; инсталиране на слънчеви системи (където е приложимо); преминаване от течно гориво към отопление на природен газ или ВЕИ; инсталиране на термосоларни и PV - системи върху покривните пространства на част от сград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00000" y="2544840"/>
          <a:ext cx="7672680" cy="3476520"/>
        </p:xfrm>
        <a:graphic>
          <a:graphicData uri="http://schemas.openxmlformats.org/drawingml/2006/table">
            <a:tbl>
              <a:tblPr/>
              <a:tblGrid>
                <a:gridCol w="1189080"/>
                <a:gridCol w="1247760"/>
                <a:gridCol w="2214720"/>
                <a:gridCol w="1566720"/>
                <a:gridCol w="1454400"/>
              </a:tblGrid>
              <a:tr h="193356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разходите,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Е+ВЕИ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енерго-спестяване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 – 40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производство на енергия от възобновяеми източници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намаляването на емисиите на СО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о мерк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[t/год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268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 000 000 + 14 5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 9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7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Rectangle 4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 – Третичен с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42960" y="1000080"/>
            <a:ext cx="807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ретичен секто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ърговски сград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Столична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щина оказва съдействие за: реновиране на сградите; преминаване от течно гориво към отопление на природен газ или ВЕИ; инсталиране на слънчеви системи на покриви (където е приложимо) и др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42960" y="2421000"/>
          <a:ext cx="7929720" cy="4059000"/>
        </p:xfrm>
        <a:graphic>
          <a:graphicData uri="http://schemas.openxmlformats.org/drawingml/2006/table">
            <a:tbl>
              <a:tblPr/>
              <a:tblGrid>
                <a:gridCol w="1228680"/>
                <a:gridCol w="1290600"/>
                <a:gridCol w="2289240"/>
                <a:gridCol w="1617480"/>
                <a:gridCol w="1503720"/>
              </a:tblGrid>
              <a:tr h="235404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разходите,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Е+ВЕИ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енерго-спестяване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 – 10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производство на енергия от възобновяеми източници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намаляването на емисиите на СО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о мерк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[t/год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430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0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9 9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 9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5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0" y="0"/>
            <a:ext cx="9142560" cy="531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ланът по сектори – Жилищни сг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28760" y="64296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лищни сград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олична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щина оказва съдействие за: осигуряване на процеса за енергоефективно обновяване, смяна на индивидуалните нискоефективни средства за отопление с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-високоефектив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 енергоефективни технологии и ВЕИ; Засилен контрол на дейността по строеж на нови жилищни сгради; Енергоефективно обновяване на общинския жилищен фо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6600" y="2349360"/>
          <a:ext cx="7929360" cy="4059360"/>
        </p:xfrm>
        <a:graphic>
          <a:graphicData uri="http://schemas.openxmlformats.org/drawingml/2006/table">
            <a:tbl>
              <a:tblPr/>
              <a:tblGrid>
                <a:gridCol w="1228680"/>
                <a:gridCol w="1290600"/>
                <a:gridCol w="2289240"/>
                <a:gridCol w="1617480"/>
                <a:gridCol w="1503360"/>
              </a:tblGrid>
              <a:tr h="23544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разходите,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Е+ВЕИ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енерго-спестяване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 – 10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аквано производство на енергия от възобновяеми източници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MWh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на намаляването на емисиите на СО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о мерк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[t/год.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430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0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8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9 6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5"/>
          <p:cNvSpPr/>
          <p:nvPr/>
        </p:nvSpPr>
        <p:spPr>
          <a:xfrm>
            <a:off x="1571760" y="6603840"/>
            <a:ext cx="774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Arial"/>
              </a:rPr>
              <a:t>ЦИКЪЛ „ПАРИЖ КЛИМАТ 2015 – COP21“</a:t>
            </a:r>
            <a:r>
              <a:rPr b="1" i="1" lang="en-US" sz="1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bg-BG" sz="1200" spc="-1" strike="noStrike">
                <a:solidFill>
                  <a:srgbClr val="008000"/>
                </a:solidFill>
                <a:latin typeface="Arial"/>
              </a:rPr>
              <a:t>София 02 юни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1:46:55Z</dcterms:created>
  <dc:creator>tourpact</dc:creator>
  <dc:description/>
  <dc:language>en-US</dc:language>
  <cp:lastModifiedBy>ZG</cp:lastModifiedBy>
  <dcterms:modified xsi:type="dcterms:W3CDTF">2015-05-28T21:01:35Z</dcterms:modified>
  <cp:revision>336</cp:revision>
  <dc:subject/>
  <dc:title>Diapositiva 1</dc:title>
</cp:coreProperties>
</file>