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0" y="1700280"/>
            <a:ext cx="89280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0" y="4145400"/>
            <a:ext cx="89280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0" y="1700280"/>
            <a:ext cx="435672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4880" y="1700280"/>
            <a:ext cx="435672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0" y="4145400"/>
            <a:ext cx="435672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574880" y="4145400"/>
            <a:ext cx="435672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0" y="1700280"/>
            <a:ext cx="2874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018600" y="1700280"/>
            <a:ext cx="2874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37560" y="1700280"/>
            <a:ext cx="2874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0" y="4145400"/>
            <a:ext cx="2874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018600" y="4145400"/>
            <a:ext cx="2874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37560" y="4145400"/>
            <a:ext cx="28746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0" y="1700280"/>
            <a:ext cx="8928000" cy="468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0" y="1700280"/>
            <a:ext cx="89280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0" y="1700280"/>
            <a:ext cx="435672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574880" y="1700280"/>
            <a:ext cx="435672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0" y="1700280"/>
            <a:ext cx="435672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74880" y="1700280"/>
            <a:ext cx="435672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0" y="4145400"/>
            <a:ext cx="435672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0" y="1700280"/>
            <a:ext cx="435672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74880" y="1700280"/>
            <a:ext cx="435672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4880" y="4145400"/>
            <a:ext cx="435672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0" y="1700280"/>
            <a:ext cx="435672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74880" y="1700280"/>
            <a:ext cx="435672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0" y="4145400"/>
            <a:ext cx="8928000" cy="22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0" y="1700280"/>
            <a:ext cx="8928000" cy="4681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7"/>
          <p:cNvSpPr/>
          <p:nvPr/>
        </p:nvSpPr>
        <p:spPr>
          <a:xfrm>
            <a:off x="0" y="189000"/>
            <a:ext cx="9144000" cy="703800"/>
          </a:xfrm>
          <a:prstGeom prst="rect">
            <a:avLst/>
          </a:prstGeom>
          <a:solidFill>
            <a:srgbClr val="ffd8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ИЯТ УСТРОЙСТВЕН ПЛАН НА ОБЩИН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АТО ГЕОГРАФСКА ИНФОРМАЦИОННА СИСТЕМА</a:t>
            </a:r>
            <a:endParaRPr b="0" lang="en-US" sz="2000" spc="-1" strike="noStrike">
              <a:solidFill>
                <a:srgbClr val="000000"/>
              </a:solidFill>
              <a:latin typeface="Arial"/>
            </a:endParaRPr>
          </a:p>
        </p:txBody>
      </p:sp>
      <p:sp>
        <p:nvSpPr>
          <p:cNvPr id="2" name="Text Box 8"/>
          <p:cNvSpPr/>
          <p:nvPr/>
        </p:nvSpPr>
        <p:spPr>
          <a:xfrm>
            <a:off x="3422160" y="6613560"/>
            <a:ext cx="246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БУЛПЛАН ООД София, 9 юни 2015 г.</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0" y="4149720"/>
            <a:ext cx="9144000" cy="1511280"/>
          </a:xfrm>
          <a:prstGeom prst="rect">
            <a:avLst/>
          </a:prstGeom>
          <a:gradFill rotWithShape="0">
            <a:gsLst>
              <a:gs pos="0">
                <a:srgbClr val="ffffff"/>
              </a:gs>
              <a:gs pos="100000">
                <a:srgbClr val="767676"/>
              </a:gs>
            </a:gsLst>
            <a:lin ang="5400000"/>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Сесия 2 </a:t>
            </a:r>
            <a:br>
              <a:rPr sz="2200"/>
            </a:br>
            <a:r>
              <a:rPr b="0" lang="bg-BG" sz="1800" spc="-1" strike="noStrike">
                <a:solidFill>
                  <a:srgbClr val="000000"/>
                </a:solidFill>
                <a:latin typeface="Arial"/>
              </a:rPr>
              <a:t>Интелигентни</a:t>
            </a:r>
            <a:r>
              <a:rPr b="0" lang="ru-RU" sz="1800" spc="-1" strike="noStrike">
                <a:solidFill>
                  <a:srgbClr val="000000"/>
                </a:solidFill>
                <a:latin typeface="Arial"/>
              </a:rPr>
              <a:t>  решения, технологии и  иновации  при градски проекти</a:t>
            </a:r>
            <a:r>
              <a:rPr b="0" lang="bg-BG" sz="1800" spc="-1" strike="noStrike">
                <a:solidFill>
                  <a:srgbClr val="000000"/>
                </a:solidFill>
                <a:latin typeface="Arial"/>
              </a:rPr>
              <a:t>.</a:t>
            </a:r>
            <a:r>
              <a:rPr b="0" lang="ru-RU" sz="1800" spc="-1" strike="noStrike">
                <a:solidFill>
                  <a:srgbClr val="000000"/>
                </a:solidFill>
                <a:latin typeface="Arial"/>
              </a:rPr>
              <a:t> </a:t>
            </a:r>
            <a:br>
              <a:rPr sz="1800"/>
            </a:br>
            <a:r>
              <a:rPr b="1" lang="bg-BG" sz="1800" spc="-1" strike="noStrike">
                <a:solidFill>
                  <a:srgbClr val="000000"/>
                </a:solidFill>
                <a:latin typeface="Arial"/>
              </a:rPr>
              <a:t>Ролята на ГИС в градското планиране и управление на ресурсите.</a:t>
            </a:r>
            <a:r>
              <a:rPr b="0" lang="bg-BG" sz="1800" spc="-1" strike="noStrike">
                <a:solidFill>
                  <a:srgbClr val="000000"/>
                </a:solidFill>
                <a:latin typeface="Arial"/>
              </a:rPr>
              <a:t> </a:t>
            </a:r>
            <a:br>
              <a:rPr sz="1800"/>
            </a:br>
            <a:r>
              <a:rPr b="0" lang="bg-BG" sz="1800" spc="-1" strike="noStrike">
                <a:solidFill>
                  <a:srgbClr val="000000"/>
                </a:solidFill>
                <a:latin typeface="Arial"/>
              </a:rPr>
              <a:t>Възможностите на  инструмента </a:t>
            </a:r>
            <a:r>
              <a:rPr b="0" lang="en-US" sz="1800" spc="-1" strike="noStrike">
                <a:solidFill>
                  <a:srgbClr val="000000"/>
                </a:solidFill>
                <a:latin typeface="Arial"/>
              </a:rPr>
              <a:t>Jessica</a:t>
            </a:r>
            <a:r>
              <a:rPr b="0" lang="ru-RU" sz="1800" spc="-1" strike="noStrike">
                <a:solidFill>
                  <a:srgbClr val="000000"/>
                </a:solidFill>
                <a:latin typeface="Arial"/>
              </a:rPr>
              <a:t> и фонд Флаг за финансиране на градски проекти. Добри практики</a:t>
            </a:r>
            <a:endParaRPr b="0" lang="en-US" sz="1800" spc="-1" strike="noStrike">
              <a:solidFill>
                <a:srgbClr val="000000"/>
              </a:solidFill>
              <a:latin typeface="Arial"/>
            </a:endParaRPr>
          </a:p>
        </p:txBody>
      </p:sp>
      <p:pic>
        <p:nvPicPr>
          <p:cNvPr id="40" name="" descr=""/>
          <p:cNvPicPr/>
          <p:nvPr/>
        </p:nvPicPr>
        <p:blipFill>
          <a:blip r:embed="rId2"/>
          <a:stretch/>
        </p:blipFill>
        <p:spPr>
          <a:xfrm>
            <a:off x="1332000" y="1268280"/>
            <a:ext cx="6480000" cy="2028960"/>
          </a:xfrm>
          <a:prstGeom prst="rect">
            <a:avLst/>
          </a:prstGeom>
          <a:ln w="0">
            <a:noFill/>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Rectangle 2"/>
          <p:cNvSpPr/>
          <p:nvPr/>
        </p:nvSpPr>
        <p:spPr>
          <a:xfrm>
            <a:off x="0" y="5950080"/>
            <a:ext cx="9144000" cy="7189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рхитектура, процедури и работни места на информационната система в общината, представяща ОУПО като ГИС</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2"/>
          <a:stretch/>
        </p:blipFill>
        <p:spPr>
          <a:xfrm>
            <a:off x="971640" y="971640"/>
            <a:ext cx="7391160" cy="489564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3"/>
          <p:cNvSpPr/>
          <p:nvPr/>
        </p:nvSpPr>
        <p:spPr>
          <a:xfrm>
            <a:off x="144360" y="1628640"/>
            <a:ext cx="8928360" cy="485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раждането на архитектурата на системата започва с разработването на опорния план на общия устройствен план на общината. Често опорният план се изработва от изпълнител, различен от този, който разработва впоследствие самия план. В мнозинството от случаите този опорен план е несъвместим с инфраструктурата на изпълнителя и това още повече налага създаването на единен стандарт за разработването на общи устройствени планове.</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орният план интегрира в единна геобаза данни информацията от всички информационни източници, повечето от които вече са в цифров вид.</a:t>
            </a:r>
            <a:endParaRPr b="0" lang="en-US" sz="1800" spc="-1" strike="noStrike">
              <a:solidFill>
                <a:srgbClr val="000000"/>
              </a:solidFill>
              <a:latin typeface="Arial"/>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Този опорен план съдържа всички необходими компоненти съгласно нормативната уредба и включва справочна система за търсене по списък и визуализиране на справки при посочване на графични обекти от кадастралната карта, защитените територии, свлачищата, горския фонд, пътната и железопътна инфраструктура и други.</a:t>
            </a:r>
            <a:endParaRPr b="0" lang="en-US" sz="16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бра практика е самият опорен план да бъде уеб базиран, тъй като това дава възможност още преди започването на разработката на плана да бъдат открити несъответствия в данните, постъпващи от различните ведомства. Подобен уеб базиран опорен план на община е показан на следващата илюстрация:</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4"/>
          <p:cNvSpPr/>
          <p:nvPr/>
        </p:nvSpPr>
        <p:spPr>
          <a:xfrm>
            <a:off x="0" y="1089000"/>
            <a:ext cx="9144000" cy="368280"/>
          </a:xfrm>
          <a:prstGeom prst="rect">
            <a:avLst/>
          </a:prstGeom>
          <a:solidFill>
            <a:srgbClr val="dcebb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ПОРНИЯТ ПЛАН НА ОУПО КАТО ОСНОВА ЗА ГИС</a:t>
            </a:r>
            <a:endParaRPr b="0" lang="en-US" sz="1800" spc="-1" strike="noStrike">
              <a:solidFill>
                <a:srgbClr val="000000"/>
              </a:solidFill>
              <a:latin typeface="Arial"/>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Rectangle 2"/>
          <p:cNvSpPr/>
          <p:nvPr/>
        </p:nvSpPr>
        <p:spPr>
          <a:xfrm>
            <a:off x="0" y="5950080"/>
            <a:ext cx="9144000" cy="7189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порният план на ОУПО като уеб базирано приложение с геоинформационна функционалност</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 descr=""/>
          <p:cNvPicPr/>
          <p:nvPr/>
        </p:nvPicPr>
        <p:blipFill>
          <a:blip r:embed="rId2"/>
          <a:stretch/>
        </p:blipFill>
        <p:spPr>
          <a:xfrm>
            <a:off x="898560" y="971640"/>
            <a:ext cx="7391520" cy="480996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Rectangle 3"/>
          <p:cNvSpPr/>
          <p:nvPr/>
        </p:nvSpPr>
        <p:spPr>
          <a:xfrm>
            <a:off x="144360" y="1628640"/>
            <a:ext cx="8928360" cy="485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орният план като геобаза данни е картографската и информационна основа за разработката и публикуването на общия устройствен план на общината. </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ърху опорния план се очертават обектите на Общия устройствен план като: устройствените зони и самостоятелните терени с устройствен режим, проектната пътна инфраструктура, проектните трасета и съществуващите обекти на техническата инфраструктура, защитени и нарушени територии, горски фондове и т.н.</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ъщевременно при процедирането на плана с различните ведомства, както и при обществените обсъждания електронната версия на плана заедно с опорния план позволява да се правят сечения и тематични карти за недвижимото културно наследство, за засегнатите от устройствени зони защитени територии и т.н.</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еб базиран окончателен проект на общия устройствен план на община Велико Търново е показан на следващата илюстрация:</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4"/>
          <p:cNvSpPr/>
          <p:nvPr/>
        </p:nvSpPr>
        <p:spPr>
          <a:xfrm>
            <a:off x="0" y="1089000"/>
            <a:ext cx="9144000" cy="368280"/>
          </a:xfrm>
          <a:prstGeom prst="rect">
            <a:avLst/>
          </a:prstGeom>
          <a:solidFill>
            <a:srgbClr val="dcebb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УПО КАТО УЕБ БАЗИРАНО ПРИЛОЖЕНИЕ С ГЕОСЪРВЪР</a:t>
            </a:r>
            <a:endParaRPr b="0" lang="en-US" sz="1800" spc="-1" strike="noStrike">
              <a:solidFill>
                <a:srgbClr val="000000"/>
              </a:solidFill>
              <a:latin typeface="Arial"/>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Rectangle 2"/>
          <p:cNvSpPr/>
          <p:nvPr/>
        </p:nvSpPr>
        <p:spPr>
          <a:xfrm>
            <a:off x="0" y="5769000"/>
            <a:ext cx="9144000" cy="719280"/>
          </a:xfrm>
          <a:prstGeom prst="rect">
            <a:avLst/>
          </a:prstGeom>
          <a:noFill/>
          <a:ln w="0">
            <a:noFill/>
          </a:ln>
        </p:spPr>
        <p:style>
          <a:lnRef idx="0"/>
          <a:fillRef idx="0"/>
          <a:effectRef idx="0"/>
          <a:fontRef idx="minor"/>
        </p:style>
        <p:txBody>
          <a:bodyPr lIns="90000" rIns="90000" tIns="46800" bIns="46800" anchor="t">
            <a:normAutofit fontScale="78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УПО като уеб базирано приложение с геоинформационна функционалност. С червена стрелка е указана устройствена зона, за която се извежда информационна форма, показана надолу в тази презентация</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2"/>
          <a:stretch/>
        </p:blipFill>
        <p:spPr>
          <a:xfrm>
            <a:off x="898560" y="971640"/>
            <a:ext cx="7391520" cy="4809960"/>
          </a:xfrm>
          <a:prstGeom prst="rect">
            <a:avLst/>
          </a:prstGeom>
          <a:ln w="0">
            <a:noFill/>
          </a:ln>
        </p:spPr>
      </p:pic>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3"/>
          <p:cNvSpPr/>
          <p:nvPr/>
        </p:nvSpPr>
        <p:spPr>
          <a:xfrm>
            <a:off x="216000" y="1628640"/>
            <a:ext cx="8928000" cy="485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а публикувана електронната версия на плана има пълната функционалност на географска информационна система: придвижване по картата, мащабиране, информация за координатите на курсора, графичен мащаб, включване, изключване и разместване на слоеве. Включена е и справочна система за извеждане на информация за устройствените обекти. Така при посочване с курсора на устройствена зона се извежда паспорт за зоната с идентификация, разновидност, показатели за застрояване и правила за устройство и застрояване.</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ъм уеб базираната електронна версия на общия устройствен план на общината се включва и система за търсене по административен адрес, номер на имот, а за регистрирани съгласно правилата на електронното управление потребители – и по име или ЕГН/ЕИК на собственик или фирма. Търсенето се изпълнява, като за съответния адрес или номера на имоти се изисква същите да бъдат намерени върху картата. Така се открива в какъв устройствен режим попада съответния имот или група имоти.</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равката и формите за търсене на информация по списък и намирането й върху картата са показани на следващите две илюстрации.</a:t>
            </a:r>
            <a:endParaRPr b="0" lang="en-US" sz="1800" spc="-1" strike="noStrike">
              <a:solidFill>
                <a:srgbClr val="000000"/>
              </a:solidFill>
              <a:latin typeface="Arial"/>
            </a:endParaRPr>
          </a:p>
        </p:txBody>
      </p:sp>
      <p:sp>
        <p:nvSpPr>
          <p:cNvPr id="68" name="Text Box 4"/>
          <p:cNvSpPr/>
          <p:nvPr/>
        </p:nvSpPr>
        <p:spPr>
          <a:xfrm>
            <a:off x="0" y="1089000"/>
            <a:ext cx="9144000" cy="368280"/>
          </a:xfrm>
          <a:prstGeom prst="rect">
            <a:avLst/>
          </a:prstGeom>
          <a:solidFill>
            <a:srgbClr val="dcebb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ПРАВКИ И ТЪРСЕНЕ В УЕБ БАЗИРАНИЯ ОУПО</a:t>
            </a:r>
            <a:endParaRPr b="0" lang="en-US" sz="1800" spc="-1" strike="noStrike">
              <a:solidFill>
                <a:srgbClr val="000000"/>
              </a:solidFill>
              <a:latin typeface="Arial"/>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Rectangle 2"/>
          <p:cNvSpPr/>
          <p:nvPr/>
        </p:nvSpPr>
        <p:spPr>
          <a:xfrm>
            <a:off x="0" y="6318360"/>
            <a:ext cx="9144000" cy="53964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аспорт на устройствена зона, изведен като справка от уеб базирания ОУПО</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 descr=""/>
          <p:cNvPicPr/>
          <p:nvPr/>
        </p:nvPicPr>
        <p:blipFill>
          <a:blip r:embed="rId2"/>
          <a:stretch/>
        </p:blipFill>
        <p:spPr>
          <a:xfrm>
            <a:off x="2050920" y="971640"/>
            <a:ext cx="5079960" cy="530856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Rectangle 2"/>
          <p:cNvSpPr/>
          <p:nvPr/>
        </p:nvSpPr>
        <p:spPr>
          <a:xfrm>
            <a:off x="0" y="6308640"/>
            <a:ext cx="9144000" cy="358920"/>
          </a:xfrm>
          <a:prstGeom prst="rect">
            <a:avLst/>
          </a:prstGeom>
          <a:noFill/>
          <a:ln w="0">
            <a:noFill/>
          </a:ln>
        </p:spPr>
        <p:style>
          <a:lnRef idx="0"/>
          <a:fillRef idx="0"/>
          <a:effectRef idx="0"/>
          <a:fontRef idx="minor"/>
        </p:style>
        <p:txBody>
          <a:bodyPr lIns="90000" rIns="90000" tIns="46800" bIns="46800" anchor="t">
            <a:normAutofit fontScale="97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орми за търсене на обекти по списък върху уеб базираната карта на ОУПО</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 descr=""/>
          <p:cNvPicPr/>
          <p:nvPr/>
        </p:nvPicPr>
        <p:blipFill>
          <a:blip r:embed="rId2"/>
          <a:stretch/>
        </p:blipFill>
        <p:spPr>
          <a:xfrm>
            <a:off x="2003400" y="971640"/>
            <a:ext cx="5192640" cy="5400720"/>
          </a:xfrm>
          <a:prstGeom prst="rect">
            <a:avLst/>
          </a:prstGeom>
          <a:ln w="0">
            <a:noFill/>
          </a:ln>
        </p:spPr>
      </p:pic>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068280"/>
            <a:ext cx="9144000" cy="1081080"/>
          </a:xfrm>
          <a:prstGeom prst="rect">
            <a:avLst/>
          </a:prstGeom>
          <a:gradFill rotWithShape="0">
            <a:gsLst>
              <a:gs pos="0">
                <a:srgbClr val="ffffff"/>
              </a:gs>
              <a:gs pos="100000">
                <a:srgbClr val="767676"/>
              </a:gs>
            </a:gsLst>
            <a:lin ang="5400000"/>
          </a:gradFill>
          <a:ln w="9360">
            <a:solidFill>
              <a:srgbClr val="ffff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БЛАГОДАРИМ ВИ ЗА ВНИМАНИЕТО!</a:t>
            </a:r>
            <a:endParaRPr b="0" lang="en-US" sz="2200" spc="-1" strike="noStrike">
              <a:solidFill>
                <a:srgbClr val="000000"/>
              </a:solidFill>
              <a:latin typeface="Arial"/>
            </a:endParaRPr>
          </a:p>
        </p:txBody>
      </p:sp>
      <p:pic>
        <p:nvPicPr>
          <p:cNvPr id="74" name="" descr=""/>
          <p:cNvPicPr/>
          <p:nvPr/>
        </p:nvPicPr>
        <p:blipFill>
          <a:blip r:embed="rId2"/>
          <a:stretch/>
        </p:blipFill>
        <p:spPr>
          <a:xfrm>
            <a:off x="1332000" y="4329000"/>
            <a:ext cx="6480000" cy="2028960"/>
          </a:xfrm>
          <a:prstGeom prst="rect">
            <a:avLst/>
          </a:prstGeom>
          <a:ln w="0">
            <a:noFill/>
          </a:ln>
        </p:spPr>
      </p:pic>
      <p:sp>
        <p:nvSpPr>
          <p:cNvPr id="75" name="Rectangle 3"/>
          <p:cNvSpPr/>
          <p:nvPr/>
        </p:nvSpPr>
        <p:spPr>
          <a:xfrm>
            <a:off x="0" y="1089000"/>
            <a:ext cx="9144000" cy="1800360"/>
          </a:xfrm>
          <a:prstGeom prst="rect">
            <a:avLst/>
          </a:prstGeom>
          <a:noFill/>
          <a:ln w="0">
            <a:noFill/>
          </a:ln>
        </p:spPr>
        <p:style>
          <a:lnRef idx="0"/>
          <a:fillRef idx="0"/>
          <a:effectRef idx="0"/>
          <a:fontRef idx="minor"/>
        </p:style>
        <p:txBody>
          <a:bodyPr lIns="90000" rIns="90000" tIns="46800" bIns="46800" anchor="t">
            <a:normAutofit fontScale="99000"/>
          </a:bodyPr>
          <a:p>
            <a:pPr marL="87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ложеният модел за разработването, представянето и публикуването на общия устройствен план на община е универсален и под една или друга форма се прилага от водещите проектанти в сферата на устройственото планиране у нас. Очевидно е, че са налице и методологически, и технологични условия за стандартизация на моделите на общите устройствени планове и интегрирането им в национална геобазирана информационна система на устройственото планиране в страната.</a:t>
            </a:r>
            <a:endParaRPr b="0" lang="en-US" sz="18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44000" y="1628280"/>
            <a:ext cx="8928360" cy="4853160"/>
          </a:xfrm>
          <a:prstGeom prst="rect">
            <a:avLst/>
          </a:prstGeom>
          <a:noFill/>
          <a:ln w="0">
            <a:noFill/>
          </a:ln>
        </p:spPr>
        <p:txBody>
          <a:bodyPr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Целта на тази презентация е да се покаже общата методическа основа  при разработването, процедирането, актуализацията и прилагането на Общите устройствени планове на общините у нас.</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последните две години в страната е налице значително нарастване на дейностите в сферата на стратегическото и устройственото планиране. Десетки общини, подпомогнати финансово от държавата, разработват общи устройствени планове, почти всички имат общински планове за развитие и значителна част от тях разполагат със задания за разработване на общи устройствени планове. </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Този процес се развива и в близко бъдеще се очаква преобладаващата територия на страната да бъде планирана на ниво общини.</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ралелно се разработват и стратегически документи за пространствено развитие на национално, регионално и общинско ниво. Голямото количество планови документи, разработвани от различни изпълнители, очевидно налага приемането на единен стандарт, за да може планирането на територията на страната да бъде презентирано върху обща основа за публичен достъп, както примерно е показано на следващите илюстрации.</a:t>
            </a:r>
            <a:endParaRPr b="0" lang="en-US" sz="1800" spc="-1" strike="noStrike">
              <a:solidFill>
                <a:srgbClr val="000000"/>
              </a:solidFill>
              <a:latin typeface="Arial"/>
            </a:endParaRPr>
          </a:p>
        </p:txBody>
      </p:sp>
      <p:sp>
        <p:nvSpPr>
          <p:cNvPr id="42" name="Text Box 4"/>
          <p:cNvSpPr/>
          <p:nvPr/>
        </p:nvSpPr>
        <p:spPr>
          <a:xfrm>
            <a:off x="0" y="1081080"/>
            <a:ext cx="9144000" cy="368280"/>
          </a:xfrm>
          <a:prstGeom prst="rect">
            <a:avLst/>
          </a:prstGeom>
          <a:solidFill>
            <a:srgbClr val="dcebb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ЪВЕДЕНИЕ</a:t>
            </a:r>
            <a:endParaRPr b="0" lang="en-US" sz="1800" spc="-1" strike="noStrike">
              <a:solidFill>
                <a:srgbClr val="000000"/>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Rectangle 2"/>
          <p:cNvSpPr/>
          <p:nvPr/>
        </p:nvSpPr>
        <p:spPr>
          <a:xfrm>
            <a:off x="0" y="6308640"/>
            <a:ext cx="9144000" cy="358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рта на страната с указано състояние на устройственото планиране по общини</a:t>
            </a:r>
            <a:endParaRPr b="0" lang="en-US" sz="1800" spc="-1" strike="noStrike">
              <a:solidFill>
                <a:srgbClr val="000000"/>
              </a:solidFill>
              <a:latin typeface="Arial"/>
            </a:endParaRPr>
          </a:p>
          <a:p>
            <a:pPr marL="332640" indent="-3326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792000" y="1089000"/>
            <a:ext cx="7485120" cy="529128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2"/>
          <p:cNvSpPr/>
          <p:nvPr/>
        </p:nvSpPr>
        <p:spPr>
          <a:xfrm>
            <a:off x="0" y="5950080"/>
            <a:ext cx="9144000" cy="7189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увеличаване на мащаба до обхват на група общини се визуализират различните видове общи устройствени планове на територията на общините</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2"/>
          <a:stretch/>
        </p:blipFill>
        <p:spPr>
          <a:xfrm>
            <a:off x="971640" y="971640"/>
            <a:ext cx="7129440" cy="503856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2"/>
          <p:cNvSpPr/>
          <p:nvPr/>
        </p:nvSpPr>
        <p:spPr>
          <a:xfrm>
            <a:off x="0" y="5950080"/>
            <a:ext cx="9144000" cy="7189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увеличаване на мащаба до обхват на част от община се визуализират устройствените зони и терени и пътната и техническата инфраструктура</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2"/>
          <a:stretch/>
        </p:blipFill>
        <p:spPr>
          <a:xfrm>
            <a:off x="971640" y="971640"/>
            <a:ext cx="7129440" cy="504036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Rectangle 2"/>
          <p:cNvSpPr/>
          <p:nvPr/>
        </p:nvSpPr>
        <p:spPr>
          <a:xfrm>
            <a:off x="0" y="5950080"/>
            <a:ext cx="9144000" cy="7189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обхвата на населените места се визуализират съвместно устройствените зони и терени на общия устройствен план и подробните устройствени планове</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971640" y="971640"/>
            <a:ext cx="7129440" cy="504036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3"/>
          <p:cNvSpPr/>
          <p:nvPr/>
        </p:nvSpPr>
        <p:spPr>
          <a:xfrm>
            <a:off x="144360" y="1628640"/>
            <a:ext cx="8928360" cy="485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агането на подобен стандарт изисква единна методология и инструментариум за разработването, публикуването и прилагането на плановете по устройството на територията.</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та е процесът на разработването, общественото обсъждане, публичната информация за устройствените режими и прилагането на плана, което по същество е управление на територията, да имат съвместимост в различни мащаби съгласно правилата на електронното управление и приетата със Закона за достъп до пространствени данни европейска инициатива INSPIRE.</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 този аспект се появява</a:t>
            </a:r>
            <a:r>
              <a:rPr b="1" lang="ru-RU" sz="1800" spc="-1" strike="noStrike">
                <a:solidFill>
                  <a:srgbClr val="000000"/>
                </a:solidFill>
                <a:latin typeface="Arial"/>
              </a:rPr>
              <a:t> и</a:t>
            </a:r>
            <a:r>
              <a:rPr b="1" lang="bg-BG" sz="1800" spc="-1" strike="noStrike">
                <a:solidFill>
                  <a:srgbClr val="000000"/>
                </a:solidFill>
                <a:latin typeface="Arial"/>
              </a:rPr>
              <a:t> необходимостта от</a:t>
            </a:r>
            <a:r>
              <a:rPr b="1" lang="ru-RU" sz="1800" spc="-1" strike="noStrike">
                <a:solidFill>
                  <a:srgbClr val="000000"/>
                </a:solidFill>
                <a:latin typeface="Arial"/>
              </a:rPr>
              <a:t> </a:t>
            </a:r>
            <a:r>
              <a:rPr b="1" lang="bg-BG" sz="1800" spc="-1" strike="noStrike">
                <a:solidFill>
                  <a:srgbClr val="000000"/>
                </a:solidFill>
                <a:latin typeface="Arial"/>
              </a:rPr>
              <a:t>централен регистър на общите устройствени планове, разработен върху геоинформационна платформа с публичен достъп и база данни, съдържаща всички документи,  придружаващи плана.</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одобен подход обхваща целия процес на устройствено планиране – от подготовката на информационната рамка на общия устройствен план на общината до неговото прилагане от общинските администрации. Това означава, че самият план трябва да функционира като геоинформационна система, която отговаря на редица изисквания, а именно:</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4"/>
          <p:cNvSpPr/>
          <p:nvPr/>
        </p:nvSpPr>
        <p:spPr>
          <a:xfrm>
            <a:off x="0" y="1089000"/>
            <a:ext cx="9144000" cy="368280"/>
          </a:xfrm>
          <a:prstGeom prst="rect">
            <a:avLst/>
          </a:prstGeom>
          <a:solidFill>
            <a:srgbClr val="dcebb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ДХОД</a:t>
            </a:r>
            <a:endParaRPr b="0" lang="en-US" sz="1800" spc="-1" strike="noStrike">
              <a:solidFill>
                <a:srgbClr val="000000"/>
              </a:solidFill>
              <a:latin typeface="Arial"/>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4"/>
          <p:cNvSpPr/>
          <p:nvPr/>
        </p:nvSpPr>
        <p:spPr>
          <a:xfrm>
            <a:off x="0" y="1089000"/>
            <a:ext cx="9144000" cy="368280"/>
          </a:xfrm>
          <a:prstGeom prst="rect">
            <a:avLst/>
          </a:prstGeom>
          <a:solidFill>
            <a:srgbClr val="dcebb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ИЗИСКВАНИЯ (1/2)</a:t>
            </a:r>
            <a:endParaRPr b="0" lang="en-US" sz="1800" spc="-1" strike="noStrike">
              <a:solidFill>
                <a:srgbClr val="000000"/>
              </a:solidFill>
              <a:latin typeface="Arial"/>
            </a:endParaRPr>
          </a:p>
        </p:txBody>
      </p:sp>
      <p:sp>
        <p:nvSpPr>
          <p:cNvPr id="54" name="Rectangle 3"/>
          <p:cNvSpPr/>
          <p:nvPr/>
        </p:nvSpPr>
        <p:spPr>
          <a:xfrm>
            <a:off x="144360" y="1628640"/>
            <a:ext cx="8928360" cy="485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лектронната версия на плана трябва да отговаря на стандартите на електронното правителство. Това ще позволи услугите, свързани с този план, да бъдат част от националния пакет електронни услуги. Тук трябва да са валидни и общите правила за достъп и регистрация на потребителите, както и стандартния обмен на електронни документи.</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лектронната версия на плана трябва да бъде част от електронната община. Планът трябва да е така разработен в електронен формат, че измененията на плана, обработването на възраженията и предложенията по него, свързаните с това преписки и решения на Общинските съвети, обновената информация от ведомства като Агенцията по геодезия, картография и кадастър, Изпълнителната агенция за околната среда, Министерство на културата, басейновите дирекции, държавните горски стопанства, Агенция „Пътна инфраструктура“, експлоатационните предприятия и т.н. да се въвеждат от служителите на администрацията, респективно да се отразяват в централния регистър на плановите документи като компонент на плана.</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3"/>
          <p:cNvSpPr/>
          <p:nvPr/>
        </p:nvSpPr>
        <p:spPr>
          <a:xfrm>
            <a:off x="144360" y="1628640"/>
            <a:ext cx="8928360" cy="4853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лектронната версия на плана трябва да бъде публично достъпна. Досегашната практика да се публикуват плановете като растерни изображения не е адекватна на възможностите на високите технологии и на добрата информационна обезпеченост на плановете в цифров вид към настоящия момент. Налични са предпоставки за онлайн достъп до устройствените планове с пълен спектър от справки до ниво имот и собственик, при което се дава възможност да се провери устройствения статут на имота спрямо общия устройствен план. Така че ако разработката на плана може да се осъществява с локални компютърни конфигурации с десктоп програмни пакети, то пълната архитектура на системата изисква инфраструктура за генерирането на уеб достъп до плана през ГИС сървър.</a:t>
            </a:r>
            <a:endParaRPr b="0" lang="en-US" sz="1800" spc="-1" strike="noStrike">
              <a:solidFill>
                <a:srgbClr val="000000"/>
              </a:solidFill>
              <a:latin typeface="Arial"/>
            </a:endParaRPr>
          </a:p>
          <a:p>
            <a:pPr marL="339480" indent="-3394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да се изпълнят тези изисквания е необходимо архитектурата на електронната версия на Общия устройствен план на община да се изгради както при изпълнителя на плана, така и в общинската администрация. Следващата илюстрация показва пълното съдържание на подобна архитектура заедно с процедурите и схемата на работните места, изградена в общата рамка на информационната система на общинската администрация. Архитектурата включва автоматизирани процедури за конверсия на данни, зареждане на базата данни, създаване на тематични карти, добавяне и обновяване на слоеве, публикуване на промените за публичен достъп и т.н.</a:t>
            </a:r>
            <a:endParaRPr b="0" lang="en-US" sz="1600" spc="-1" strike="noStrike">
              <a:solidFill>
                <a:srgbClr val="000000"/>
              </a:solidFill>
              <a:latin typeface="Arial"/>
            </a:endParaRPr>
          </a:p>
        </p:txBody>
      </p:sp>
      <p:sp>
        <p:nvSpPr>
          <p:cNvPr id="56" name="Text Box 4"/>
          <p:cNvSpPr/>
          <p:nvPr/>
        </p:nvSpPr>
        <p:spPr>
          <a:xfrm>
            <a:off x="0" y="1089000"/>
            <a:ext cx="9144000" cy="368280"/>
          </a:xfrm>
          <a:prstGeom prst="rect">
            <a:avLst/>
          </a:prstGeom>
          <a:solidFill>
            <a:srgbClr val="dcebb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ИЗИСКВАНИЯ (2/2)</a:t>
            </a:r>
            <a:endParaRPr b="0" lang="en-US" sz="180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2T12:55:09Z</dcterms:created>
  <dc:creator>id</dc:creator>
  <dc:description/>
  <dc:language>en-US</dc:language>
  <cp:lastModifiedBy>delchev</cp:lastModifiedBy>
  <dcterms:modified xsi:type="dcterms:W3CDTF">2015-06-04T16:57:47Z</dcterms:modified>
  <cp:revision>72</cp:revision>
  <dc:subject/>
  <dc:title>Slide 1</dc:title>
</cp:coreProperties>
</file>