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dt" idx="4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ftr" idx="4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 type="sldNum" idx="4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B8330-61A9-4029-8920-14F9B2258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87076-ED3D-4E93-A97A-58425FCDC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E1F2A-9416-4E32-8812-19BDDAA19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9327E-3940-4FDB-A636-7DD272FD3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28ECE-4016-4A66-BFDE-24F5F0C27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33FD5-62EF-42B7-8C36-3349CF2B045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8FEF8-81FC-4666-84C9-AD841CD9ABC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8B5B4-3AB3-4ECD-993A-46D19ED871E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6E7EE-A7EC-4C0A-B328-5BFCB489667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E9F67-57DA-4C68-9C21-622BD5CC2DA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2B514-60B3-4163-B172-2DE1D71A275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9EC4B-68DE-4EBA-8CEB-C43EA738752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C124D-9473-4C48-A4D7-1E398C6A642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6EA17-1749-4E64-AC79-3B3047B75E4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3BBE46-EE7C-4AD8-B25F-E636898F1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3066F1-04C8-4947-B6D2-B8A9B7582CC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29C013-4E22-4B48-8A75-411FAC7E619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619E08-976B-47E1-A409-7DBBD93C77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53670-4FAB-4F07-9245-D6D50DE2C45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276973-44D4-4EB0-9637-00EC2D23E58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BDE7C7-B11B-4354-8B3A-1CABA470D54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B01FCE-4680-45CE-98D0-40BD433C362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F49959-EFDD-4248-8D28-8BB08EC0A67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A5822F-61A9-4052-B4A0-ABD7BFDCFEE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352F1A-56E0-4E48-B810-22C672772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8C2B15-CD3B-4FC6-8EC3-624D5D4FC98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F9625-7852-4B06-99F4-951FD70C59B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FF43A-BA8A-4880-94B5-84CB193FD06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14B85-0324-41D1-A3A6-971239CEA3D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0FF96-F8ED-4183-95B9-8D3D2D72A60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01EFA-5B6E-435C-A181-2AE0706316C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FB235-8860-41AF-85F9-7507363F149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1BF2D-9C0D-4C4D-B778-41373424550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AD48-5ECB-4013-A809-B338EDAF222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1D9C0-F7D6-4041-88E2-9174850B9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EF0D-6D69-4AC2-A81E-F7DA35ECCCE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CD3F1-DED3-4D07-A444-8F86025790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58CB4-8FEB-40D3-8446-730ECB7B0EB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8780-5998-4F21-ADB7-C9A8905B303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F2267-6930-4E7B-B7D9-DE6D61539DD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DEDD9-7AAC-4628-AA1A-FC41BCE2B70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6F1F5-CA2F-40F2-9E10-FBEC30A3F5D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72FD6-46D8-401F-87CD-1C77F929A65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EA6A4-65A1-4368-AF8A-530D054D81E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F48D2-5348-4218-8324-E84B4F3F796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949AB9-CFD4-40EE-9259-30AFEE9135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5A59-A4C5-4DC2-B54C-64E6C433138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18A7F-0C89-4B4D-BF42-6D7D0E413E9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CCC94-8309-467E-ACEA-88FFB23FA64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5F7AB-592C-4C4E-B8B6-FD325062FF0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70F07-7E17-4170-9A53-28821B9FEA6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AAE4D6-297F-407C-8140-AC9CC3DA6F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9F7486-3CEC-43CD-9F6E-255428AB92E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757D9-CC63-4723-AE07-3C0FC806380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A4F503-DD94-4E97-86C7-A7FC30E1398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2CA6AF-6A23-4C58-9E38-805279E2C72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C87D59-336E-4B4D-9D9D-2F6ECA9D6D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2486-8235-4D55-B258-01DA9D3F15F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D0D1EC-336F-4157-92E6-D7A8B38B20E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2C91B3-A726-4553-A538-DE07FAE57C4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18D169-58AB-4571-8A7A-2ACA514879D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DD3217-1793-4359-A8BA-044297161F0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B7F3AD-67C5-4CCB-B8B3-7A751381AF8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F50998-4537-461E-B64B-32A2C1B95CD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947527-4C5B-4C4D-8EFD-747C92A95F7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54C13-A0B5-412C-B7C9-FAB8B6F54C0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A84CD-081C-4B10-A161-5CA264516F5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F8BA1-C069-4ED0-9D30-067270CF72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E506-3024-4EFF-953E-30082D26623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9EBA2-08D3-48E5-B1A3-1187E58877F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7C139-82CB-49D7-B97D-496E5736E10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7AEF4-F86C-4063-A03F-C51BADC9459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FAC38-CD76-4E90-A7EC-7BA920221EB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516CA-B69F-4D60-96BF-069D1F4686C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28198-83D3-4AE7-9E83-16630F4DB83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7E40B-7972-47C1-BC8C-EB92F539EAC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3C837-4696-41CA-B5A1-1935D423FB2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4CFED-1E72-4A56-863E-BD15AA61A34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526838-D966-447E-8146-06B592DBEF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E394-D530-4A1C-B454-23AC05A508B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9C7767-892A-4E04-ADBA-C1C3757BDC4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7E0D66-595E-4664-BBC9-5F232FB11AF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A54E05-0107-47B9-BDE8-1B85203BC39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18E13A-CE62-4ED0-B198-355B1394570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34F666-875D-4443-8EA5-0DC5D237972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C3A0E5-D894-4619-B859-71DD7D8EAF7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F14C9B-11A1-4C60-8DD3-20FFF234746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C98B06-3046-4E33-B7FE-456090BEEB3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DF7465-54EA-4FF2-BF18-41937852E88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04B742-BC11-4265-A12D-0032A6C8CC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100C-A7C8-40DD-B0E8-239D55C4C5B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D44704-972B-426E-9D0B-6F55E2445DE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F7293-6EF0-4E2B-929D-6BEC3166FD5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7E661-6713-4ACE-9B6F-82B4DAA514D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AC3E2-1017-4ACF-AB07-7C3D7F5909C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B331B-942B-4D96-8009-AB592B00B8D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477FD-09CF-4BB8-A725-E1022E9CE73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1F6CE-B4B5-4CD5-8B86-E5DBF284B8D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8E36A-739F-4B20-A586-E923927182F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88A57-178A-4104-8F1B-6A4512C42E5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454FA-8170-4220-8901-4A543E5D64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04CC-15F8-414F-91D6-BE6F9E8FAFB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98303-B31D-4CB2-B2C9-B176D285B89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466F6-D70B-4FB6-A7B7-89D186376F5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5390D-CD9E-48DC-93EE-4F950263282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555C8-A195-4614-B80D-0609C05440C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D5E69-0334-4D12-9203-B0197FCFACA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08034-FDA2-4D4A-AF35-2EF6A954A6F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8B0AB-049A-4354-A639-1CC5E6AE3AF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D2BEB-AEB6-470E-94B0-00A1578E6EE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687BF-CB19-469E-BE04-8605EF947E8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F2E02-3D6A-460B-B28E-FBB4882656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2A8D-A20A-4405-902B-295B3776F6E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6FAF0-D7B7-4A99-B70B-CF58F32658C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25EFD-CD95-4379-87F4-27A78B775EF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14460-70E2-459B-BB6B-93B05D857CA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62D98-F3F2-46A8-94AC-117800D0AB8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5481C-C1E5-4616-93AE-79BF3611022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BB59E4-F0F7-47E7-98DA-F824E0D671B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3E3531-9F3F-4DBB-B84B-5CB3D86D0B4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6F09BA-F2FC-40A6-86E9-905D4C41D6B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218B10-5D34-40C3-85D6-BA76C65821D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132859-7438-4734-B383-935FA5DBF9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5A0E-E47E-437F-A216-F45AC79781B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727AE1-F9F5-4238-A302-2E462E47CB9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C6FEDF-D255-45DA-BEAA-BDA75727A7A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025562-CA6D-487B-9ADA-356523965DC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58FE6D-7CE1-4548-A861-4376FB7654A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607C83-5BA2-4D9D-A790-B629BD931D1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4F9E79-81C7-4A6E-9C5A-1BDF0DFE26A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CB3E81-059D-41E4-9CE1-39B8E5386BA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F88FD-F69B-4702-8127-60C51CCBF90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AA745-8A27-4DA4-ABA1-AA2C8FB0F45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A27DB-3323-4919-A09B-8D81C85F2D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5596-F877-4EA4-B98B-B525A7B5043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F0233-7807-4250-9FBB-4EEF34A2676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5B795-0218-4FA9-B7D8-8A566291CF4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2BC01-F0D4-495C-8FEC-D92404F470E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ACF19-AF40-489D-8BA6-7AA8A87824E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660B9-4661-4A37-859B-EA677558191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F9594-86FA-4F3D-A7F7-0D14E40DB4C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578D6-154F-4EEE-B685-A4282609F97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84AA2-7F19-44B1-BA7F-716CEFBD5F4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BCB63-5A4C-4DA5-BD48-32ABDA7F4FF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096E-D1BA-4036-8F43-96A2AB738CB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7B62-0A19-45B4-AB23-8EA69BF9721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7B3ED-5C0A-4395-B2E1-F551F786CDF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3724A-C1DE-462D-B16E-90AA69D2171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B4CBA-1286-4026-9352-7B007968018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22351-1DAC-4F10-A121-7494F64272F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BF94F-52B8-47EE-999A-8B6D7D6766B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93E96-C71F-4FAC-A7E9-804DC7589E2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A75CE-7FBD-4D3F-A22D-087E0D6D4F3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9C672-0DEB-4CBA-B22E-D6BD33756BE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6C6AA-B03E-45C9-948A-2FBA619841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544BF-B534-4FD6-9E3A-C310C1A489F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31ACC-596F-4815-B188-FBED430BFC7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BD83F-DBDD-4AC7-93C3-51883C81A04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C11AA3-3247-4C1B-A5C9-56889FCC24B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2C59A8-A846-4B36-AF75-AAEE7F30CB1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3A5592-5A72-4D09-87DF-5ABE320EED4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816B65-B7F1-4D40-9027-9FF6CD3C473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05F12A-0837-4A0E-9289-FF06CA92C42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9B20B8-2246-4F2C-81E1-B071D48416A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97F87D-83C7-4693-B7CD-F2CA3C5602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476F8F-B0A4-4CDC-A0EC-771CEC959FF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70E97D-3F4B-4F95-BB5E-E757342E38E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C3F766-CE24-45BE-97EA-7F3F090E4F0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6BD636-D11A-4D76-90BA-0CB45A3D525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9A2502-2494-42D5-9CEE-2D18D29CD20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7C0C0B-1812-4979-A4DA-B39384041E6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DD3905-30DB-4C96-AA97-7895AB06226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0173FA-F977-4F5E-BF7A-1EA581AD697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62770C-1EDC-4BAB-A1B7-F9ECC834F15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A73881-2D01-4E79-8C59-0381168432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36D237-F3BC-43F7-8CE7-BCA0EA9CB64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07C9E4-B10F-4047-B2C3-F1D8885B66C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4E9784-9E3F-4361-801E-298EEA4AC42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EDF4D0-16E9-425F-84F7-388A6A30BE7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3264FE-876A-4EC7-AB75-94EC9F019E5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841D10-31F0-4497-9234-ED5ED3FB35D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B821BA-DEDF-461B-B6FB-FFC164711D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C5837-4339-48AB-8F9E-103712934A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367A8-2199-4BD2-BBB0-CE603C03AE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7B1F8-DB0F-4962-927D-C2A8D0614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72240-2333-462B-8A0C-685533B4C9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907A8-EF18-4C44-9073-CF72C86AFD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99A29-2F2A-4794-AD7E-1C0287021C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89467-25C0-4594-B7FF-8FCD40EDC2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7CC18-91DF-4771-9751-2C57CE6BF0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F96F0-A36A-473D-B3C6-D54C44755A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ACC9D-222A-49E3-9AB6-8DDF79DC0D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C8009-722A-4CB9-B300-57AAFFF650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E014C-B2A4-4C94-9A14-9BB41B89E8B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C727-206A-4450-9D1A-04E0D86B0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F41E-8878-4E78-97A4-351B70A200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4145-189F-4EB4-8007-221E7577A39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4CBF-ED7E-484D-9BE0-E707B727518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14DC-17E0-4970-B33C-6EF61C9E48D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480D-C6F7-44C5-8FB5-3DA2A2D4310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B536-F697-45B6-B78B-9C591B59C2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D356-8A00-449E-890C-8A4F3290B93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73D6-8D97-458F-B120-07337758813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30E4-B3AA-43DD-A4A1-467945F23C1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35B2-938F-4A76-BB9E-95B594283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035C-278D-491F-99CC-C1DD2301FC5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EE03E-D567-4818-AF4A-1937A6F8E9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78888-A83D-4E9B-8746-56068C1E18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F5D7E-EA12-416E-BD4F-D47B4AC9DA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BE143-660E-4A3A-986B-E0AD0B957FE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A66C1-FC0B-4D89-BF1C-3BA223BAA86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511A4-D7AF-48E6-BB6D-D7C0BF93C4F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C065C-00C5-4962-B5F6-AFEF875B072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9C9FD-DF31-4024-8302-B288CC0F99F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875CA-8830-4920-96E2-BA61B6CF5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DB33D-9BA8-4F12-B915-3BA44467245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CFB97-032A-42F3-9D26-8D33E2D26F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17416-B415-4FCB-9AAC-59CB61B60CC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C62348-877D-4016-AB51-3EFF30C20AB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7E1514-C730-44B1-BF29-6D1D0C7F908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2024C-1D8E-43D6-AE8C-1A156BAD85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D6CBA-C2F3-40AB-90D2-F7E8F17A64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FDF0A3-5063-43E6-8D52-95C01BF74B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BA0BF3-CA22-483B-9CB4-3BDF64B9324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FD482-5FD3-44A8-8BC0-B36A2369A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99C78-9446-4362-A5BE-DF2E332897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C2823C-B998-4A83-8296-D42BE479456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BD143-5B76-4A57-9A8F-2C1E98D9296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911D6-0E9B-45D1-870C-B753216294F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4C640-0839-4DF3-B676-4F38A232A24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101C4-4710-4CAE-AD03-6747C4A351A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ABFB-3ECD-4ACA-96DD-479A84EC1D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669BD-62FF-4BD3-A1C1-9A4A6D6B23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38766-38E0-46C9-825F-CF7F0B66139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ADC40-A715-4590-B106-32C2EA43C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2D2E4-E4A5-4A10-A2FF-A8879F2B4C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29CC-D456-4326-8F98-D10DEA28B5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561D7-913A-40D1-AAA1-A8CB279560D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3B9B0-11FE-468B-9710-D8A63C1CB3F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49EFA-20A8-43DE-B9AE-4C873C0B9DF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F4C8D-70AA-41A4-A1C8-46309E0EBC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819A0-FD70-46F3-BC43-B3DF6AA41AA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C8F012-23F5-4045-AE9F-999B0E55AE5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93661-EDC9-4CFD-B422-06788C97F37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26557-BB0A-4C73-9165-70E2E72E1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ldNum" idx="16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26F63C80-B1B7-48AE-A8C3-8587B0A059DE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ftr" idx="17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sldNum" idx="18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EDD1EDFA-B49E-4CC3-BAC6-04147F01FB10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ftr" idx="19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sldNum" idx="20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D2196047-422B-4D3F-B85A-0985AFDC900F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ftr" idx="21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c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schneider_LIO_White_RGB.png"/>
          <p:cNvPicPr/>
          <p:nvPr/>
        </p:nvPicPr>
        <p:blipFill>
          <a:blip r:embed="rId2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sldNum" idx="22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738B715A-EE73-4B95-9B57-7B40288EC910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ftr" idx="23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" descr="Weave_175139600_L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"/>
          <p:cNvSpPr/>
          <p:nvPr/>
        </p:nvSpPr>
        <p:spPr>
          <a:xfrm>
            <a:off x="0" y="3619440"/>
            <a:ext cx="9144000" cy="152424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schneider_LIO_White_RGB.png"/>
          <p:cNvPicPr/>
          <p:nvPr/>
        </p:nvPicPr>
        <p:blipFill>
          <a:blip r:embed="rId3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sldNum" idx="24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A49F613C-89ED-4346-B388-727DEABFB9BB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25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" descr="Weave_463028807_L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2"/>
          <p:cNvSpPr/>
          <p:nvPr/>
        </p:nvSpPr>
        <p:spPr>
          <a:xfrm>
            <a:off x="0" y="3619440"/>
            <a:ext cx="9144000" cy="152424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schneider_LIO_White_RGB.png"/>
          <p:cNvPicPr/>
          <p:nvPr/>
        </p:nvPicPr>
        <p:blipFill>
          <a:blip r:embed="rId3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sldNum" idx="26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7C426CB5-2E6D-439D-94BC-B8F9590EE652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ftr" idx="27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"/>
          <p:cNvSpPr/>
          <p:nvPr/>
        </p:nvSpPr>
        <p:spPr>
          <a:xfrm>
            <a:off x="0" y="3619440"/>
            <a:ext cx="9144000" cy="152424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"/>
          <p:cNvSpPr/>
          <p:nvPr/>
        </p:nvSpPr>
        <p:spPr>
          <a:xfrm>
            <a:off x="1674720" y="4851360"/>
            <a:ext cx="8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Weave_486603441_L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4" descr="schneider_LIO_White_RGB.png"/>
          <p:cNvPicPr/>
          <p:nvPr/>
        </p:nvPicPr>
        <p:blipFill>
          <a:blip r:embed="rId3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595" name="Slide Number Placeholder 5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Page </a:t>
            </a:r>
            <a:fld id="{FE330A0E-AE19-4A53-A16E-CB3C987BF0A1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Num" idx="28"/>
          </p:nvPr>
        </p:nvSpPr>
        <p:spPr>
          <a:xfrm>
            <a:off x="1761840" y="4812480"/>
            <a:ext cx="52524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CCA6FF75-7400-412B-8248-5543F93153F5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ftr" idx="29"/>
          </p:nvPr>
        </p:nvSpPr>
        <p:spPr>
          <a:xfrm>
            <a:off x="252000" y="4857840"/>
            <a:ext cx="15051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Weave_522513175_L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0" y="3619440"/>
            <a:ext cx="9144000" cy="152424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schneider_LIO_White_RGB.png"/>
          <p:cNvPicPr/>
          <p:nvPr/>
        </p:nvPicPr>
        <p:blipFill>
          <a:blip r:embed="rId3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sldNum" idx="30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493512E1-4990-40BB-B917-B8207E7842B2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ftr" idx="31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1" descr="Weave_522794209_L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2"/>
          <p:cNvSpPr/>
          <p:nvPr/>
        </p:nvSpPr>
        <p:spPr>
          <a:xfrm>
            <a:off x="0" y="3619440"/>
            <a:ext cx="9144000" cy="152424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3" descr="schneider_LIO_White_RGB.png"/>
          <p:cNvPicPr/>
          <p:nvPr/>
        </p:nvPicPr>
        <p:blipFill>
          <a:blip r:embed="rId3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1"/>
          <p:cNvSpPr>
            <a:spLocks noGrp="1"/>
          </p:cNvSpPr>
          <p:nvPr>
            <p:ph type="sldNum" idx="32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6021D86A-F60E-4CA0-A69C-1B7ADD825990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ftr" idx="33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" descr="Weave_528351183_LI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2"/>
          <p:cNvSpPr/>
          <p:nvPr/>
        </p:nvSpPr>
        <p:spPr>
          <a:xfrm>
            <a:off x="0" y="3619440"/>
            <a:ext cx="9144000" cy="152424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3" descr="schneider_LIO_White_RGB.png"/>
          <p:cNvPicPr/>
          <p:nvPr/>
        </p:nvPicPr>
        <p:blipFill>
          <a:blip r:embed="rId3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sldNum" idx="34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82D13469-2074-4DBF-916D-5B9CD53F964B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ftr" idx="35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c74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6c746"/>
              </a:solidFill>
              <a:latin typeface="Arial"/>
            </a:endParaRPr>
          </a:p>
        </p:txBody>
      </p:sp>
      <p:pic>
        <p:nvPicPr>
          <p:cNvPr id="37" name="Picture 9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252360" y="1203480"/>
            <a:ext cx="863928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1360" indent="-1555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1" marL="177480" indent="26568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2" marL="355320" indent="9720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3" marL="712080" indent="-1778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4" marL="887760" indent="-1832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5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6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1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EE216D72-A2B6-4116-A106-3CD35F338D91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c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1" descr="schneider_LIO_White_RGB.png"/>
          <p:cNvPicPr/>
          <p:nvPr/>
        </p:nvPicPr>
        <p:blipFill>
          <a:blip r:embed="rId2"/>
          <a:stretch/>
        </p:blipFill>
        <p:spPr>
          <a:xfrm>
            <a:off x="2732040" y="2065320"/>
            <a:ext cx="3679920" cy="101268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9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798" name="Straight Connector 6"/>
          <p:cNvSpPr/>
          <p:nvPr/>
        </p:nvSpPr>
        <p:spPr>
          <a:xfrm>
            <a:off x="6013440" y="1203480"/>
            <a:ext cx="0" cy="2985840"/>
          </a:xfrm>
          <a:prstGeom prst="line">
            <a:avLst/>
          </a:prstGeom>
          <a:ln cap="rnd" w="324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c74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252360" y="1203480"/>
            <a:ext cx="863928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1360" indent="-1555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1" marL="177480" indent="26568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2" marL="355320" indent="9720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3" marL="712080" indent="-1778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4" marL="887760" indent="-1832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5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6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Num" idx="36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24061435-A0E6-4492-ABD8-DC25327BC795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37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9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840" name="Straight Connector 6"/>
          <p:cNvSpPr/>
          <p:nvPr/>
        </p:nvSpPr>
        <p:spPr>
          <a:xfrm>
            <a:off x="4613400" y="1203480"/>
            <a:ext cx="0" cy="2985840"/>
          </a:xfrm>
          <a:prstGeom prst="line">
            <a:avLst/>
          </a:prstGeom>
          <a:ln cap="rnd" w="324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c74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252360" y="1203480"/>
            <a:ext cx="863928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1360" indent="-1555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1" marL="177480" indent="26568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2" marL="355320" indent="9720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3" marL="712080" indent="-1778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4" marL="887760" indent="-1832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5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6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sldNum" idx="38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E85A110C-F692-4FC4-BBD7-FC173E40F56E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39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9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882" name="Straight Connector 6"/>
          <p:cNvSpPr/>
          <p:nvPr/>
        </p:nvSpPr>
        <p:spPr>
          <a:xfrm>
            <a:off x="3086280" y="1203480"/>
            <a:ext cx="0" cy="2985840"/>
          </a:xfrm>
          <a:prstGeom prst="line">
            <a:avLst/>
          </a:prstGeom>
          <a:ln cap="rnd" w="324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6054840" y="1203480"/>
            <a:ext cx="0" cy="2985840"/>
          </a:xfrm>
          <a:prstGeom prst="line">
            <a:avLst/>
          </a:prstGeom>
          <a:ln cap="rnd" w="3240">
            <a:solidFill>
              <a:srgbClr val="9fa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c74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252360" y="1203480"/>
            <a:ext cx="8639280" cy="22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1360" indent="-1555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1" marL="177480" indent="26568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2" marL="355320" indent="9720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3" marL="712080" indent="-1778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4" marL="887760" indent="-183240">
              <a:spcBef>
                <a:spcPts val="499"/>
              </a:spcBef>
              <a:spcAft>
                <a:spcPts val="499"/>
              </a:spcAft>
              <a:buClr>
                <a:srgbClr val="36c7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5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lvl="6" marL="887760" indent="-1832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2646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40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1BEDBB8A-38A8-464E-9026-ED0C66BED9B0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1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 flipV="1">
            <a:off x="0" y="3711240"/>
            <a:ext cx="9144000" cy="674640"/>
          </a:xfrm>
          <a:prstGeom prst="rect">
            <a:avLst/>
          </a:prstGeom>
          <a:solidFill>
            <a:srgbClr val="3dcd5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4386240"/>
            <a:ext cx="9144000" cy="108000"/>
          </a:xfrm>
          <a:prstGeom prst="rect">
            <a:avLst/>
          </a:prstGeom>
          <a:solidFill>
            <a:srgbClr val="3dc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ftr" idx="3"/>
          </p:nvPr>
        </p:nvSpPr>
        <p:spPr>
          <a:xfrm>
            <a:off x="252000" y="4857840"/>
            <a:ext cx="15051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4f51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4f5156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ldNum" idx="4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F7AF5348-6E45-491D-9939-EE075D183358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6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AA34E6BE-F7F5-4093-A603-2522D07667CD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7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2"/>
          <a:stretch/>
        </p:blipFill>
        <p:spPr>
          <a:xfrm>
            <a:off x="7124760" y="4602240"/>
            <a:ext cx="1801800" cy="446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ldNum" idx="8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5BA7D4BE-DD99-4CE4-A8A2-22746AFBFE25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9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 rot="5400000">
            <a:off x="-287280" y="242640"/>
            <a:ext cx="5143680" cy="4657680"/>
          </a:xfrm>
          <a:prstGeom prst="rect">
            <a:avLst/>
          </a:prstGeom>
          <a:solidFill>
            <a:srgbClr val="3dc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10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39BD60D2-2681-4D3E-B3B8-19C2307AF435}" type="slidenum"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1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 rot="5400000">
            <a:off x="1854360" y="2385000"/>
            <a:ext cx="5143680" cy="373320"/>
          </a:xfrm>
          <a:prstGeom prst="rect">
            <a:avLst/>
          </a:prstGeom>
          <a:solidFill>
            <a:srgbClr val="3dc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ldNum" idx="12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150FBE3A-349C-4491-AACF-19880846E137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ftr" idx="13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schneider_LIO_Life-Green_RGB.png"/>
          <p:cNvPicPr/>
          <p:nvPr/>
        </p:nvPicPr>
        <p:blipFill>
          <a:blip r:embed="rId2"/>
          <a:stretch/>
        </p:blipFill>
        <p:spPr>
          <a:xfrm>
            <a:off x="7102440" y="4510080"/>
            <a:ext cx="1922400" cy="530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sldNum" idx="14"/>
          </p:nvPr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3dcd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Page </a:t>
            </a:r>
            <a:fld id="{C773A1A6-F1E2-4A51-8C7E-F06663F4BAEF}" type="slidenum">
              <a:rPr b="0" lang="en-US" sz="600" spc="-1" strike="noStrike">
                <a:solidFill>
                  <a:srgbClr val="3dcd58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15"/>
          </p:nvPr>
        </p:nvSpPr>
        <p:spPr>
          <a:xfrm>
            <a:off x="252360" y="4857840"/>
            <a:ext cx="15098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2646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Times New Roman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6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Placeholder 5" descr="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0" y="0"/>
            <a:ext cx="9144000" cy="438156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8"/>
          <p:cNvSpPr/>
          <p:nvPr/>
        </p:nvSpPr>
        <p:spPr>
          <a:xfrm>
            <a:off x="0" y="1539720"/>
            <a:ext cx="9144000" cy="2171880"/>
          </a:xfrm>
          <a:prstGeom prst="rect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c4c5c9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2000" y="1963440"/>
            <a:ext cx="889164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Arial"/>
              </a:rPr>
              <a:t>Автоматизация на спортни съоръ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"/>
          <p:cNvSpPr/>
          <p:nvPr/>
        </p:nvSpPr>
        <p:spPr>
          <a:xfrm flipV="1">
            <a:off x="0" y="3711240"/>
            <a:ext cx="9144000" cy="674640"/>
          </a:xfrm>
          <a:prstGeom prst="rect">
            <a:avLst/>
          </a:prstGeom>
          <a:solidFill>
            <a:srgbClr val="3dcd5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2360" y="3954240"/>
            <a:ext cx="4361040" cy="18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ed by: </a:t>
            </a:r>
            <a:r>
              <a:rPr b="0" lang="bg-BG" sz="1200" spc="-1" strike="noStrike">
                <a:solidFill>
                  <a:srgbClr val="ffffff"/>
                </a:solidFill>
                <a:latin typeface="Arial"/>
              </a:rPr>
              <a:t>Радослава Рад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ooter Placeholder 7"/>
          <p:cNvSpPr/>
          <p:nvPr/>
        </p:nvSpPr>
        <p:spPr>
          <a:xfrm>
            <a:off x="252360" y="4857840"/>
            <a:ext cx="1505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4f5156"/>
                </a:solidFill>
                <a:latin typeface="Arial"/>
              </a:rPr>
              <a:t>Confidential Property of Schneider Electr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lide Number Placeholder 5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038D3444-1378-4E98-A294-3C57B97FF2E9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ooter Placeholder 6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Автоматизацията - специално решение или необходимост ?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252360" y="884160"/>
            <a:ext cx="8639280" cy="26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Отчитайки нуждите на съвременният век, масовата дигитализация и все по-голямата нужда от алтернативна енергия, “умното” управление се превръща в необходимост...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Какво ни дава сградната автоматизация?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200" spc="-1" strike="noStrike">
                <a:solidFill>
                  <a:srgbClr val="76777c"/>
                </a:solidFill>
                <a:latin typeface="Arial"/>
              </a:rPr>
              <a:t>Сигурност за хора и имущество</a:t>
            </a:r>
            <a:endParaRPr b="0" lang="en-US" sz="12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200" spc="-1" strike="noStrike">
                <a:solidFill>
                  <a:srgbClr val="626469"/>
                </a:solidFill>
                <a:latin typeface="Arial"/>
              </a:rPr>
              <a:t>Свобода и гъвкавост при управлението на ресурси</a:t>
            </a:r>
            <a:endParaRPr b="0" lang="en-US" sz="12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200" spc="-1" strike="noStrike">
                <a:solidFill>
                  <a:srgbClr val="626469"/>
                </a:solidFill>
                <a:latin typeface="Arial"/>
              </a:rPr>
              <a:t>Подробна информация и пълен контрол над отделните подсистеми</a:t>
            </a:r>
            <a:endParaRPr b="0" lang="en-US" sz="12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200" spc="-1" strike="noStrike">
                <a:solidFill>
                  <a:srgbClr val="626469"/>
                </a:solidFill>
                <a:latin typeface="Arial"/>
              </a:rPr>
              <a:t>Енергийна ефективност като резултат от синхронизирането на подсистемите в сградата</a:t>
            </a:r>
            <a:endParaRPr b="0" lang="en-US" sz="1200" spc="-1" strike="noStrike">
              <a:solidFill>
                <a:srgbClr val="626469"/>
              </a:solidFill>
              <a:latin typeface="Arial"/>
            </a:endParaRPr>
          </a:p>
          <a:p>
            <a:pPr marL="1584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200" spc="-1" strike="noStrike">
                <a:solidFill>
                  <a:srgbClr val="626469"/>
                </a:solidFill>
                <a:latin typeface="Arial"/>
              </a:rPr>
              <a:t>Повишаване на себестойността на спортното съоръжение</a:t>
            </a:r>
            <a:endParaRPr b="0" lang="en-US" sz="1200" spc="-1" strike="noStrike">
              <a:solidFill>
                <a:srgbClr val="626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lide Number Placeholder 7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A854F87B-212E-4000-92EE-064AEF365CE9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ooter Placeholder 8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Стадион Маракана (Рио Де Жанейро)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58480" y="727200"/>
            <a:ext cx="548172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3160" indent="-15732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Обхват на сградния мениджмънт: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контрол и управление на </a:t>
            </a: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36 000 променливи</a:t>
            </a: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 позволяващи намаляване на потребена на енергия с над 35 %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Осветление </a:t>
            </a: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– над 3000 осветителни тела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Климатизация и вентилация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Вътрешен транспорт </a:t>
            </a: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- 17 асансьора, 12 ескалатора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Слънцезащитна система </a:t>
            </a: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– управление спрямо метеорологичните условия или по зададени настройки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299f3f"/>
                </a:solidFill>
                <a:latin typeface="Arial"/>
              </a:rPr>
              <a:t>Други системи - </a:t>
            </a:r>
            <a:r>
              <a:rPr b="0" lang="ru-RU" sz="1400" spc="-1" strike="noStrike">
                <a:solidFill>
                  <a:srgbClr val="626469"/>
                </a:solidFill>
                <a:latin typeface="Arial"/>
              </a:rPr>
              <a:t>за контрол на достъпа, противопожарната система, видеонаблюдение, генератори, UPS-и.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  <a:p>
            <a:pPr marL="173160" indent="-157320">
              <a:spcBef>
                <a:spcPts val="499"/>
              </a:spcBef>
              <a:spcAft>
                <a:spcPts val="499"/>
              </a:spcAft>
              <a:buClr>
                <a:srgbClr val="3dcd58"/>
              </a:buClr>
              <a:buFont typeface="Arial"/>
              <a:buChar char="−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400" spc="-1" strike="noStrike">
                <a:solidFill>
                  <a:srgbClr val="299f3f"/>
                </a:solidFill>
                <a:latin typeface="Arial"/>
              </a:rPr>
              <a:t>Интегриран Енергиен мениджмънт </a:t>
            </a: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– м</a:t>
            </a:r>
            <a:r>
              <a:rPr b="0" lang="ru-RU" sz="1400" spc="-1" strike="noStrike">
                <a:solidFill>
                  <a:srgbClr val="626469"/>
                </a:solidFill>
                <a:latin typeface="Arial"/>
              </a:rPr>
              <a:t>ониторинг на консумацията на енергия в реално време, оптимизация на потребената енергията, </a:t>
            </a:r>
            <a:r>
              <a:rPr b="0" lang="bg-BG" sz="1400" spc="-1" strike="noStrike">
                <a:solidFill>
                  <a:srgbClr val="626469"/>
                </a:solidFill>
                <a:latin typeface="Arial"/>
              </a:rPr>
              <a:t>следене и отчитане на повече от 500 измервателни и защитни устройства.</a:t>
            </a:r>
            <a:endParaRPr b="0" lang="en-US" sz="1400" spc="-1" strike="noStrike">
              <a:solidFill>
                <a:srgbClr val="626469"/>
              </a:solidFill>
              <a:latin typeface="Arial"/>
            </a:endParaRPr>
          </a:p>
        </p:txBody>
      </p:sp>
      <p:pic>
        <p:nvPicPr>
          <p:cNvPr id="945" name="Picture 14" descr="stadion_marakana_v_rio-de-zhaneyro_braziliya.jpg"/>
          <p:cNvPicPr/>
          <p:nvPr/>
        </p:nvPicPr>
        <p:blipFill>
          <a:blip r:embed="rId1"/>
          <a:stretch/>
        </p:blipFill>
        <p:spPr>
          <a:xfrm>
            <a:off x="6086520" y="1487520"/>
            <a:ext cx="3057480" cy="217800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609880" y="3998880"/>
            <a:ext cx="328140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4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Стадион Маракана (Рио Де Жанейро) панорама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7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6B6DD360-0D2E-4AFF-9E50-FCC9BEC3EE6F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ooter Placeholder 8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90120" y="230040"/>
            <a:ext cx="86346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Работа в реално време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791240" y="4065480"/>
            <a:ext cx="410040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584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Графично представяне в софтуера за управление на съоръжението</a:t>
            </a:r>
            <a:r>
              <a:rPr b="0" lang="en-US" sz="800" spc="-1" strike="noStrike">
                <a:solidFill>
                  <a:srgbClr val="8e8f9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951" name="Text Placeholder 6"/>
          <p:cNvSpPr/>
          <p:nvPr/>
        </p:nvSpPr>
        <p:spPr>
          <a:xfrm>
            <a:off x="4791240" y="1022400"/>
            <a:ext cx="41716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90120" y="604800"/>
            <a:ext cx="8634600" cy="1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100" spc="-1" strike="noStrike">
                <a:solidFill>
                  <a:srgbClr val="42b4e6"/>
                </a:solidFill>
                <a:latin typeface="Arial"/>
              </a:rPr>
              <a:t>Отдалечено наблюдение и управление</a:t>
            </a:r>
            <a:r>
              <a:rPr b="0" lang="en-US" sz="1100" spc="-1" strike="noStrike">
                <a:solidFill>
                  <a:srgbClr val="42b4e6"/>
                </a:solidFill>
                <a:latin typeface="Arial"/>
              </a:rPr>
              <a:t>, </a:t>
            </a:r>
            <a:r>
              <a:rPr b="0" lang="bg-BG" sz="1100" spc="-1" strike="noStrike">
                <a:solidFill>
                  <a:srgbClr val="42b4e6"/>
                </a:solidFill>
                <a:latin typeface="Arial"/>
              </a:rPr>
              <a:t>персонализирана визуализация, графично представяне </a:t>
            </a:r>
            <a:endParaRPr b="0" lang="en-US" sz="1100" spc="-1" strike="noStrike">
              <a:solidFill>
                <a:srgbClr val="626469"/>
              </a:solidFill>
              <a:latin typeface="Arial"/>
            </a:endParaRPr>
          </a:p>
        </p:txBody>
      </p:sp>
      <p:pic>
        <p:nvPicPr>
          <p:cNvPr id="953" name="Picture 6" descr="C:\Documents and Settings\All Users\Documents\schneider\réunion  avril\sources\121181ok.jpg"/>
          <p:cNvPicPr/>
          <p:nvPr/>
        </p:nvPicPr>
        <p:blipFill>
          <a:blip r:embed="rId1"/>
          <a:srcRect l="6722" t="8617" r="6722" b="8617"/>
          <a:stretch/>
        </p:blipFill>
        <p:spPr>
          <a:xfrm>
            <a:off x="5072040" y="1235160"/>
            <a:ext cx="3600360" cy="248292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sp>
        <p:nvSpPr>
          <p:cNvPr id="954" name="Text Placeholder 4"/>
          <p:cNvSpPr/>
          <p:nvPr/>
        </p:nvSpPr>
        <p:spPr>
          <a:xfrm>
            <a:off x="690480" y="4067280"/>
            <a:ext cx="269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584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Визуализация на операторската станц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7" descr="C:\Documents and Settings\All Users\Documents\schneider\réunion  avril\sources\121183ok.jpg"/>
          <p:cNvPicPr/>
          <p:nvPr/>
        </p:nvPicPr>
        <p:blipFill>
          <a:blip r:embed="rId2"/>
          <a:stretch/>
        </p:blipFill>
        <p:spPr>
          <a:xfrm>
            <a:off x="690480" y="1263600"/>
            <a:ext cx="3424320" cy="245592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Slide Number Placeholder 7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9AEEE072-BEE0-42F5-A163-54A17D632D9D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ooter Placeholder 8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Фишт стадион 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Сочи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Русия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58840" y="604440"/>
            <a:ext cx="863280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100" spc="-1" strike="noStrike">
                <a:solidFill>
                  <a:srgbClr val="42b4e6"/>
                </a:solidFill>
                <a:latin typeface="Arial"/>
              </a:rPr>
              <a:t>Управление на отговорни съоръжения и агрегати - механизирана покривна конструкция, бърза приспособимост /зимен-летен режим/, интегриран енергиен мениджмънт, надеждно електрозахранване</a:t>
            </a:r>
            <a:endParaRPr b="0" lang="en-US" sz="1100" spc="-1" strike="noStrike">
              <a:solidFill>
                <a:srgbClr val="626469"/>
              </a:solidFill>
              <a:latin typeface="Arial"/>
            </a:endParaRPr>
          </a:p>
        </p:txBody>
      </p:sp>
      <p:pic>
        <p:nvPicPr>
          <p:cNvPr id="960" name="Picture 2" descr="C:\Users\SESA367731\Desktop\92_82567771426937_1.jpg"/>
          <p:cNvPicPr/>
          <p:nvPr/>
        </p:nvPicPr>
        <p:blipFill>
          <a:blip r:embed="rId1"/>
          <a:stretch/>
        </p:blipFill>
        <p:spPr>
          <a:xfrm>
            <a:off x="252360" y="1143000"/>
            <a:ext cx="4152960" cy="2673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C:\Users\SESA367731\Desktop\Sochi_olimpic_stadium.jpg"/>
          <p:cNvPicPr/>
          <p:nvPr/>
        </p:nvPicPr>
        <p:blipFill>
          <a:blip r:embed="rId2"/>
          <a:stretch/>
        </p:blipFill>
        <p:spPr>
          <a:xfrm>
            <a:off x="4749840" y="1143000"/>
            <a:ext cx="38797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Slide Number Placeholder 7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230940AE-8366-4B11-B80D-D8C1E02D63AA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ooter Placeholder 8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11200" y="163440"/>
            <a:ext cx="86328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Стадион “Гнездото”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Пекин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11200" y="537840"/>
            <a:ext cx="86328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42b4e6"/>
                </a:solidFill>
                <a:latin typeface="Arial"/>
              </a:rPr>
              <a:t>Автоматизирано управление на сложна осветителна система от 14 400 компонента </a:t>
            </a:r>
            <a:br>
              <a:rPr sz="1100"/>
            </a:br>
            <a:r>
              <a:rPr b="0" lang="ru-RU" sz="1100" spc="-1" strike="noStrike">
                <a:solidFill>
                  <a:srgbClr val="42b4e6"/>
                </a:solidFill>
                <a:latin typeface="Arial"/>
              </a:rPr>
              <a:t>Отворена система с възможност за интегриране с останалите сградни системи  /стандарт KNX/ </a:t>
            </a:r>
            <a:br>
              <a:rPr sz="1100"/>
            </a:br>
            <a:endParaRPr b="0" lang="en-US" sz="1100" spc="-1" strike="noStrike">
              <a:solidFill>
                <a:srgbClr val="626469"/>
              </a:solidFill>
              <a:latin typeface="Arial"/>
            </a:endParaRPr>
          </a:p>
        </p:txBody>
      </p:sp>
      <p:pic>
        <p:nvPicPr>
          <p:cNvPr id="966" name="Picture 2" descr="C:\Users\SESA37984\Desktop\556-a (1).jpg"/>
          <p:cNvPicPr/>
          <p:nvPr/>
        </p:nvPicPr>
        <p:blipFill>
          <a:blip r:embed="rId1"/>
          <a:stretch/>
        </p:blipFill>
        <p:spPr>
          <a:xfrm>
            <a:off x="568440" y="1609560"/>
            <a:ext cx="3787560" cy="2571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" descr="C:\Users\SESA37984\Desktop\camp-nou.jpg"/>
          <p:cNvPicPr/>
          <p:nvPr/>
        </p:nvPicPr>
        <p:blipFill>
          <a:blip r:embed="rId2"/>
          <a:stretch/>
        </p:blipFill>
        <p:spPr>
          <a:xfrm>
            <a:off x="4805280" y="1625760"/>
            <a:ext cx="37940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lide Number Placeholder 7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CC096A4C-E171-4F1B-A055-D1DB69E79540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8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61800" y="230040"/>
            <a:ext cx="86328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Стадион Луш 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Бенфика</a:t>
            </a:r>
            <a:r>
              <a:rPr b="0" lang="en-US" sz="2000" spc="-1" strike="noStrike">
                <a:solidFill>
                  <a:srgbClr val="36c746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Лисабон)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894200" y="4065480"/>
            <a:ext cx="410040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5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Снимка панорамна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96360" y="4065480"/>
            <a:ext cx="4178520" cy="1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5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Снимка от сектор 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61800" y="604800"/>
            <a:ext cx="8632800" cy="1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100" spc="-1" strike="noStrike">
                <a:solidFill>
                  <a:srgbClr val="42b4e6"/>
                </a:solidFill>
                <a:latin typeface="Arial"/>
              </a:rPr>
              <a:t>Пълен </a:t>
            </a:r>
            <a:r>
              <a:rPr b="0" lang="en-US" sz="1100" spc="-1" strike="noStrike">
                <a:solidFill>
                  <a:srgbClr val="42b4e6"/>
                </a:solidFill>
                <a:latin typeface="Arial"/>
              </a:rPr>
              <a:t>BMS </a:t>
            </a:r>
            <a:r>
              <a:rPr b="0" lang="bg-BG" sz="1100" spc="-1" strike="noStrike">
                <a:solidFill>
                  <a:srgbClr val="42b4e6"/>
                </a:solidFill>
                <a:latin typeface="Arial"/>
              </a:rPr>
              <a:t>- контрол на достъпа, осветление, климатизация и отопление, следене на присъствие, пожароизвестяване и др. </a:t>
            </a:r>
            <a:endParaRPr b="0" lang="en-US" sz="1100" spc="-1" strike="noStrike">
              <a:solidFill>
                <a:srgbClr val="626469"/>
              </a:solidFill>
              <a:latin typeface="Arial"/>
            </a:endParaRPr>
          </a:p>
        </p:txBody>
      </p:sp>
      <p:pic>
        <p:nvPicPr>
          <p:cNvPr id="974" name="Picture 7" descr="C:\Documents and Settings\All Users\Documents\schneider\réunion  avril\sources\121301ok.jpg"/>
          <p:cNvPicPr/>
          <p:nvPr/>
        </p:nvPicPr>
        <p:blipFill>
          <a:blip r:embed="rId1"/>
          <a:stretch/>
        </p:blipFill>
        <p:spPr>
          <a:xfrm>
            <a:off x="396720" y="1143000"/>
            <a:ext cx="3946680" cy="265572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975" name="Picture 6" descr="C:\Documents and Settings\All Users\Documents\schneider\réunion  avril\sources\121149ok.jpg"/>
          <p:cNvPicPr/>
          <p:nvPr/>
        </p:nvPicPr>
        <p:blipFill>
          <a:blip r:embed="rId2"/>
          <a:stretch/>
        </p:blipFill>
        <p:spPr>
          <a:xfrm>
            <a:off x="4894200" y="1143000"/>
            <a:ext cx="3997440" cy="26733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Slide Number Placeholder 9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3dcd58"/>
                </a:solidFill>
                <a:latin typeface="Arial"/>
              </a:rPr>
              <a:t>Page </a:t>
            </a:r>
            <a:fld id="{D6D73049-7374-4E8B-8124-8D6334D214EE}" type="slidenum">
              <a:rPr b="0" lang="en-US" sz="600" spc="-1" strike="noStrike">
                <a:solidFill>
                  <a:srgbClr val="3dcd58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ooter Placeholder 10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26469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252000" y="3943080"/>
            <a:ext cx="2678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5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Надеждно,съвременно електрозахранване, което може да осигури комуникация </a:t>
            </a:r>
            <a:r>
              <a:rPr b="0" lang="en-US" sz="800" spc="-1" strike="noStrike">
                <a:solidFill>
                  <a:srgbClr val="8e8f93"/>
                </a:solidFill>
                <a:latin typeface="Arial"/>
              </a:rPr>
              <a:t>BMS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title"/>
          </p:nvPr>
        </p:nvSpPr>
        <p:spPr>
          <a:xfrm>
            <a:off x="258840" y="230040"/>
            <a:ext cx="863280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36c746"/>
                </a:solidFill>
                <a:latin typeface="Arial"/>
              </a:rPr>
              <a:t>Основни стъпки по пътя на добрата автоматизация</a:t>
            </a:r>
            <a:endParaRPr b="0" lang="en-US" sz="2000" spc="-1" strike="noStrike">
              <a:solidFill>
                <a:srgbClr val="36c74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6192720" y="3943080"/>
            <a:ext cx="26784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5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Потребителски ориентирани и гъвкави софтуерни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232080" y="3943080"/>
            <a:ext cx="26798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58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Проектиране на </a:t>
            </a:r>
            <a:r>
              <a:rPr b="0" lang="en-US" sz="800" spc="-1" strike="noStrike">
                <a:solidFill>
                  <a:srgbClr val="8e8f93"/>
                </a:solidFill>
                <a:latin typeface="Arial"/>
              </a:rPr>
              <a:t>BMS </a:t>
            </a:r>
            <a:r>
              <a:rPr b="0" lang="bg-BG" sz="800" spc="-1" strike="noStrike">
                <a:solidFill>
                  <a:srgbClr val="8e8f93"/>
                </a:solidFill>
                <a:latin typeface="Arial"/>
              </a:rPr>
              <a:t>съобразено с архитектурата и топологията на основните системи на съоръжението</a:t>
            </a:r>
            <a:endParaRPr b="0" lang="en-US" sz="800" spc="-1" strike="noStrike">
              <a:solidFill>
                <a:srgbClr val="626469"/>
              </a:solidFill>
              <a:latin typeface="Arial"/>
            </a:endParaRPr>
          </a:p>
        </p:txBody>
      </p:sp>
      <p:pic>
        <p:nvPicPr>
          <p:cNvPr id="982" name="Picture 8" descr="C:\Documents and Settings\All Users\Documents\schneider\réunion  avril\sources\121158ok.jpg"/>
          <p:cNvPicPr/>
          <p:nvPr/>
        </p:nvPicPr>
        <p:blipFill>
          <a:blip r:embed="rId1"/>
          <a:stretch/>
        </p:blipFill>
        <p:spPr>
          <a:xfrm>
            <a:off x="252360" y="1203480"/>
            <a:ext cx="2678040" cy="25952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983" name="Picture 7" descr="C:\Documents and Settings\All Users\Documents\schneider\réunion  avril\sources\121185ok.jpg"/>
          <p:cNvPicPr/>
          <p:nvPr/>
        </p:nvPicPr>
        <p:blipFill>
          <a:blip r:embed="rId2"/>
          <a:stretch/>
        </p:blipFill>
        <p:spPr>
          <a:xfrm>
            <a:off x="6192720" y="1203480"/>
            <a:ext cx="2595600" cy="25952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984" name="Picture 18" descr="C:\Documents and Settings\All Users\Documents\schneider\réunion  avril\sources\Canon_P1300003ok.jpg"/>
          <p:cNvPicPr/>
          <p:nvPr/>
        </p:nvPicPr>
        <p:blipFill>
          <a:blip r:embed="rId3"/>
          <a:stretch/>
        </p:blipFill>
        <p:spPr>
          <a:xfrm>
            <a:off x="3232080" y="1203480"/>
            <a:ext cx="2679840" cy="25952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Placeholder 9" descr="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52360" y="2266560"/>
            <a:ext cx="8577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NK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9" descr="schneider_LIO_White_RGB.png"/>
          <p:cNvPicPr/>
          <p:nvPr/>
        </p:nvPicPr>
        <p:blipFill>
          <a:blip r:embed="rId2"/>
          <a:stretch/>
        </p:blipFill>
        <p:spPr>
          <a:xfrm>
            <a:off x="7105680" y="4521240"/>
            <a:ext cx="1906560" cy="506520"/>
          </a:xfrm>
          <a:prstGeom prst="rect">
            <a:avLst/>
          </a:prstGeom>
          <a:ln w="0">
            <a:noFill/>
          </a:ln>
        </p:spPr>
      </p:pic>
      <p:sp>
        <p:nvSpPr>
          <p:cNvPr id="988" name="Slide Number Placeholder 4"/>
          <p:cNvSpPr/>
          <p:nvPr/>
        </p:nvSpPr>
        <p:spPr>
          <a:xfrm>
            <a:off x="1747800" y="4812480"/>
            <a:ext cx="525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Page </a:t>
            </a:r>
            <a:fld id="{35450379-2BE4-47D4-A8C3-2D79393CD2BC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ooter Placeholder 5"/>
          <p:cNvSpPr/>
          <p:nvPr/>
        </p:nvSpPr>
        <p:spPr>
          <a:xfrm>
            <a:off x="252360" y="4857840"/>
            <a:ext cx="1509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Confidential Property of Schneider Electric |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14:04:27Z</dcterms:created>
  <dc:creator>Andree Fournier</dc:creator>
  <dc:description/>
  <dc:language>en-US</dc:language>
  <cp:lastModifiedBy>SESA37984</cp:lastModifiedBy>
  <dcterms:modified xsi:type="dcterms:W3CDTF">2015-09-30T06:52:49Z</dcterms:modified>
  <cp:revision>257</cp:revision>
  <dc:subject/>
  <dc:title>PowerPoint Presentation</dc:title>
</cp:coreProperties>
</file>