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ftr" idx="4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 type="sldNum" idx="4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A1541-B63E-41BF-B56F-53B1E062A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1F04A-679A-41F2-AC92-8FC84AB7F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965F7-A968-4D4B-8172-DBBD836B1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ECF4E-71ED-4155-9E77-005C4CDF6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30FE0-6599-4DB2-B2C5-4AC8CA075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A182E-48F2-47DF-8C11-A68711E9809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46D73-8E4D-4CB6-B4A2-934A529E74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62521-CED5-463C-ABC8-8028D799BAA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A35BB-428A-4434-8C09-C0401B786B9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73EE1-0BEE-4207-AB68-87FA330FED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3656E-C40F-49B3-9E18-8AEE3094DBF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57BF4-4D1A-4773-B484-F45B2EA73B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39EE9-A167-41BE-B6A1-E4277F028BF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BE1A4-468E-489E-A1FE-E30931386D1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A77501-292E-462E-B868-71A1B3F03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6A0CF-4242-40E0-85AF-FD416B51B42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67186A-5B72-4D46-9918-8A8A17F67DB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76F82D-C81D-4E38-8CA7-C012FC509EF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EEE573-FC01-4668-921A-BD926D45606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E6B609-3173-4528-B242-1D8072A705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9E1FDE-FF40-4907-88E5-0E87B5932DA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AE7377-EAC3-49B6-A4AD-E6E502A180C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B9FE7-07A2-40E8-806D-A8837B8D34B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DA08CB-6194-4D99-9140-DDA06D5052B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74264B-4E8A-493E-9F5A-5A106D014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E5550F-BB13-484C-8EBC-A4E556E56EF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8B31-3421-491A-94E2-DE2BF5503A0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54FAF-DAC6-4D04-8D2D-AA7C9D87771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05FBD-F5BE-408B-B701-644864B9026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69EF-77D1-40D7-8959-A8869DDA777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E775B-B7AB-4113-BA22-EDFDA9404E7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5F26F-49C4-4CB6-A957-0424979B07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A9230-D71F-4EF4-8797-1B0FDDCC38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9DF79-26EB-43B1-A827-7C8C2F2836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4F8C3-D228-4335-A178-FD17E07A1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91D4-760B-4B54-B0B3-09D77D839F1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13A2B-4DBA-43D5-A4A0-082253024ED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CC8AF-D948-4BB6-8A23-4F0F996BE9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797F2-F038-4C9A-982D-1266BC1104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6FD40-00AF-47EA-BFC0-670F91F7F1B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7567B-C067-447D-AE66-2AAB7BDD479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A3788-EE28-4E37-870F-6606CBE675B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14EEF-81F3-4730-ADDE-3DC634F7CDF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CFDC5-17C8-4B2D-A360-D14E5CB216B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162DD-0230-4CFC-951E-F85BC72EE0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085BC-E4AB-40C4-9D6A-3B2F8E6EBA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C00B-ADEB-4D3C-9AA7-2EFCE1DD31B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2BA69-F96D-431F-B333-94232175B56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ADC1A-6601-4AF0-A27C-EDA81AB9DB7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89CAC-67BB-40FE-A2BD-F074291F8C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7C8D2-6279-4FEB-8387-391FE11B4AC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89AD8-1FC5-4E47-A8F8-8451E63140F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503294-3889-41BA-92B5-79F1CD7D284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C150D7-F487-4996-A0FD-0312EC42E26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FAA297-9B19-40BD-A90F-57EBCEDB8A7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B45B3-8156-4739-8EBE-B3A0A59B133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4A789E-99F1-4374-BB95-839BF5ACB4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3917-8CFE-430C-9CF3-E485F5FAEF9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50A7CF-029A-4A77-A28B-AD25FD4167F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3A2132-EE8E-4056-B97B-089DA901BF0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EF6330-A877-4152-8CBB-F9C76B8D161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EE85EE-5960-4368-93CB-92C41F4DA05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4E3CBE-ED81-42A2-BA17-2950480193A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23F536-7F99-4500-9F67-BD3B2E37EF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CD2C92-3CA2-4C2A-9C26-02F1872991D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C8795-5074-4844-AA85-FE466C4DC0B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9ED08-FDB1-4B0F-9AE2-5CD2CE83500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16ADB-4595-4EFD-8CA9-A0AC8933EE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5D25-5BD8-4F09-B63B-69F0D4A1D3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37C2E-8A65-4B9F-BCAC-8FDFFA471A2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865DC-10B5-43F4-8880-759A9CF5FF1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5185E-6EBC-4B8F-90DB-77DBF910CB7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377E8-8864-4855-86D2-6DB05CD99DA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65AC5-44C8-40DC-927A-15BE015553C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A9AD8-632C-4BF6-A98B-56D15FE9054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65B6F-9BE2-4DBA-8A94-8D1B20CBC3F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28DA-8260-4648-8460-0989F5D61F9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591DF-F804-4832-82CA-A0EBFA0C075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88E5E-AB26-4131-825A-B2DF908CBF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8C47-068B-49A1-B904-3879322173D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AB64EF-5557-4119-B9EA-12EE29362D5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249B26-E0E1-42FE-991F-80B9E14BC42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550700-238B-4A0E-B693-CE57CF74C21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D100D-1043-4115-8DB3-274FF9F4007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EBB44-1A42-4C04-8850-EBDC83D2BA7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CC1511-CAA1-4727-AD77-B599C8648A8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45DB3B-A784-4D7C-BF27-651E0F0AEC7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40B9EA-762A-4CE5-948A-2BACE2EDFD2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3E262D-9984-41D7-ACC9-BD4D9C931F6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E93320-55AE-4D0B-BC34-BEADFDCEFA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A834-37E2-427C-A0D0-F0520EF34B5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B540F-2133-4DE8-ADC7-C4B14B92DE2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860C5-FB44-4644-AAF2-A60B6BEF681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8C35D-8191-49ED-B637-B4D8C1213DD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38D68-4707-40E3-91A0-96D91700603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1466B-B2AD-4980-9ACE-50D129F797C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8A96C-C957-49F1-BB19-2CB86AE4EF8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EA5DC-B6B2-4BC0-822D-9CC0750DDE3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25719-F98B-4E89-B458-274A638FB55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200C9-0275-4521-A7A0-8AFB3933BAB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80202-5A84-4DD7-BF33-0E8FB9A77A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BBA2-D91E-46B5-A03B-BE5523CFCCB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14CD2-1AA5-4D61-97B5-3613FA4EB03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430D3-29F5-404F-930F-AE0369C898F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89116-81B5-449C-8E1A-DE84E55A5A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8A2AC-EFF4-481A-9124-C1A7CC32A3A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5E47C-A02D-48C6-9A86-3A78FE2EA78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16973-EC18-4288-A696-E3985D0F264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669B1-3939-4D8C-9231-AF04EC04116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9532F-1CB5-4C25-A243-ABFE5053BCC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B1966-A009-49D8-B5F4-C33A3FD6211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5CF8A-DB90-49D3-870D-E712C9C65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8B45-911D-426D-9B93-551855C6306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5E035-B620-4303-B14E-CAC10F1DE80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70717-4CC1-4F08-88E7-7E8642959F3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0F2C5-E792-4FA1-904F-3CE54DCA68C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84752-D077-464E-A3C5-0EA5A0059CF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07EC1-CAD5-45A8-BB92-F0C87871ED1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A4AEC6-4767-429E-A602-C2F04A768EB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323737-3E72-4ACB-88EF-F7668ACFF01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21D0AB-E79E-42B3-96B2-FE0695C646B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9E4CDB-B89D-47B5-AF8D-CBFF96AF36C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A235AB-D611-4F5F-9447-CF685275E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8EF0-7AB7-4BE4-AFEA-9E696192D3C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E059EE-04D8-4720-8C03-A501006CFD6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38A55B-2F45-4C86-B0F2-9C5F91BB0AF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CCC411-3110-4831-91FB-921E4B26AB0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62D30E-734E-4478-B9B7-AA02C45E1E2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00DF58-2C81-4FCA-A495-4FA5F95DC2D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A7BE15-2CF2-44D3-BF95-6E9B961A344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F7C5F5-112B-4B0C-A197-3B80C6BB441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46C17-5EDA-4C2C-A197-0F1D5F41067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1FFE6-4639-47E6-892D-2B07074FC63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2599F-D01C-4CF6-9ABC-6D0000E3CF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3EE9-37DA-4AAA-807A-68D0FD1763E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A6548-18FF-49F3-A91B-48BD4172980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83A6C-04C2-4589-8210-12A6463D074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7804C-FDCB-452F-AFFA-B92692212B8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A259A-25B2-46D0-916C-917C0AE8FFE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54426-9EFE-4CF9-80AD-89C5FE7C4C3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8D255-8AB0-41AB-92F6-B0F910EA7BA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43EBF-0AB7-4093-8B30-18C9A8E97DF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1EEC3-68B2-483E-AD33-8B20075EFBD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21DE4-2C6A-4862-98BE-ED2D2FDF93E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EDBA-5556-4C11-8A27-973A5E42D9D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01CF-0A3C-4666-A1AA-8292C5ACA0D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29116-B3DD-4ACA-8062-1AB53FAABF4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AD17D-B382-4A3F-A3D9-718743E6636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C84A7-D5E5-488D-BC8E-6B41CD729CA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2B04B-6878-49CD-8FD5-077175EB206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B3F48-DA8A-456F-A58B-C5718F9FB9D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AFB5B-1F77-4939-9962-4B2CD38880A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BE2CD-969C-4160-AF9B-35118AA6699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D31A0-7FF1-4172-ADBF-5A5983E7C7C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B7D53-D78C-4C16-8DE2-481914F7A7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85EBA-0CF8-425D-96E5-BB98EBDA74B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3897B-2163-4ED6-A7F5-DBAEEDF660C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D53F6-6B42-4CDE-8549-37D6EDC14BC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666FF0-744F-479E-8A17-5FC1189EC0C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9D2453-B314-49B8-8BF1-F14F8E39649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2AB410-E814-4C7D-BF15-2C0E1E99F46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B25516-E8DE-4B6A-9739-807F3D17F55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4136E5-F97C-43E2-9F2A-8F189E08F46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958D3F-BA1B-4253-A7C2-15AD9E05481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D4F68F-5000-4485-BF5B-6B14AEA45A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4C82D8-50CA-459D-BDBC-B16AB54BEA1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3428D6-DC3C-41AE-987B-863F549B70C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9B3971-4DC0-4984-99CB-E3CC81A5CB8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419CB2-1408-49E6-90FF-D78384FDCDB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BF329F-63E2-4FB7-9733-F7BA678D27E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5F89BA-5D36-4ED3-AAAD-710335FB6B4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F44987-B945-4B48-A8D5-7A329D790FF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6EE0A4-3104-45C4-8C70-0855590217F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72708D-99A0-43A3-8C8A-8B23A0404FF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749FEA-C31D-4BC1-9BAB-CD23FB451F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6EEFC4-2381-4878-B1B2-F506E8E17CC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C1AF1C-368E-457C-9B62-1A16A80A998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E8D8F4-6574-48D4-8DE0-3FB17735CD3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2427A4-E305-4F79-835A-EB25E0290BC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95729C-5173-4C61-8960-A91F23B92A1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672A73-2F14-4E4A-9444-A64484DCD55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5DE257-4CEB-467D-A103-DCA6D00DE1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A7B09-E9FF-4783-AE15-FA1F9D5053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AF2F3-1111-43DB-9780-1B32A5C7C9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1B5E3-058A-479C-94A1-9049F545E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DAD32-1670-4A93-A348-B19FD81781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091CF-A25D-4094-88D3-6F157A454E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62DAA-2951-4CC5-80AC-B449057ACD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E721A-3338-4899-9966-B7669557B9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41877-DB1F-4C88-948C-C320BA17E8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CE558-E23C-4E42-8D6B-6242082813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0EADE-428B-44D7-9AC5-16B33D1B14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2D67E-6AF0-4C31-9760-E53AB8B52E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6F176-9966-4BCA-8EE1-A54577AA5A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6967-59B9-46F4-8DE7-3317947B3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63BD-C97C-47D3-A7A6-2CA160D338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DB47-C425-4F11-8652-A0635FA2F6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8925-A2DA-40D0-BF08-B75827BC10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D839-A156-4545-9F0A-6A37DDF271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49B7-F12A-4C11-B16E-AECFABD174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E087-7EDA-4902-BD7D-4E1A8B7F7C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75B8-C55C-446F-8792-940E97A3F45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76E9-7465-4376-8307-B32C92FC9F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1639-8EB8-493C-A857-AD04D63A1C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2C8E-5F39-47BA-A7A3-4B5251704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2DE7-20E5-480B-8AD0-F1351DAE550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54168-6B9D-41CE-9708-8DC0693467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1408B-267F-4703-99AF-2E28131D7EE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BB6B4-BF0D-4E41-900B-DA99937CF3D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6C9EF-A564-4A27-942F-05E3783704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73E1B-E2F4-4DB5-9DB0-88F767A0D8D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9F481-EAA0-403F-8961-B2A2B5DB9F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2AA18-2CA6-4ED4-842C-32F3E098CB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80511-1D01-4DE7-B175-1F585D7E62D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293B0-708D-40DE-A410-86E4FE221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4E33A-CCA4-46E3-B942-5C1BDB23C1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CDC9D-B0F9-48B5-B380-0F2D703226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0DE42-438E-4DF5-9AB8-B1FFF049FFE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01B3D6-D456-4C46-B3F7-B77AFCE9E9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DA970E-1E50-4612-8261-2EA8B5AAE64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BC122-8D4E-4924-954A-A88BD1A753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3A7B4-2501-4E3C-ADEC-BE4BDEA0232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66D93-4081-49D2-877F-883E71047CB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8F3D2-3A8D-4B5C-B5A2-754741F2E72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EEF3A-4A08-4681-A47A-A34ADAF86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B557D-EB52-46F2-B51E-A8E30EDDCE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9A438-E464-48E2-9EC3-A09BD0DD35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E0E61-2373-4236-9F4D-9B60122262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C013C-7957-41DB-BDB6-65A79FB549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60052-CB20-4E44-8D72-3A3E36EAAE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BB07-A8B0-49EB-A822-5CC80E30D9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E7A7-F392-41CC-858B-557A4DA70F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A5AEF-6910-44FB-8BB8-95BC7314970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D76D5-C00D-4ABF-B0D2-A3316ECF2D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20400-DAB8-401C-9C06-23AC5B84F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4399-855D-4D30-986E-7770E35DDC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A7E0-A6EC-4C7A-8E9E-5ECF328361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B469-C542-4C8B-98CD-F3A033F15DC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FF3B5-9F4F-42A0-BCE7-88077A0EEA3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3B01-F99B-49BC-9563-AAC606C468A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F7F8-281D-426A-9E96-C857CE644BA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7E66-F1F7-49F5-B21A-913A8A2842C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636C9-CBC4-4F6D-ABF1-621852A4784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DFD5A-AD4C-4EC7-A2F7-5C9D33B861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8B727-EAB3-42C4-8606-03234D4D7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ldNum" idx="16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61EC6630-29B9-44A0-96FC-DD8C70DA8DC2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ftr" idx="17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ldNum" idx="18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AB50CF0E-A8B9-4373-A9AF-C102F7EB97E2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ftr" idx="19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ldNum" idx="20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48013B6E-FB01-431D-AA1D-7687BD3CF440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ftr" idx="21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c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schneider_LIO_White_RGB.png"/>
          <p:cNvPicPr/>
          <p:nvPr/>
        </p:nvPicPr>
        <p:blipFill>
          <a:blip r:embed="rId2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sldNum" idx="22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7C029368-87C7-44DC-9339-5663392AB3B6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ftr" idx="23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Weave_175139600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ldNum" idx="24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DA2E8E56-697B-4E26-B4E8-EC4C564AF210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25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Weave_463028807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sldNum" idx="26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15772686-637A-454F-A528-374B348458E1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ftr" idx="27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"/>
          <p:cNvSpPr/>
          <p:nvPr/>
        </p:nvSpPr>
        <p:spPr>
          <a:xfrm>
            <a:off x="1674720" y="4851360"/>
            <a:ext cx="8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Weave_486603441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595" name="Slide Number Placeholder 5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Page </a:t>
            </a:r>
            <a:fld id="{2A854375-7B5D-452B-A312-7CF8A592C7E5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Num" idx="28"/>
          </p:nvPr>
        </p:nvSpPr>
        <p:spPr>
          <a:xfrm>
            <a:off x="1761840" y="4812480"/>
            <a:ext cx="52524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3C516AD4-3633-4EA0-BDB5-268B704B4B72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29"/>
          </p:nvPr>
        </p:nvSpPr>
        <p:spPr>
          <a:xfrm>
            <a:off x="252000" y="4857840"/>
            <a:ext cx="15051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Weave_522513175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sldNum" idx="30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2C3A408B-E6CE-4919-A341-BC3A11AFF829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ftr" idx="31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1" descr="Weave_522794209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sldNum" idx="32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F6D24B4F-AD1A-45FD-9BDA-564044FDC4F5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ftr" idx="33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Weave_528351183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sldNum" idx="34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FF650F87-152C-44BF-86A5-22DC09841353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ftr" idx="35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c74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c746"/>
              </a:solidFill>
              <a:latin typeface="Arial"/>
            </a:endParaRPr>
          </a:p>
        </p:txBody>
      </p:sp>
      <p:pic>
        <p:nvPicPr>
          <p:cNvPr id="37" name="Picture 9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252360" y="1203480"/>
            <a:ext cx="86392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1360" indent="-1555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1" marL="177480" indent="26568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2" marL="355320" indent="9720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3" marL="712080" indent="-1778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4" marL="887760" indent="-1832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5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6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A8F2D628-0C0D-4DD8-A52B-378013BB3725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c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1" descr="schneider_LIO_White_RGB.png"/>
          <p:cNvPicPr/>
          <p:nvPr/>
        </p:nvPicPr>
        <p:blipFill>
          <a:blip r:embed="rId2"/>
          <a:stretch/>
        </p:blipFill>
        <p:spPr>
          <a:xfrm>
            <a:off x="2732040" y="2065320"/>
            <a:ext cx="3679920" cy="101268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9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798" name="Straight Connector 6"/>
          <p:cNvSpPr/>
          <p:nvPr/>
        </p:nvSpPr>
        <p:spPr>
          <a:xfrm>
            <a:off x="6013440" y="1203480"/>
            <a:ext cx="0" cy="2985840"/>
          </a:xfrm>
          <a:prstGeom prst="line">
            <a:avLst/>
          </a:prstGeom>
          <a:ln cap="rnd" w="324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c74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252360" y="1203480"/>
            <a:ext cx="86392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1360" indent="-1555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1" marL="177480" indent="26568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2" marL="355320" indent="9720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3" marL="712080" indent="-1778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4" marL="887760" indent="-1832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5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6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36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911D6855-11CC-4C68-B5C3-5BD3E3096852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7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9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840" name="Straight Connector 6"/>
          <p:cNvSpPr/>
          <p:nvPr/>
        </p:nvSpPr>
        <p:spPr>
          <a:xfrm>
            <a:off x="4613400" y="1203480"/>
            <a:ext cx="0" cy="2985840"/>
          </a:xfrm>
          <a:prstGeom prst="line">
            <a:avLst/>
          </a:prstGeom>
          <a:ln cap="rnd" w="324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c74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252360" y="1203480"/>
            <a:ext cx="86392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1360" indent="-1555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1" marL="177480" indent="26568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2" marL="355320" indent="9720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3" marL="712080" indent="-1778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4" marL="887760" indent="-1832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5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6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sldNum" idx="38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431487D1-FDFC-4309-B840-2377D78462E1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39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9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882" name="Straight Connector 6"/>
          <p:cNvSpPr/>
          <p:nvPr/>
        </p:nvSpPr>
        <p:spPr>
          <a:xfrm>
            <a:off x="3086280" y="1203480"/>
            <a:ext cx="0" cy="2985840"/>
          </a:xfrm>
          <a:prstGeom prst="line">
            <a:avLst/>
          </a:prstGeom>
          <a:ln cap="rnd" w="324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6054840" y="1203480"/>
            <a:ext cx="0" cy="2985840"/>
          </a:xfrm>
          <a:prstGeom prst="line">
            <a:avLst/>
          </a:prstGeom>
          <a:ln cap="rnd" w="324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c74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252360" y="1203480"/>
            <a:ext cx="86392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1360" indent="-1555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1" marL="177480" indent="26568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2" marL="355320" indent="9720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3" marL="712080" indent="-1778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4" marL="887760" indent="-1832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5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6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40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758EE109-3884-4191-8DDB-AA414AD84659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1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 flipV="1">
            <a:off x="0" y="3711240"/>
            <a:ext cx="9144000" cy="674640"/>
          </a:xfrm>
          <a:prstGeom prst="rect">
            <a:avLst/>
          </a:prstGeom>
          <a:solidFill>
            <a:srgbClr val="3dcd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4386240"/>
            <a:ext cx="9144000" cy="108000"/>
          </a:xfrm>
          <a:prstGeom prst="rect">
            <a:avLst/>
          </a:prstGeom>
          <a:solidFill>
            <a:srgbClr val="3dc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ftr" idx="3"/>
          </p:nvPr>
        </p:nvSpPr>
        <p:spPr>
          <a:xfrm>
            <a:off x="252000" y="4857840"/>
            <a:ext cx="15051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4f51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4f5156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ldNum" idx="4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AE133A0D-2AB2-4EDB-B3AD-F92BCEEC3116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6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DBCBBDDF-02A7-41B9-A6A3-12B0A8FD40A5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7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2"/>
          <a:stretch/>
        </p:blipFill>
        <p:spPr>
          <a:xfrm>
            <a:off x="7124760" y="4602240"/>
            <a:ext cx="1801800" cy="446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ldNum" idx="8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7CEA4EA5-3261-40D0-98B4-55FCE36F0885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9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 rot="5400000">
            <a:off x="-287280" y="242640"/>
            <a:ext cx="5143680" cy="4657680"/>
          </a:xfrm>
          <a:prstGeom prst="rect">
            <a:avLst/>
          </a:prstGeom>
          <a:solidFill>
            <a:srgbClr val="3dc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10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90A4450D-5B82-464A-96A2-0E44FE9BA502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1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 rot="5400000">
            <a:off x="1854360" y="2385000"/>
            <a:ext cx="5143680" cy="373320"/>
          </a:xfrm>
          <a:prstGeom prst="rect">
            <a:avLst/>
          </a:prstGeom>
          <a:solidFill>
            <a:srgbClr val="3dc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ldNum" idx="12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798E1E59-06D6-4A2B-A633-4EECB670089D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ftr" idx="13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ldNum" idx="14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2F3D9567-3596-47C5-8DCE-16EF29C30EEC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5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6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Placeholder 5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9144000" cy="438156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8"/>
          <p:cNvSpPr/>
          <p:nvPr/>
        </p:nvSpPr>
        <p:spPr>
          <a:xfrm>
            <a:off x="0" y="1539720"/>
            <a:ext cx="9144000" cy="217188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2000" y="1963440"/>
            <a:ext cx="8891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Автоматизация на спортни съоръ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"/>
          <p:cNvSpPr/>
          <p:nvPr/>
        </p:nvSpPr>
        <p:spPr>
          <a:xfrm flipV="1">
            <a:off x="0" y="3711240"/>
            <a:ext cx="9144000" cy="674640"/>
          </a:xfrm>
          <a:prstGeom prst="rect">
            <a:avLst/>
          </a:prstGeom>
          <a:solidFill>
            <a:srgbClr val="3dcd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2360" y="3954240"/>
            <a:ext cx="4361040" cy="1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ed by: </a:t>
            </a:r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Радослава Рад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ooter Placeholder 7"/>
          <p:cNvSpPr/>
          <p:nvPr/>
        </p:nvSpPr>
        <p:spPr>
          <a:xfrm>
            <a:off x="252360" y="4857840"/>
            <a:ext cx="1505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4f5156"/>
                </a:solidFill>
                <a:latin typeface="Arial"/>
              </a:rPr>
              <a:t>Confidential Property of Schneider Electr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lide Number Placeholder 5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653DBC2A-813A-48D4-9175-9CCEFEFE6655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ooter Placeholder 6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Автоматизацията - специално решение или необходимост ?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252360" y="884160"/>
            <a:ext cx="8639280" cy="26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Отчитайки нуждите на съвременният век, масовата дигитализация и все по-голямата нужда от алтернативна енергия, “умното” управление се превръща в необходимост...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Какво ни дава сградната автоматизация?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76777c"/>
                </a:solidFill>
                <a:latin typeface="Arial"/>
              </a:rPr>
              <a:t>Сигурност за хора и имущество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626469"/>
                </a:solidFill>
                <a:latin typeface="Arial"/>
              </a:rPr>
              <a:t>Свобода и гъвкавост при управлението на ресурси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626469"/>
                </a:solidFill>
                <a:latin typeface="Arial"/>
              </a:rPr>
              <a:t>Подробна информация и пълен контрол над отделните подсистеми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626469"/>
                </a:solidFill>
                <a:latin typeface="Arial"/>
              </a:rPr>
              <a:t>Енергийна ефективност като резултат от синхронизирането на подсистемите в сградата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626469"/>
                </a:solidFill>
                <a:latin typeface="Arial"/>
              </a:rPr>
              <a:t>Повишаване на себестойността на спортното съоръжение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FEF1E663-708F-4226-A881-CB00BB287D6E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Стадион Маракана (Рио Де Жанейро)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58480" y="727200"/>
            <a:ext cx="548172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3160" indent="-15732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Обхват на сградния мениджмънт: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контрол и управление на </a:t>
            </a: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36 000 променливи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 позволяващи намаляване на потребена на енергия с над 35 %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Осветление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– над 3000 осветителни тела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Климатизация и вентилация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Вътрешен транспорт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- 17 асансьора, 12 ескалатора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Слънцезащитна система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– управление спрямо метеорологичните условия или по зададени настройки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299f3f"/>
                </a:solidFill>
                <a:latin typeface="Arial"/>
              </a:rPr>
              <a:t>Други системи - </a:t>
            </a:r>
            <a:r>
              <a:rPr b="0" lang="ru-RU" sz="1400" spc="-1" strike="noStrike">
                <a:solidFill>
                  <a:srgbClr val="626469"/>
                </a:solidFill>
                <a:latin typeface="Arial"/>
              </a:rPr>
              <a:t>за контрол на достъпа, противопожарната система, видеонаблюдение, генератори, UPS-и.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Интегриран Енергиен мениджмънт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– м</a:t>
            </a:r>
            <a:r>
              <a:rPr b="0" lang="ru-RU" sz="1400" spc="-1" strike="noStrike">
                <a:solidFill>
                  <a:srgbClr val="626469"/>
                </a:solidFill>
                <a:latin typeface="Arial"/>
              </a:rPr>
              <a:t>ониторинг на консумацията на енергия в реално време, оптимизация на потребената енергията,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следене и отчитане на повече от 500 измервателни и защитни устройства.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45" name="Picture 14" descr="stadion_marakana_v_rio-de-zhaneyro_braziliya.jpg"/>
          <p:cNvPicPr/>
          <p:nvPr/>
        </p:nvPicPr>
        <p:blipFill>
          <a:blip r:embed="rId1"/>
          <a:stretch/>
        </p:blipFill>
        <p:spPr>
          <a:xfrm>
            <a:off x="6086520" y="1487520"/>
            <a:ext cx="3057480" cy="217800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609880" y="3998880"/>
            <a:ext cx="328140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Стадион Маракана (Рио Де Жанейро) панорама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794F3AC1-815A-4860-A68E-0A4CB5C2E52F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90120" y="230040"/>
            <a:ext cx="86346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Работа в реално време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791240" y="4065480"/>
            <a:ext cx="410040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Графично представяне в софтуера за управление на съоръжението</a:t>
            </a:r>
            <a:r>
              <a:rPr b="0" lang="en-US" sz="800" spc="-1" strike="noStrike">
                <a:solidFill>
                  <a:srgbClr val="8e8f9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51" name="Text Placeholder 6"/>
          <p:cNvSpPr/>
          <p:nvPr/>
        </p:nvSpPr>
        <p:spPr>
          <a:xfrm>
            <a:off x="4791240" y="1022400"/>
            <a:ext cx="41716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90120" y="604800"/>
            <a:ext cx="863460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Отдалечено наблюдение и управление</a:t>
            </a:r>
            <a:r>
              <a:rPr b="0" lang="en-US" sz="1100" spc="-1" strike="noStrike">
                <a:solidFill>
                  <a:srgbClr val="42b4e6"/>
                </a:solidFill>
                <a:latin typeface="Arial"/>
              </a:rPr>
              <a:t>, </a:t>
            </a: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персонализирана визуализация, графично представяне </a:t>
            </a:r>
            <a:endParaRPr b="0" lang="en-US" sz="11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53" name="Picture 6" descr="C:\Documents and Settings\All Users\Documents\schneider\réunion  avril\sources\121181ok.jpg"/>
          <p:cNvPicPr/>
          <p:nvPr/>
        </p:nvPicPr>
        <p:blipFill>
          <a:blip r:embed="rId1"/>
          <a:srcRect l="6722" t="8617" r="6722" b="8617"/>
          <a:stretch/>
        </p:blipFill>
        <p:spPr>
          <a:xfrm>
            <a:off x="5072040" y="1235160"/>
            <a:ext cx="3600360" cy="248292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sp>
        <p:nvSpPr>
          <p:cNvPr id="954" name="Text Placeholder 4"/>
          <p:cNvSpPr/>
          <p:nvPr/>
        </p:nvSpPr>
        <p:spPr>
          <a:xfrm>
            <a:off x="690480" y="4067280"/>
            <a:ext cx="26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Визуализация на операторската станц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7" descr="C:\Documents and Settings\All Users\Documents\schneider\réunion  avril\sources\121183ok.jpg"/>
          <p:cNvPicPr/>
          <p:nvPr/>
        </p:nvPicPr>
        <p:blipFill>
          <a:blip r:embed="rId2"/>
          <a:stretch/>
        </p:blipFill>
        <p:spPr>
          <a:xfrm>
            <a:off x="690480" y="1263600"/>
            <a:ext cx="3424320" cy="245592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B9374976-3F9D-4E07-B03A-A4EEE45DE39E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Фишт стадион 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Сочи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Русия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58840" y="604440"/>
            <a:ext cx="863280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Управление на отговорни съоръжения и агрегати - механизирана покривна конструкция, бърза приспособимост /зимен-летен режим/, интегриран енергиен мениджмънт, надеждно електрозахранване</a:t>
            </a:r>
            <a:endParaRPr b="0" lang="en-US" sz="11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60" name="Picture 2" descr="C:\Users\SESA367731\Desktop\92_82567771426937_1.jpg"/>
          <p:cNvPicPr/>
          <p:nvPr/>
        </p:nvPicPr>
        <p:blipFill>
          <a:blip r:embed="rId1"/>
          <a:stretch/>
        </p:blipFill>
        <p:spPr>
          <a:xfrm>
            <a:off x="252360" y="1143000"/>
            <a:ext cx="4152960" cy="2673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C:\Users\SESA367731\Desktop\Sochi_olimpic_stadium.jpg"/>
          <p:cNvPicPr/>
          <p:nvPr/>
        </p:nvPicPr>
        <p:blipFill>
          <a:blip r:embed="rId2"/>
          <a:stretch/>
        </p:blipFill>
        <p:spPr>
          <a:xfrm>
            <a:off x="4749840" y="1143000"/>
            <a:ext cx="3879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7E9ECF82-8AAF-47BF-A00A-EFF1A5AACCCD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11200" y="1634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Стадион “Гнездото”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Пекин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11200" y="537840"/>
            <a:ext cx="86328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42b4e6"/>
                </a:solidFill>
                <a:latin typeface="Arial"/>
              </a:rPr>
              <a:t>Автоматизирано управление на сложна осветителна система от 14 400 компонента </a:t>
            </a:r>
            <a:br>
              <a:rPr sz="1100"/>
            </a:br>
            <a:r>
              <a:rPr b="0" lang="ru-RU" sz="1100" spc="-1" strike="noStrike">
                <a:solidFill>
                  <a:srgbClr val="42b4e6"/>
                </a:solidFill>
                <a:latin typeface="Arial"/>
              </a:rPr>
              <a:t>Отворена система с възможност за интегриране с останалите сградни системи  /стандарт KNX/ </a:t>
            </a:r>
            <a:br>
              <a:rPr sz="1100"/>
            </a:br>
            <a:endParaRPr b="0" lang="en-US" sz="11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66" name="Picture 2" descr="C:\Users\SESA37984\Desktop\556-a (1).jpg"/>
          <p:cNvPicPr/>
          <p:nvPr/>
        </p:nvPicPr>
        <p:blipFill>
          <a:blip r:embed="rId1"/>
          <a:stretch/>
        </p:blipFill>
        <p:spPr>
          <a:xfrm>
            <a:off x="568440" y="1609560"/>
            <a:ext cx="3787560" cy="2571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" descr="C:\Users\SESA37984\Desktop\camp-nou.jpg"/>
          <p:cNvPicPr/>
          <p:nvPr/>
        </p:nvPicPr>
        <p:blipFill>
          <a:blip r:embed="rId2"/>
          <a:stretch/>
        </p:blipFill>
        <p:spPr>
          <a:xfrm>
            <a:off x="4805280" y="1625760"/>
            <a:ext cx="37940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817AC6C8-B4FB-41DF-A515-F7D28005C0E5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180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Стадион Луш 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Бенфика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Лисабон)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894200" y="4065480"/>
            <a:ext cx="410040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Снимка панорамна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96360" y="4065480"/>
            <a:ext cx="417852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Снимка от сектор 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1800" y="604800"/>
            <a:ext cx="863280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Пълен </a:t>
            </a:r>
            <a:r>
              <a:rPr b="0" lang="en-US" sz="1100" spc="-1" strike="noStrike">
                <a:solidFill>
                  <a:srgbClr val="42b4e6"/>
                </a:solidFill>
                <a:latin typeface="Arial"/>
              </a:rPr>
              <a:t>BMS </a:t>
            </a: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- контрол на достъпа, осветление, климатизация и отопление, следене на присъствие, пожароизвестяване и др. </a:t>
            </a:r>
            <a:endParaRPr b="0" lang="en-US" sz="11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74" name="Picture 7" descr="C:\Documents and Settings\All Users\Documents\schneider\réunion  avril\sources\121301ok.jpg"/>
          <p:cNvPicPr/>
          <p:nvPr/>
        </p:nvPicPr>
        <p:blipFill>
          <a:blip r:embed="rId1"/>
          <a:stretch/>
        </p:blipFill>
        <p:spPr>
          <a:xfrm>
            <a:off x="396720" y="1143000"/>
            <a:ext cx="3946680" cy="265572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975" name="Picture 6" descr="C:\Documents and Settings\All Users\Documents\schneider\réunion  avril\sources\121149ok.jpg"/>
          <p:cNvPicPr/>
          <p:nvPr/>
        </p:nvPicPr>
        <p:blipFill>
          <a:blip r:embed="rId2"/>
          <a:stretch/>
        </p:blipFill>
        <p:spPr>
          <a:xfrm>
            <a:off x="4894200" y="1143000"/>
            <a:ext cx="3997440" cy="2673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9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DDB1D866-D8F3-4A2C-8EBB-675C813C24A7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ooter Placeholder 10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252000" y="3943080"/>
            <a:ext cx="2678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Надеждно,съвременно електрозахранване, което може да осигури комуникация </a:t>
            </a:r>
            <a:r>
              <a:rPr b="0" lang="en-US" sz="800" spc="-1" strike="noStrike">
                <a:solidFill>
                  <a:srgbClr val="8e8f93"/>
                </a:solidFill>
                <a:latin typeface="Arial"/>
              </a:rPr>
              <a:t>BMS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Основни стъпки по пътя на добрата автоматизация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192720" y="3943080"/>
            <a:ext cx="26784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Потребителски ориентирани и гъвкави софтуерни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232080" y="3943080"/>
            <a:ext cx="26798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Проектиране на </a:t>
            </a:r>
            <a:r>
              <a:rPr b="0" lang="en-US" sz="800" spc="-1" strike="noStrike">
                <a:solidFill>
                  <a:srgbClr val="8e8f93"/>
                </a:solidFill>
                <a:latin typeface="Arial"/>
              </a:rPr>
              <a:t>BMS </a:t>
            </a: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съобразено с архитектурата и топологията на основните системи на съоръжението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82" name="Picture 8" descr="C:\Documents and Settings\All Users\Documents\schneider\réunion  avril\sources\121158ok.jpg"/>
          <p:cNvPicPr/>
          <p:nvPr/>
        </p:nvPicPr>
        <p:blipFill>
          <a:blip r:embed="rId1"/>
          <a:stretch/>
        </p:blipFill>
        <p:spPr>
          <a:xfrm>
            <a:off x="252360" y="1203480"/>
            <a:ext cx="2678040" cy="25952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983" name="Picture 7" descr="C:\Documents and Settings\All Users\Documents\schneider\réunion  avril\sources\121185ok.jpg"/>
          <p:cNvPicPr/>
          <p:nvPr/>
        </p:nvPicPr>
        <p:blipFill>
          <a:blip r:embed="rId2"/>
          <a:stretch/>
        </p:blipFill>
        <p:spPr>
          <a:xfrm>
            <a:off x="6192720" y="1203480"/>
            <a:ext cx="2595600" cy="25952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984" name="Picture 18" descr="C:\Documents and Settings\All Users\Documents\schneider\réunion  avril\sources\Canon_P1300003ok.jpg"/>
          <p:cNvPicPr/>
          <p:nvPr/>
        </p:nvPicPr>
        <p:blipFill>
          <a:blip r:embed="rId3"/>
          <a:stretch/>
        </p:blipFill>
        <p:spPr>
          <a:xfrm>
            <a:off x="3232080" y="1203480"/>
            <a:ext cx="2679840" cy="25952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Placeholder 9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52360" y="2266560"/>
            <a:ext cx="8577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schneider_LIO_White_RGB.png"/>
          <p:cNvPicPr/>
          <p:nvPr/>
        </p:nvPicPr>
        <p:blipFill>
          <a:blip r:embed="rId2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988" name="Slide Number Placeholder 4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Page </a:t>
            </a:r>
            <a:fld id="{955EE140-189A-4041-B6F2-9EFBF2F364AA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ooter Placeholder 5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14:04:27Z</dcterms:created>
  <dc:creator>Andree Fournier</dc:creator>
  <dc:description/>
  <dc:language>en-US</dc:language>
  <cp:lastModifiedBy>SESA37984</cp:lastModifiedBy>
  <dcterms:modified xsi:type="dcterms:W3CDTF">2015-09-30T06:52:49Z</dcterms:modified>
  <cp:revision>257</cp:revision>
  <dc:subject/>
  <dc:title>PowerPoint Presentation</dc:title>
</cp:coreProperties>
</file>