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B8DA-EBF3-401B-AE7E-115C52E46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734E-7E08-4AD1-9BCB-FA5A6170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089C-22CD-4CC1-8AF1-2B44F8E7E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B5A5-523D-4246-8A60-9E34CE0B7D7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9718-D598-46E6-9605-6A6216537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CD3E-FDE6-4CD6-AC7E-38E8B91E60A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FB37-4191-4BB6-AB49-68374A8C6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7AF9-502D-4C8B-97B5-542F9DD9BE5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5846-EF00-40C7-8AAC-314909F67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645D-1E80-4241-95F1-20A6FEE0827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C83D-1330-4147-9435-2CC66C7D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1FB1-5ABC-46B1-96C3-BD1858B72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DE36-BB29-4DBB-9189-E85E9F18DA6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0AB-7DE7-43BB-8DEB-FB55456A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E3A-77BF-4B1C-B872-A6028E41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778-3922-4EAC-A64D-A530FE1E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022-12C9-49D3-AB6B-58C607B0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9705-A6B1-4A9B-85D7-A16EF2F4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5A13-D5C5-40BD-88CE-3CC3B60D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BB0E-D370-4C3C-AD9A-5251D507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8E1F-6EDA-446B-958D-3AABE0ED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D585-ED00-4F61-AFD0-5F976276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AF8D-FBE9-45EF-8E72-1D8EEE73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13C0-1007-4CC1-B163-43BFD291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F0C-3950-43DC-A0B1-40D3104C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0F7B-6938-4618-B277-1C10145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6788-3586-48EE-91D0-A30A7611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021E-3E2F-4315-AABD-4748D3D6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B756-FF81-4629-84FE-7A7BAC10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7BE2-67E6-4FF2-91F8-CE6015EF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286-F407-4969-ADE7-D591DDF6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28E-3F96-4A87-B762-4197C607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C4C-DB62-444D-9A0F-EA4CB05A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89D-2A31-440C-BADD-8F2A2ABD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14E-30D6-4C32-867B-344A5C92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FE9-18C5-4160-A237-D3730030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E10-82B1-4584-B067-0A660B7C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5517-1E16-46A5-A3D1-44D0BECF594B}" type="datetime3">
              <a:rPr b="0" lang="en-US" sz="1200" spc="-1" strike="noStrike">
                <a:solidFill>
                  <a:srgbClr val="000000"/>
                </a:solidFill>
                <a:latin typeface="Garamond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F9A1-647A-402F-AB0F-A4850CE3327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5"/>
          <p:cNvSpPr/>
          <p:nvPr/>
        </p:nvSpPr>
        <p:spPr>
          <a:xfrm>
            <a:off x="966960" y="442800"/>
            <a:ext cx="8165880" cy="695520"/>
          </a:xfrm>
          <a:prstGeom prst="pie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2" descr=""/>
          <p:cNvPicPr/>
          <p:nvPr/>
        </p:nvPicPr>
        <p:blipFill>
          <a:blip r:embed="rId2"/>
          <a:stretch/>
        </p:blipFill>
        <p:spPr>
          <a:xfrm>
            <a:off x="101520" y="15084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23"/>
          <p:cNvSpPr/>
          <p:nvPr/>
        </p:nvSpPr>
        <p:spPr>
          <a:xfrm>
            <a:off x="865080" y="69840"/>
            <a:ext cx="75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4"/>
          <p:cNvSpPr/>
          <p:nvPr/>
        </p:nvSpPr>
        <p:spPr>
          <a:xfrm rot="10800000">
            <a:off x="14040" y="6062400"/>
            <a:ext cx="8878680" cy="360360"/>
          </a:xfrm>
          <a:prstGeom prst="pie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3132000" y="3068640"/>
            <a:ext cx="5759640" cy="914400"/>
          </a:xfrm>
          <a:prstGeom prst="pie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1252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841320" y="1282680"/>
            <a:ext cx="766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5680" y="135576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49" name="Freeform 17"/>
          <p:cNvSpPr/>
          <p:nvPr/>
        </p:nvSpPr>
        <p:spPr>
          <a:xfrm rot="10800000">
            <a:off x="3131640" y="5308560"/>
            <a:ext cx="5759640" cy="914400"/>
          </a:xfrm>
          <a:prstGeom prst="pie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85B7-34C6-458D-9924-A0307C9A13D9}" type="datetime3">
              <a:rPr b="0" lang="en-US" sz="1200" spc="-1" strike="noStrike">
                <a:solidFill>
                  <a:srgbClr val="000000"/>
                </a:solidFill>
                <a:latin typeface="Garamond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766F-62B2-4523-ABB3-4CE685FDA16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50920" y="5084280"/>
            <a:ext cx="4941720" cy="10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Инж. Филип Ф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Началник отдел </a:t>
            </a:r>
            <a:r>
              <a:rPr b="0" i="1" lang="bg-BG" sz="1800" spc="-1" strike="noStrike">
                <a:solidFill>
                  <a:srgbClr val="000099"/>
                </a:solidFill>
                <a:latin typeface="Arial"/>
              </a:rPr>
              <a:t>Планове и прог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71640" y="3141720"/>
            <a:ext cx="5616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УПРАВЛЕНИЕ НА ЕНЕРГИЙНАТА ЕФЕКТИВНОСТ 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ВЪЗМОЖНОСТИ ЗА ФИНАНСИРАНЕ НА МЕРКИ ЗА ЕЕ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3B91-4E31-4A7F-B660-D7D433F11F3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0" y="549360"/>
            <a:ext cx="9144000" cy="53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826920" y="2997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1042920" y="4762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ФИНАНСОВИ МЕХ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755640" y="6237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3860640"/>
            <a:ext cx="7632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остигнато до мо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,2 млн. тона CO2 годишно намаление на емиси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,5 млн. MWh годишни спестявания, които са еквивалентни на 242 MW инсталирана мощ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125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Международен Фонд Козлоду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773360"/>
            <a:ext cx="76327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ек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йна ефективност в обществени сгради и улично освет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рехабилитация на топлопреносни систем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рехабилитация и разширение на електропреносни мре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газоснабдяване и пренос на природен г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мерки, свързани с изпълнение на екологични изиск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ползотворяване на възобновяеми енергийни източниц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8CA-F789-48EF-AF75-B23AEA8962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549360"/>
            <a:ext cx="9144000" cy="53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826920" y="2997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042920" y="4762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ФИНАНСОВИ МЕХ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755640" y="6237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068640"/>
            <a:ext cx="7632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ек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йна оценка и енергиен одит, предпроектни проучвания, техническа спецификация, тръжни документ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оставка и въвеждане в употреба на подходящи енергоспестяващи технологии и оборудван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маляване на загубите чрез обновяване/ ремонт на оборудване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одобряване на енергийното управление, подобряване на топлинните и енергийни елементи от помещенията, производствените и спомагателните процеси, както и друго оборудване, свързано с производствот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зползване на енергийно ефективни материали и продук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105264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П Развитие на конкурентноспособността на българската икономика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1989000"/>
            <a:ext cx="7632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енефициен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МС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едприятия от производствения сектор и сектора на услуг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5E5-2C99-4D97-A834-705F7CBCD3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0" y="549360"/>
            <a:ext cx="9144000" cy="53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826920" y="2997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042920" y="4762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ФИНАНСОВИ МЕХ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55640" y="6237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3500280"/>
            <a:ext cx="76327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ек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дити за енергопотреб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мерки за ЕЕ - топлоизолация, смяна на дограма, локални инсталации, връзки към системите за топлоснабдяване, газоснабдяване или използване на възобновяеми енергийни източни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ъвеждане на енергоспестяващо улично освет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зграждане на участъци от газоразпределителни тръбопроводи в съответните райони като част от националната газопреносна мрежа към съответните области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р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125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П „Регионално развитие 2007 – 2013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1700280"/>
            <a:ext cx="7632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енефициен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ублични институци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бщини и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дружения на об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дружения с нестопанска ц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  ●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дружения на собствениците в многофамилни жилищни сгради       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CEB-C5BA-4D6C-B03E-1976B89DF9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0" y="549360"/>
            <a:ext cx="9144000" cy="53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826920" y="2997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042920" y="4762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ФИНАНСОВИ МЕХ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55640" y="6237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852640"/>
            <a:ext cx="763272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 u="sng">
                <a:solidFill>
                  <a:srgbClr val="000099"/>
                </a:solidFill>
                <a:uFillTx/>
                <a:latin typeface="Arial"/>
              </a:rPr>
              <a:t>Мярка 311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Разнообразяване на икономическите дейности - производство на енергия от ВИ, изграждане на фотоволтаични електроцентрали, производство на био-горива от биомаса, когенератори на биог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bg-BG" sz="16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0" lang="bg-BG" sz="1600" spc="-1" strike="noStrike" u="sng">
                <a:solidFill>
                  <a:srgbClr val="000099"/>
                </a:solidFill>
                <a:uFillTx/>
                <a:latin typeface="Arial"/>
              </a:rPr>
              <a:t>Мярка 312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Подкрепа за създаване и развитие на микро-предприятия - помощ за микро предприятия от преработвателната промишленост като дървопреработване, производство на мебели, леко машиностроене, преработка на биомаса, производство на енергия от възобновяеми източници и т.н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 u="sng">
                <a:solidFill>
                  <a:srgbClr val="000099"/>
                </a:solidFill>
                <a:uFillTx/>
                <a:latin typeface="Arial"/>
              </a:rPr>
              <a:t>Мярка 321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: Основни услуги за икономиката и населението на селските райони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подпомагане на инвестициите в инфраструктура за развитие на различни видове услуги, сред които инсталации/мощности за производство на топлинна и/или електрическа енергия за общината от ВИ, разпреде-лителна мрежа за био-горива или топлина/електричество от биом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05264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грамата за развитие на селските райони 2007-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484280"/>
            <a:ext cx="7632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енефициен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земеделските производите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рганизации на земеделски производите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бщи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       ●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юридически лица с нестопанска цел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048-5D6B-4586-ADA6-05544BFBBF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41BB-86B0-4889-B1DF-D8F7C0BCFF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за вниманието!</a:t>
            </a:r>
            <a:br>
              <a:rPr sz="2000"/>
            </a:b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0" y="3789360"/>
            <a:ext cx="4248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за вниманието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Филип Ф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Началник отдел Планове и прогр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Телефон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915 40 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Факс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981 58 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E-mail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ffikov@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eb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ww.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8893080" y="3817800"/>
            <a:ext cx="0" cy="24908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67"/>
          <p:cNvGrpSpPr/>
          <p:nvPr/>
        </p:nvGrpSpPr>
        <p:grpSpPr>
          <a:xfrm>
            <a:off x="0" y="2060640"/>
            <a:ext cx="4572000" cy="4360680"/>
            <a:chOff x="0" y="2060640"/>
            <a:chExt cx="4572000" cy="4360680"/>
          </a:xfrm>
        </p:grpSpPr>
        <p:sp>
          <p:nvSpPr>
            <p:cNvPr id="166" name="AutoShape 15"/>
            <p:cNvSpPr/>
            <p:nvPr/>
          </p:nvSpPr>
          <p:spPr>
            <a:xfrm>
              <a:off x="0" y="2060640"/>
              <a:ext cx="4572000" cy="43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103320" y="2203560"/>
              <a:ext cx="4430520" cy="3968640"/>
            </a:xfrm>
            <a:prstGeom prst="pie">
              <a:avLst/>
            </a:pr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1738440" y="3340080"/>
              <a:ext cx="2689200" cy="277344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1795320" y="3473280"/>
              <a:ext cx="2446560" cy="2681280"/>
            </a:xfrm>
            <a:prstGeom prst="pie">
              <a:avLst/>
            </a:pr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3241800" y="3452760"/>
              <a:ext cx="787320" cy="422280"/>
            </a:xfrm>
            <a:prstGeom prst="pie">
              <a:avLst/>
            </a:pr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2381400" y="2098800"/>
              <a:ext cx="422280" cy="28872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1644480" y="3559320"/>
              <a:ext cx="1560600" cy="26920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3362400" y="4095720"/>
              <a:ext cx="871560" cy="12794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2225520" y="2311560"/>
              <a:ext cx="944640" cy="164772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2211480" y="2467080"/>
              <a:ext cx="922320" cy="1465200"/>
            </a:xfrm>
            <a:prstGeom prst="pie">
              <a:avLst/>
            </a:pr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1968480" y="2114640"/>
              <a:ext cx="1127160" cy="992160"/>
            </a:xfrm>
            <a:prstGeom prst="pie">
              <a:avLst/>
            </a:pr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2317680" y="3146400"/>
              <a:ext cx="339840" cy="249120"/>
            </a:xfrm>
            <a:prstGeom prst="pie">
              <a:avLst/>
            </a:pr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2770200" y="3021120"/>
              <a:ext cx="236520" cy="253800"/>
            </a:xfrm>
            <a:prstGeom prst="pie">
              <a:avLst/>
            </a:pr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2395440" y="3181320"/>
              <a:ext cx="181080" cy="142920"/>
            </a:xfrm>
            <a:prstGeom prst="pie">
              <a:avLst/>
            </a:pr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2230560" y="2664000"/>
              <a:ext cx="852480" cy="73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2521080" y="2208240"/>
              <a:ext cx="556920" cy="66024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1973160" y="2336760"/>
              <a:ext cx="287280" cy="382680"/>
            </a:xfrm>
            <a:prstGeom prst="pie">
              <a:avLst/>
            </a:pr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3"/>
            <p:cNvSpPr/>
            <p:nvPr/>
          </p:nvSpPr>
          <p:spPr>
            <a:xfrm>
              <a:off x="2289240" y="3021120"/>
              <a:ext cx="244440" cy="12060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1846440" y="5337000"/>
              <a:ext cx="1144440" cy="43344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1873080" y="5407200"/>
              <a:ext cx="1094040" cy="40140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0" y="3624120"/>
              <a:ext cx="2016000" cy="2759040"/>
            </a:xfrm>
            <a:prstGeom prst="pie">
              <a:avLst/>
            </a:pr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63360" y="4100400"/>
              <a:ext cx="820800" cy="990720"/>
            </a:xfrm>
            <a:prstGeom prst="pie">
              <a:avLst/>
            </a:pr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241200" y="5234040"/>
              <a:ext cx="1754280" cy="1139760"/>
            </a:xfrm>
            <a:prstGeom prst="pie">
              <a:avLst/>
            </a:pr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353880" y="3660840"/>
              <a:ext cx="1033560" cy="939600"/>
            </a:xfrm>
            <a:prstGeom prst="pie">
              <a:avLst/>
            </a:pr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"/>
            <p:cNvSpPr/>
            <p:nvPr/>
          </p:nvSpPr>
          <p:spPr>
            <a:xfrm>
              <a:off x="1081080" y="4121280"/>
              <a:ext cx="247680" cy="392040"/>
            </a:xfrm>
            <a:prstGeom prst="pie">
              <a:avLst/>
            </a:pr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1"/>
            <p:cNvSpPr/>
            <p:nvPr/>
          </p:nvSpPr>
          <p:spPr>
            <a:xfrm>
              <a:off x="633240" y="4295880"/>
              <a:ext cx="852840" cy="1226880"/>
            </a:xfrm>
            <a:prstGeom prst="pie">
              <a:avLst/>
            </a:pr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2"/>
            <p:cNvSpPr/>
            <p:nvPr/>
          </p:nvSpPr>
          <p:spPr>
            <a:xfrm>
              <a:off x="2790720" y="4013280"/>
              <a:ext cx="492120" cy="1703160"/>
            </a:xfrm>
            <a:prstGeom prst="pie">
              <a:avLst/>
            </a:pr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3"/>
            <p:cNvSpPr/>
            <p:nvPr/>
          </p:nvSpPr>
          <p:spPr>
            <a:xfrm>
              <a:off x="2922480" y="4238640"/>
              <a:ext cx="152640" cy="468360"/>
            </a:xfrm>
            <a:prstGeom prst="pie">
              <a:avLst/>
            </a:pr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2532240" y="5616720"/>
              <a:ext cx="841320" cy="72216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5"/>
            <p:cNvSpPr/>
            <p:nvPr/>
          </p:nvSpPr>
          <p:spPr>
            <a:xfrm>
              <a:off x="2884320" y="5664240"/>
              <a:ext cx="517680" cy="620640"/>
            </a:xfrm>
            <a:prstGeom prst="pie">
              <a:avLst/>
            </a:pr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6"/>
            <p:cNvSpPr/>
            <p:nvPr/>
          </p:nvSpPr>
          <p:spPr>
            <a:xfrm>
              <a:off x="2521080" y="5862600"/>
              <a:ext cx="398160" cy="424080"/>
            </a:xfrm>
            <a:prstGeom prst="pie">
              <a:avLst/>
            </a:pr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7"/>
            <p:cNvSpPr/>
            <p:nvPr/>
          </p:nvSpPr>
          <p:spPr>
            <a:xfrm>
              <a:off x="3089160" y="5329080"/>
              <a:ext cx="108000" cy="19548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8"/>
            <p:cNvSpPr/>
            <p:nvPr/>
          </p:nvSpPr>
          <p:spPr>
            <a:xfrm>
              <a:off x="3168720" y="5241960"/>
              <a:ext cx="304560" cy="347760"/>
            </a:xfrm>
            <a:prstGeom prst="pie">
              <a:avLst/>
            </a:pr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9"/>
            <p:cNvSpPr/>
            <p:nvPr/>
          </p:nvSpPr>
          <p:spPr>
            <a:xfrm>
              <a:off x="3144960" y="4713120"/>
              <a:ext cx="101520" cy="8827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0"/>
            <p:cNvSpPr/>
            <p:nvPr/>
          </p:nvSpPr>
          <p:spPr>
            <a:xfrm>
              <a:off x="3149640" y="4740120"/>
              <a:ext cx="98280" cy="843120"/>
            </a:xfrm>
            <a:prstGeom prst="pie">
              <a:avLst/>
            </a:pr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>
              <a:off x="3211560" y="5041800"/>
              <a:ext cx="571320" cy="45900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2938320" y="5122800"/>
              <a:ext cx="1490760" cy="870120"/>
            </a:xfrm>
            <a:prstGeom prst="pie">
              <a:avLst/>
            </a:pr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>
              <a:off x="2922480" y="5345280"/>
              <a:ext cx="1354320" cy="660240"/>
            </a:xfrm>
            <a:prstGeom prst="pie">
              <a:avLst/>
            </a:pr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4"/>
            <p:cNvSpPr/>
            <p:nvPr/>
          </p:nvSpPr>
          <p:spPr>
            <a:xfrm>
              <a:off x="2954160" y="5730840"/>
              <a:ext cx="233640" cy="18108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5"/>
            <p:cNvSpPr/>
            <p:nvPr/>
          </p:nvSpPr>
          <p:spPr>
            <a:xfrm>
              <a:off x="2911320" y="5873760"/>
              <a:ext cx="198720" cy="139680"/>
            </a:xfrm>
            <a:prstGeom prst="pie">
              <a:avLst/>
            </a:pr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>
              <a:off x="3198960" y="5160960"/>
              <a:ext cx="1230120" cy="708120"/>
            </a:xfrm>
            <a:prstGeom prst="pie">
              <a:avLst/>
            </a:pr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>
              <a:off x="784080" y="2549520"/>
              <a:ext cx="1081080" cy="158580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>
              <a:off x="814320" y="2546280"/>
              <a:ext cx="898560" cy="15033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9"/>
            <p:cNvSpPr/>
            <p:nvPr/>
          </p:nvSpPr>
          <p:spPr>
            <a:xfrm>
              <a:off x="476280" y="2311560"/>
              <a:ext cx="1346040" cy="1320480"/>
            </a:xfrm>
            <a:prstGeom prst="pie">
              <a:avLst/>
            </a:pr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0"/>
            <p:cNvSpPr/>
            <p:nvPr/>
          </p:nvSpPr>
          <p:spPr>
            <a:xfrm>
              <a:off x="539640" y="2575080"/>
              <a:ext cx="217440" cy="896760"/>
            </a:xfrm>
            <a:prstGeom prst="pie">
              <a:avLst/>
            </a:pr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>
              <a:off x="763560" y="2408400"/>
              <a:ext cx="871560" cy="849240"/>
            </a:xfrm>
            <a:prstGeom prst="pie">
              <a:avLst/>
            </a:pr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2"/>
            <p:cNvSpPr/>
            <p:nvPr/>
          </p:nvSpPr>
          <p:spPr>
            <a:xfrm>
              <a:off x="620640" y="2400480"/>
              <a:ext cx="376200" cy="3729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822240" y="3346560"/>
              <a:ext cx="219240" cy="2300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992160" y="3351240"/>
              <a:ext cx="55440" cy="187200"/>
            </a:xfrm>
            <a:prstGeom prst="pie">
              <a:avLst/>
            </a:pr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5"/>
            <p:cNvSpPr/>
            <p:nvPr/>
          </p:nvSpPr>
          <p:spPr>
            <a:xfrm>
              <a:off x="836640" y="3365640"/>
              <a:ext cx="58680" cy="172800"/>
            </a:xfrm>
            <a:prstGeom prst="pie">
              <a:avLst/>
            </a:pr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6"/>
            <p:cNvSpPr/>
            <p:nvPr/>
          </p:nvSpPr>
          <p:spPr>
            <a:xfrm>
              <a:off x="1461960" y="3481560"/>
              <a:ext cx="185760" cy="125280"/>
            </a:xfrm>
            <a:prstGeom prst="pie">
              <a:avLst/>
            </a:pr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1B7-52E1-4353-8A99-3F405CBFFB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48980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ОЛИТИКА ПО ЕНЕРГИЙНА ЕФЕКТИВНОСТ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570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иректива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2006/32/ЕС за енергийната ефективност при крайното енергийно потребление и енергийните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Закон за енергийната ефективност (ЗЕ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ционален план за действие по енергийн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редби към З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54C7-C2D4-4DBE-935D-52CA94025D0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900000" y="4221000"/>
            <a:ext cx="7355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иректива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0/31/ЕС за енергийните характерис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 сград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32720" y="3357720"/>
            <a:ext cx="1893600" cy="20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B9A-536A-4673-ACCA-61142CBA4A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341360"/>
            <a:ext cx="8064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ционалният план за действие по енергийна ефективност се разработва въз основа на Директива 2006/32/ЕО за енергийна ефективност при крайното потребление и енергийните услуги на Европейския парламент и Съвета на Европейския съю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ървият План за действие обхващаше периода 2008 - 2010 г. и в него бяха предвидени за изпълнение следните групи мер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ормативни -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закони и наред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нъчни -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нъчни облекчения за собствениците на сертифицирани сград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рганизационни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одсилване на административния капацитет на АЕЕ, енергиен мениджмънт в общините и в промишлените пред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Финансови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одпомагане усвояването на европейските фондове, Фонд ЕЕ, ЕСКО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о 30.06.2011 г. предстои изготвянето на Втори национален план за периода 2011-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476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ЦИОНАЛЕН ПЛАН ЗА ДЕЙСТВИЕ ПО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D8D-1643-4F20-A7C8-2D4082970EA6}" type="slidenum">
              <a:t>3</a:t>
            </a:fld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971640" y="4755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ЕС - ПЛАН ЗА ДЕЙ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1484280"/>
            <a:ext cx="8388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Очак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кономия за домакинствата до 1000 евро годиш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ъздаване до 2 млн. работни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4581360"/>
            <a:ext cx="8388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ониторин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междинен преглед през 2013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ри вероятност да не бъде постигната общата цел на ЕС - правно обвързващи национални цели до 2020 год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852640"/>
            <a:ext cx="78483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маляване зависимостта от вноса на ресурси от определени стр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разнообразяване начините за производство на е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√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укрепване мрежите за пренос на газ и петрол до четирите краища на 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A77-1DB7-4220-9F14-93DDDAD38B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773360"/>
            <a:ext cx="838836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маляване на потреблението на енергия в поне 3 % от обществените сгради всяка година и да превърнат енергийната ефективност в условие за всички извършвани от тях покупки на стоки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маляване на потреблението на енергия в офиси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маляване още повече потреблението на енергия от домакински електроуре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овишаване ефективността на производството на електричество и топ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зисквания в областта на ЕЕ за промишленото оборудва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звършване на енергийни одити и управление на големите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ъвеждане на "интелигентни" енергийни мрежи и уреди, даващи на потребителите възможност да намалят потреблението на енергия и да изчислят колко спестяв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971640" y="4755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ЕС - ПЛАН ЗА ДЕЙ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1268280"/>
            <a:ext cx="69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Задачи и очак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FAB-2C71-4219-9749-221AB79750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971640" y="4755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ЕС - ПЛАН ЗА ДЕЙ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1341360"/>
            <a:ext cx="69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гноза за потреблението на първична енергия за ЕС до 2020 г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580536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Източник: ГД "Енергетика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129800" cy="374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ECB-1D84-480C-B9F9-04B20179F5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71640" y="1413000"/>
            <a:ext cx="74167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Публичен секто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убличните власти следва да определят за ремонт най-малко 3% от сградите си (по области) всяка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истем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о прилагане на в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соките стандарти за енергийна ефективност при закупуване на стоки, извършване на услуги и СМ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1640" y="4755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ЕС - ПЛАН ЗА ДЕЙ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924280"/>
            <a:ext cx="763272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Индустр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големите компании трябва да правят редовни и независими енергийни одити, организирани от самите 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бмен на най-добри практики в областта на ЕЕ и проекти, насочени към изграждане на капацитет за управление на енергията при микро и малките предпри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797360"/>
            <a:ext cx="77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Домакинства: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одпомагане навлизането на фирми за енергийни услуги на пазара, които да се явяват като катализатори на ремонтните дейност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енергийните компании да дават възможност на техните клиенти да намалят потреблението си на енерг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71640" y="9802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Задължителни мерк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9A8-00C2-4A27-8D18-621CDCDB4C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784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ланове за енергийна ефективност и програми за тяхното изпъ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йни обследвани за всички сгради с над 1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000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кв.м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лощ и промишлени системи с над 3 000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Wh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годишно потребление на е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нспекции за енергийна ефективност на отоплителни водогрейни котли и климатични инстал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ен мениджмънт в сгради и промишлени сист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зготвяне на годишни отчети за изпълнението на плановете за енергийна ефективност и за управлението на ЕЕ в сградите и промишлените сист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511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едоставяне на информация от търговците с енергия за изпълнението на мерки за ЕЕ, реализирани продажби на енергия и изпълнение на индивидуалните це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4755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ИЗПЪЛНЕНИЕ НА ПОЛИТИКАТА ПО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F5E-F110-4A33-8803-BAFEDBF30E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0" y="549360"/>
            <a:ext cx="9144000" cy="532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826920" y="299736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042920" y="47628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ФИНАНСОВИ МЕХАНИ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755640" y="6237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724280"/>
            <a:ext cx="763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екти за подобряване на ЕЕ 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с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мишлени проце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комунални обекти и съоръ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руги случаи на крайно потребление на е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105264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Фонд за енергийн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1557360"/>
            <a:ext cx="7632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енефициен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б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фир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асоциации на потребители на енерг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малки фирми и физически л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финансово-кредитни институ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3213000"/>
            <a:ext cx="763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Финансови продук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тпускане на зае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едоставяне на частични гаранции по кредити, отпускани от други финансово-кредитни институ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     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езвъзмездна техническа помощ по подготовката на проекти за 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506-B088-4073-A280-3C3289ED6E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9:39:50Z</dcterms:created>
  <dc:creator>Utilities11</dc:creator>
  <dc:description/>
  <dc:language>en-US</dc:language>
  <cp:lastModifiedBy>Filip Fikov</cp:lastModifiedBy>
  <dcterms:modified xsi:type="dcterms:W3CDTF">2011-03-15T19:44:15Z</dcterms:modified>
  <cp:revision>299</cp:revision>
  <dc:subject/>
  <dc:title>Slide 1</dc:title>
</cp:coreProperties>
</file>