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1E76-0BFC-4DE1-815A-86C02E910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D180-2712-452F-86A6-E00F58144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99BB-F161-4E3A-9641-A03B09BD1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471D-399A-41A7-A26C-A25D043ECDCC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1653-9187-4407-B95C-C3D9E1363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1027-AD1A-47CF-80EE-759FC5B3D9EC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13A7-FE65-4705-9FC8-4463F501E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B560-D459-4797-8DEE-4247F8D2B3B1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9EFD-D2E2-4A61-BB41-E73D309BD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01EA-2DFC-4B80-B81B-E43DE4ADB380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CCB6-CCC4-4B59-BD4C-8B15CC0E2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C59D-D5C8-432D-AB8A-5F821E1C2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E899-A34C-4B31-AAA2-3287B2FD23E2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3366-7E88-4518-B090-B4B3DB48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D349-795C-4C67-B506-D90DED14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E65-C720-4686-AB47-598AED46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567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828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855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567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828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4CFB-6AB0-433C-8807-26027550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D22D-71A2-4575-BA8D-9AE3E802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8A13-B89A-46AE-881D-32EFC0E3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5C88-FE94-4872-99A4-2B58DE48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DB6A-96D0-4118-9DE1-F03BCB8D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4F6A-66D9-47FA-8181-FE4922B4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71360" y="533160"/>
            <a:ext cx="7499160" cy="34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6389-3A83-488C-9893-0718E4CD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8580-BC31-44FD-8A8D-6F681B35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02E6-7946-4983-A791-EFA0DD2E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1210-5DDF-4E04-9D4F-E3973A4F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3A11-BD86-4C6C-BE3E-8D19DBD5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DEB1-EB01-4769-91DF-78EB2492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9E91-FB07-4CED-8368-FD4AF04E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67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828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855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567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828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1BAE-AB01-436E-9DBB-3F33F803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CE8-07B4-4B26-981E-205FE36B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D4A-88D9-4142-BF08-A2390E4C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3A3B-8CC3-43CD-A857-8CF2CADA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71360" y="533160"/>
            <a:ext cx="7499160" cy="34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48D5-68B0-4EE9-B71C-B699A338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3D04-8C71-4138-B570-0D47DE38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1751-608E-42E7-9D4D-B03FB08C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431F-93C0-4FF6-99B1-86DDE265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1C26-32A5-4382-96AE-E6E2E11D69CB}" type="datetime3">
              <a:rPr b="0" lang="en-US" sz="1200" spc="-1" strike="noStrike">
                <a:solidFill>
                  <a:srgbClr val="000000"/>
                </a:solidFill>
                <a:latin typeface="Garamond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EA1C-31DD-41DD-838F-0D453B93EC8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5"/>
          <p:cNvSpPr/>
          <p:nvPr/>
        </p:nvSpPr>
        <p:spPr>
          <a:xfrm>
            <a:off x="966960" y="442800"/>
            <a:ext cx="8165880" cy="695520"/>
          </a:xfrm>
          <a:prstGeom prst="pie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2" descr=""/>
          <p:cNvPicPr/>
          <p:nvPr/>
        </p:nvPicPr>
        <p:blipFill>
          <a:blip r:embed="rId2"/>
          <a:stretch/>
        </p:blipFill>
        <p:spPr>
          <a:xfrm>
            <a:off x="101520" y="150840"/>
            <a:ext cx="731880" cy="988920"/>
          </a:xfrm>
          <a:prstGeom prst="rect">
            <a:avLst/>
          </a:prstGeom>
          <a:ln w="0">
            <a:noFill/>
          </a:ln>
        </p:spPr>
      </p:pic>
      <p:sp>
        <p:nvSpPr>
          <p:cNvPr id="6" name="Text Box 23"/>
          <p:cNvSpPr/>
          <p:nvPr/>
        </p:nvSpPr>
        <p:spPr>
          <a:xfrm>
            <a:off x="865080" y="69840"/>
            <a:ext cx="756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24"/>
          <p:cNvSpPr/>
          <p:nvPr/>
        </p:nvSpPr>
        <p:spPr>
          <a:xfrm rot="10800000">
            <a:off x="14040" y="6062400"/>
            <a:ext cx="8878680" cy="360360"/>
          </a:xfrm>
          <a:prstGeom prst="pie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3132000" y="3068640"/>
            <a:ext cx="5759640" cy="914400"/>
          </a:xfrm>
          <a:prstGeom prst="pie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1252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4"/>
          <p:cNvSpPr/>
          <p:nvPr/>
        </p:nvSpPr>
        <p:spPr>
          <a:xfrm>
            <a:off x="841320" y="1282680"/>
            <a:ext cx="7667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"/>
          <p:cNvPicPr/>
          <p:nvPr/>
        </p:nvPicPr>
        <p:blipFill>
          <a:blip r:embed="rId3"/>
          <a:stretch/>
        </p:blipFill>
        <p:spPr>
          <a:xfrm>
            <a:off x="85680" y="1355760"/>
            <a:ext cx="731880" cy="988920"/>
          </a:xfrm>
          <a:prstGeom prst="rect">
            <a:avLst/>
          </a:prstGeom>
          <a:ln w="0">
            <a:noFill/>
          </a:ln>
        </p:spPr>
      </p:pic>
      <p:sp>
        <p:nvSpPr>
          <p:cNvPr id="49" name="Freeform 17"/>
          <p:cNvSpPr/>
          <p:nvPr/>
        </p:nvSpPr>
        <p:spPr>
          <a:xfrm rot="10800000">
            <a:off x="3131640" y="5308560"/>
            <a:ext cx="5759640" cy="914400"/>
          </a:xfrm>
          <a:prstGeom prst="pie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09D8-6DEC-4B63-BFF4-BFF7EF6C247B}" type="datetime3">
              <a:rPr b="0" lang="en-US" sz="1200" spc="-1" strike="noStrike">
                <a:solidFill>
                  <a:srgbClr val="000000"/>
                </a:solidFill>
                <a:latin typeface="Garamond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AE62-51FA-4ADB-B1BB-A602B7D51AF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850920" y="5084280"/>
            <a:ext cx="4941720" cy="10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Arial"/>
              </a:rPr>
              <a:t>Инж. Филип Ф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Arial"/>
              </a:rPr>
              <a:t>Началник отдел </a:t>
            </a:r>
            <a:r>
              <a:rPr b="0" i="1" lang="bg-BG" sz="1800" spc="-1" strike="noStrike">
                <a:solidFill>
                  <a:srgbClr val="000099"/>
                </a:solidFill>
                <a:latin typeface="Arial"/>
              </a:rPr>
              <a:t>Планове и прог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71640" y="3141720"/>
            <a:ext cx="5616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УПРАВЛЕНИЕ НА ЕНЕРГИЙНАТА ЕФЕКТИВНОСТ 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ВЪЗМОЖНОСТИ ЗА ФИНАНСИРАНЕ НА МЕРКИ ЗА ЕЕ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1AFD-7D76-4D72-9562-E593342CB87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/>
          <p:cNvSpPr/>
          <p:nvPr/>
        </p:nvSpPr>
        <p:spPr>
          <a:xfrm>
            <a:off x="0" y="549360"/>
            <a:ext cx="9144000" cy="532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826920" y="2997360"/>
            <a:ext cx="792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1042920" y="47628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ФИНАНСОВИ МЕХАНИ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755640" y="623736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3860640"/>
            <a:ext cx="7632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остигнато до моме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1,2 млн. тона CO2 годишно намаление на емиси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1,5 млн. MWh годишни спестявания, които са еквивалентни на 242 MW инсталирана мощ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1125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Международен Фонд Козлоду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1773360"/>
            <a:ext cx="763272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роек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енергийна ефективност в обществени сгради и улично освет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рехабилитация на топлопреносни систем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рехабилитация и разширение на електропреносни мреж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газоснабдяване и пренос на природен г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мерки, свързани с изпълнение на екологични изиск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оползотворяване на възобновяеми енергийни източниц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6893-474D-4154-8E2D-11D26A65CF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>
            <a:off x="0" y="549360"/>
            <a:ext cx="9144000" cy="532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826920" y="2997360"/>
            <a:ext cx="792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042920" y="47628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ФИНАНСОВИ МЕХАНИ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755640" y="623736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3068640"/>
            <a:ext cx="7632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роек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енергийна оценка и енергиен одит, предпроектни проучвания, техническа спецификация, тръжни документа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оставка и въвеждане в употреба на подходящи енергоспестяващи технологии и оборудван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амаляване на загубите чрез обновяване/ ремонт на оборудванет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одобряване на енергийното управление, подобряване на топлинните и енергийни елементи от помещенията, производствените и спомагателните процеси, както и друго оборудване, свързано с производствот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използване на енергийно ефективни материали и продук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105264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П Развитие на конкурентноспособността на българската икономика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1989000"/>
            <a:ext cx="7632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Бенефициен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МС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редприятия от производствения сектор и сектора на услуг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9A87-7FA8-4B0F-A523-A7F7D2151A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/>
          <p:cNvSpPr/>
          <p:nvPr/>
        </p:nvSpPr>
        <p:spPr>
          <a:xfrm>
            <a:off x="0" y="549360"/>
            <a:ext cx="9144000" cy="532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826920" y="2997360"/>
            <a:ext cx="792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1042920" y="47628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ФИНАНСОВИ МЕХАНИ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755640" y="623736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3500280"/>
            <a:ext cx="763272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роек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одити за енергопотреб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мерки за ЕЕ - топлоизолация, смяна на дограма, локални инсталации, връзки към системите за топлоснабдяване, газоснабдяване или използване на възобновяеми енергийни източниц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ъвеждане на енергоспестяващо улично освет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зграждане на участъци от газоразпределителни тръбопроводи в съответните райони като част от националната газопреносна мрежа към съответните области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bg-BG" sz="18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р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1125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П „Регионално развитие 2007 – 2013</a:t>
            </a: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1700280"/>
            <a:ext cx="7632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Бенефициен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ублични институци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общини и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сдружения на общ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сдружения с нестопанска ц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сдружения на собствениците в многофамилни жилищни сгради       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87A-BF0D-43A5-AEB1-FB244817EE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/>
          <p:cNvSpPr/>
          <p:nvPr/>
        </p:nvSpPr>
        <p:spPr>
          <a:xfrm>
            <a:off x="0" y="549360"/>
            <a:ext cx="9144000" cy="532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826920" y="2997360"/>
            <a:ext cx="792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042920" y="47628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ФИНАНСОВИ МЕХАНИ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755640" y="623736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2852640"/>
            <a:ext cx="763272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 u="sng">
                <a:solidFill>
                  <a:srgbClr val="000099"/>
                </a:solidFill>
                <a:uFillTx/>
                <a:latin typeface="Arial"/>
              </a:rPr>
              <a:t>Мярка 311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Разнообразяване на икономическите дейности - производство на енергия от ВИ, изграждане на фотоволтаични електроцентрали, производство на био-горива от биомаса, когенератори на биог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bg-BG" sz="16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0" lang="bg-BG" sz="1600" spc="-1" strike="noStrike" u="sng">
                <a:solidFill>
                  <a:srgbClr val="000099"/>
                </a:solidFill>
                <a:uFillTx/>
                <a:latin typeface="Arial"/>
              </a:rPr>
              <a:t>Мярка 312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Подкрепа за създаване и развитие на микро-предприятия - помощ за микро предприятия от преработвателната промишленост като дървопреработване, производство на мебели, леко машиностроене, преработка на биомаса, производство на енергия от възобновяеми източници и т.н.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 u="sng">
                <a:solidFill>
                  <a:srgbClr val="000099"/>
                </a:solidFill>
                <a:uFillTx/>
                <a:latin typeface="Arial"/>
              </a:rPr>
              <a:t>Мярка 321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: Основни услуги за икономиката и населението на селските райони</a:t>
            </a: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подпомагане на инвестициите в инфраструктура за развитие на различни видове услуги, сред които инсталации/мощности за производство на топлинна и/или електрическа енергия за общината от ВИ, разпреде-лителна мрежа за био-горива или топлина/електричество от биома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105264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ограмата за развитие на селските райони 2007-201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1484280"/>
            <a:ext cx="7632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Бенефициен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земеделските производите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        ●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организации на земеделски производите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        ●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общи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        ●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юридически лица с нестопанска цел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05B-8FD8-4D1B-AE36-0E8BC36DE3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76F7-CF36-4245-8B20-0E4C87045C2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Благодаря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за вниманието!</a:t>
            </a:r>
            <a:br>
              <a:rPr sz="2000"/>
            </a:b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572000" y="3789360"/>
            <a:ext cx="424800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Благодаря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за вниманието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99"/>
                </a:solidFill>
                <a:latin typeface="Arial"/>
              </a:rPr>
              <a:t>Филип Фик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Началник отдел Планове и прогр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Телефон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+359 2 </a:t>
            </a: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915 40 4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Факс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+359 2 </a:t>
            </a: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981 58 0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E-mail</a:t>
            </a: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ffikov@seea.government.b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Web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www.seea.government.b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8893080" y="3817800"/>
            <a:ext cx="0" cy="249084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67"/>
          <p:cNvGrpSpPr/>
          <p:nvPr/>
        </p:nvGrpSpPr>
        <p:grpSpPr>
          <a:xfrm>
            <a:off x="0" y="2060640"/>
            <a:ext cx="4572000" cy="4360680"/>
            <a:chOff x="0" y="2060640"/>
            <a:chExt cx="4572000" cy="4360680"/>
          </a:xfrm>
        </p:grpSpPr>
        <p:sp>
          <p:nvSpPr>
            <p:cNvPr id="166" name="AutoShape 15"/>
            <p:cNvSpPr/>
            <p:nvPr/>
          </p:nvSpPr>
          <p:spPr>
            <a:xfrm>
              <a:off x="0" y="2060640"/>
              <a:ext cx="4572000" cy="43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103320" y="2203560"/>
              <a:ext cx="4430520" cy="3968640"/>
            </a:xfrm>
            <a:prstGeom prst="pie">
              <a:avLst/>
            </a:prstGeom>
            <a:solidFill>
              <a:srgbClr val="cc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1738440" y="3340080"/>
              <a:ext cx="2689200" cy="2773440"/>
            </a:xfrm>
            <a:prstGeom prst="pie">
              <a:avLst/>
            </a:pr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>
              <a:off x="1795320" y="3473280"/>
              <a:ext cx="2446560" cy="2681280"/>
            </a:xfrm>
            <a:prstGeom prst="pie">
              <a:avLst/>
            </a:pr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3241800" y="3452760"/>
              <a:ext cx="787320" cy="422280"/>
            </a:xfrm>
            <a:prstGeom prst="pie">
              <a:avLst/>
            </a:pr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1"/>
            <p:cNvSpPr/>
            <p:nvPr/>
          </p:nvSpPr>
          <p:spPr>
            <a:xfrm>
              <a:off x="2381400" y="2098800"/>
              <a:ext cx="422280" cy="28872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2"/>
            <p:cNvSpPr/>
            <p:nvPr/>
          </p:nvSpPr>
          <p:spPr>
            <a:xfrm>
              <a:off x="1644480" y="3559320"/>
              <a:ext cx="1560600" cy="26920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3"/>
            <p:cNvSpPr/>
            <p:nvPr/>
          </p:nvSpPr>
          <p:spPr>
            <a:xfrm>
              <a:off x="3362400" y="4095720"/>
              <a:ext cx="871560" cy="12794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4"/>
            <p:cNvSpPr/>
            <p:nvPr/>
          </p:nvSpPr>
          <p:spPr>
            <a:xfrm>
              <a:off x="2225520" y="2311560"/>
              <a:ext cx="944640" cy="1647720"/>
            </a:xfrm>
            <a:prstGeom prst="pie">
              <a:avLst/>
            </a:pr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2211480" y="2467080"/>
              <a:ext cx="922320" cy="1465200"/>
            </a:xfrm>
            <a:prstGeom prst="pie">
              <a:avLst/>
            </a:pr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1968480" y="2114640"/>
              <a:ext cx="1127160" cy="99216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7"/>
            <p:cNvSpPr/>
            <p:nvPr/>
          </p:nvSpPr>
          <p:spPr>
            <a:xfrm>
              <a:off x="2317680" y="3146400"/>
              <a:ext cx="339840" cy="249120"/>
            </a:xfrm>
            <a:prstGeom prst="pie">
              <a:avLst/>
            </a:pr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8"/>
            <p:cNvSpPr/>
            <p:nvPr/>
          </p:nvSpPr>
          <p:spPr>
            <a:xfrm>
              <a:off x="2770200" y="3021120"/>
              <a:ext cx="236520" cy="253800"/>
            </a:xfrm>
            <a:prstGeom prst="pie">
              <a:avLst/>
            </a:prstGeom>
            <a:solidFill>
              <a:srgbClr val="d4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9"/>
            <p:cNvSpPr/>
            <p:nvPr/>
          </p:nvSpPr>
          <p:spPr>
            <a:xfrm>
              <a:off x="2395440" y="3181320"/>
              <a:ext cx="181080" cy="142920"/>
            </a:xfrm>
            <a:prstGeom prst="pie">
              <a:avLst/>
            </a:prstGeom>
            <a:solidFill>
              <a:srgbClr val="d4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2230560" y="2664000"/>
              <a:ext cx="852480" cy="73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2521080" y="2208240"/>
              <a:ext cx="556920" cy="66024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2"/>
            <p:cNvSpPr/>
            <p:nvPr/>
          </p:nvSpPr>
          <p:spPr>
            <a:xfrm>
              <a:off x="1973160" y="2336760"/>
              <a:ext cx="287280" cy="3826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3"/>
            <p:cNvSpPr/>
            <p:nvPr/>
          </p:nvSpPr>
          <p:spPr>
            <a:xfrm>
              <a:off x="2289240" y="3021120"/>
              <a:ext cx="244440" cy="12060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4"/>
            <p:cNvSpPr/>
            <p:nvPr/>
          </p:nvSpPr>
          <p:spPr>
            <a:xfrm>
              <a:off x="1846440" y="5337000"/>
              <a:ext cx="1144440" cy="43344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5"/>
            <p:cNvSpPr/>
            <p:nvPr/>
          </p:nvSpPr>
          <p:spPr>
            <a:xfrm>
              <a:off x="1873080" y="5407200"/>
              <a:ext cx="1094040" cy="40140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6"/>
            <p:cNvSpPr/>
            <p:nvPr/>
          </p:nvSpPr>
          <p:spPr>
            <a:xfrm>
              <a:off x="0" y="3624120"/>
              <a:ext cx="2016000" cy="2759040"/>
            </a:xfrm>
            <a:prstGeom prst="pie">
              <a:avLst/>
            </a:prstGeom>
            <a:solidFill>
              <a:srgbClr val="dc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7"/>
            <p:cNvSpPr/>
            <p:nvPr/>
          </p:nvSpPr>
          <p:spPr>
            <a:xfrm>
              <a:off x="63360" y="4100400"/>
              <a:ext cx="820800" cy="990720"/>
            </a:xfrm>
            <a:prstGeom prst="pie">
              <a:avLst/>
            </a:pr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8"/>
            <p:cNvSpPr/>
            <p:nvPr/>
          </p:nvSpPr>
          <p:spPr>
            <a:xfrm>
              <a:off x="241200" y="5234040"/>
              <a:ext cx="1754280" cy="1139760"/>
            </a:xfrm>
            <a:prstGeom prst="pie">
              <a:avLst/>
            </a:pr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9"/>
            <p:cNvSpPr/>
            <p:nvPr/>
          </p:nvSpPr>
          <p:spPr>
            <a:xfrm>
              <a:off x="353880" y="3660840"/>
              <a:ext cx="1033560" cy="939600"/>
            </a:xfrm>
            <a:prstGeom prst="pie">
              <a:avLst/>
            </a:pr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0"/>
            <p:cNvSpPr/>
            <p:nvPr/>
          </p:nvSpPr>
          <p:spPr>
            <a:xfrm>
              <a:off x="1081080" y="4121280"/>
              <a:ext cx="247680" cy="392040"/>
            </a:xfrm>
            <a:prstGeom prst="pie">
              <a:avLst/>
            </a:pr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1"/>
            <p:cNvSpPr/>
            <p:nvPr/>
          </p:nvSpPr>
          <p:spPr>
            <a:xfrm>
              <a:off x="633240" y="4295880"/>
              <a:ext cx="852840" cy="1226880"/>
            </a:xfrm>
            <a:prstGeom prst="pie">
              <a:avLst/>
            </a:pr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2"/>
            <p:cNvSpPr/>
            <p:nvPr/>
          </p:nvSpPr>
          <p:spPr>
            <a:xfrm>
              <a:off x="2790720" y="4013280"/>
              <a:ext cx="492120" cy="1703160"/>
            </a:xfrm>
            <a:prstGeom prst="pie">
              <a:avLst/>
            </a:pr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3"/>
            <p:cNvSpPr/>
            <p:nvPr/>
          </p:nvSpPr>
          <p:spPr>
            <a:xfrm>
              <a:off x="2922480" y="4238640"/>
              <a:ext cx="152640" cy="468360"/>
            </a:xfrm>
            <a:prstGeom prst="pie">
              <a:avLst/>
            </a:prstGeom>
            <a:solidFill>
              <a:srgbClr val="fa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4"/>
            <p:cNvSpPr/>
            <p:nvPr/>
          </p:nvSpPr>
          <p:spPr>
            <a:xfrm>
              <a:off x="2532240" y="5616720"/>
              <a:ext cx="841320" cy="722160"/>
            </a:xfrm>
            <a:prstGeom prst="pie">
              <a:avLst/>
            </a:pr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5"/>
            <p:cNvSpPr/>
            <p:nvPr/>
          </p:nvSpPr>
          <p:spPr>
            <a:xfrm>
              <a:off x="2884320" y="5664240"/>
              <a:ext cx="517680" cy="620640"/>
            </a:xfrm>
            <a:prstGeom prst="pie">
              <a:avLst/>
            </a:pr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6"/>
            <p:cNvSpPr/>
            <p:nvPr/>
          </p:nvSpPr>
          <p:spPr>
            <a:xfrm>
              <a:off x="2521080" y="5862600"/>
              <a:ext cx="398160" cy="424080"/>
            </a:xfrm>
            <a:prstGeom prst="pie">
              <a:avLst/>
            </a:pr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7"/>
            <p:cNvSpPr/>
            <p:nvPr/>
          </p:nvSpPr>
          <p:spPr>
            <a:xfrm>
              <a:off x="3089160" y="5329080"/>
              <a:ext cx="108000" cy="195480"/>
            </a:xfrm>
            <a:prstGeom prst="pie">
              <a:avLst/>
            </a:pr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8"/>
            <p:cNvSpPr/>
            <p:nvPr/>
          </p:nvSpPr>
          <p:spPr>
            <a:xfrm>
              <a:off x="3168720" y="5241960"/>
              <a:ext cx="304560" cy="347760"/>
            </a:xfrm>
            <a:prstGeom prst="pie">
              <a:avLst/>
            </a:pr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9"/>
            <p:cNvSpPr/>
            <p:nvPr/>
          </p:nvSpPr>
          <p:spPr>
            <a:xfrm>
              <a:off x="3144960" y="4713120"/>
              <a:ext cx="101520" cy="88272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0"/>
            <p:cNvSpPr/>
            <p:nvPr/>
          </p:nvSpPr>
          <p:spPr>
            <a:xfrm>
              <a:off x="3149640" y="4740120"/>
              <a:ext cx="98280" cy="843120"/>
            </a:xfrm>
            <a:prstGeom prst="pie">
              <a:avLst/>
            </a:prstGeom>
            <a:solidFill>
              <a:srgbClr val="eda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1"/>
            <p:cNvSpPr/>
            <p:nvPr/>
          </p:nvSpPr>
          <p:spPr>
            <a:xfrm>
              <a:off x="3211560" y="5041800"/>
              <a:ext cx="571320" cy="459000"/>
            </a:xfrm>
            <a:prstGeom prst="pie">
              <a:avLst/>
            </a:pr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2"/>
            <p:cNvSpPr/>
            <p:nvPr/>
          </p:nvSpPr>
          <p:spPr>
            <a:xfrm>
              <a:off x="2938320" y="5122800"/>
              <a:ext cx="1490760" cy="870120"/>
            </a:xfrm>
            <a:prstGeom prst="pie">
              <a:avLst/>
            </a:prstGeom>
            <a:solidFill>
              <a:srgbClr val="e3e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3"/>
            <p:cNvSpPr/>
            <p:nvPr/>
          </p:nvSpPr>
          <p:spPr>
            <a:xfrm>
              <a:off x="2922480" y="5345280"/>
              <a:ext cx="1354320" cy="660240"/>
            </a:xfrm>
            <a:prstGeom prst="pie">
              <a:avLst/>
            </a:prstGeom>
            <a:solidFill>
              <a:srgbClr val="9491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4"/>
            <p:cNvSpPr/>
            <p:nvPr/>
          </p:nvSpPr>
          <p:spPr>
            <a:xfrm>
              <a:off x="2954160" y="5730840"/>
              <a:ext cx="233640" cy="18108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5"/>
            <p:cNvSpPr/>
            <p:nvPr/>
          </p:nvSpPr>
          <p:spPr>
            <a:xfrm>
              <a:off x="2911320" y="5873760"/>
              <a:ext cx="198720" cy="13968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6"/>
            <p:cNvSpPr/>
            <p:nvPr/>
          </p:nvSpPr>
          <p:spPr>
            <a:xfrm>
              <a:off x="3198960" y="5160960"/>
              <a:ext cx="1230120" cy="708120"/>
            </a:xfrm>
            <a:prstGeom prst="pie">
              <a:avLst/>
            </a:pr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7"/>
            <p:cNvSpPr/>
            <p:nvPr/>
          </p:nvSpPr>
          <p:spPr>
            <a:xfrm>
              <a:off x="784080" y="2549520"/>
              <a:ext cx="1081080" cy="158580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8"/>
            <p:cNvSpPr/>
            <p:nvPr/>
          </p:nvSpPr>
          <p:spPr>
            <a:xfrm>
              <a:off x="814320" y="2546280"/>
              <a:ext cx="898560" cy="150336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9"/>
            <p:cNvSpPr/>
            <p:nvPr/>
          </p:nvSpPr>
          <p:spPr>
            <a:xfrm>
              <a:off x="476280" y="2311560"/>
              <a:ext cx="1346040" cy="1320480"/>
            </a:xfrm>
            <a:prstGeom prst="pie">
              <a:avLst/>
            </a:prstGeom>
            <a:solidFill>
              <a:srgbClr val="a39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0"/>
            <p:cNvSpPr/>
            <p:nvPr/>
          </p:nvSpPr>
          <p:spPr>
            <a:xfrm>
              <a:off x="539640" y="2575080"/>
              <a:ext cx="217440" cy="896760"/>
            </a:xfrm>
            <a:prstGeom prst="pie">
              <a:avLst/>
            </a:prstGeom>
            <a:solidFill>
              <a:srgbClr val="87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>
              <a:off x="763560" y="2408400"/>
              <a:ext cx="871560" cy="849240"/>
            </a:xfrm>
            <a:prstGeom prst="pie">
              <a:avLst/>
            </a:prstGeom>
            <a:solidFill>
              <a:srgbClr val="87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2"/>
            <p:cNvSpPr/>
            <p:nvPr/>
          </p:nvSpPr>
          <p:spPr>
            <a:xfrm>
              <a:off x="620640" y="2400480"/>
              <a:ext cx="376200" cy="37296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3"/>
            <p:cNvSpPr/>
            <p:nvPr/>
          </p:nvSpPr>
          <p:spPr>
            <a:xfrm>
              <a:off x="822240" y="3346560"/>
              <a:ext cx="219240" cy="2300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4"/>
            <p:cNvSpPr/>
            <p:nvPr/>
          </p:nvSpPr>
          <p:spPr>
            <a:xfrm>
              <a:off x="992160" y="3351240"/>
              <a:ext cx="55440" cy="187200"/>
            </a:xfrm>
            <a:prstGeom prst="pie">
              <a:avLst/>
            </a:pr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5"/>
            <p:cNvSpPr/>
            <p:nvPr/>
          </p:nvSpPr>
          <p:spPr>
            <a:xfrm>
              <a:off x="836640" y="3365640"/>
              <a:ext cx="58680" cy="172800"/>
            </a:xfrm>
            <a:prstGeom prst="pie">
              <a:avLst/>
            </a:prstGeom>
            <a:solidFill>
              <a:srgbClr val="b3b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6"/>
            <p:cNvSpPr/>
            <p:nvPr/>
          </p:nvSpPr>
          <p:spPr>
            <a:xfrm>
              <a:off x="1461960" y="3481560"/>
              <a:ext cx="185760" cy="125280"/>
            </a:xfrm>
            <a:prstGeom prst="pie">
              <a:avLst/>
            </a:prstGeom>
            <a:solidFill>
              <a:srgbClr val="d1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1A8A-B072-4A4D-9D30-2C9F0D5605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48980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ПОЛИТИКА ПО ЕНЕРГИЙНА ЕФЕКТИВНОСТ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5708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иректива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2006/32/ЕС за енергийната ефективност при крайното енергийно потребление и енергийните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Закон за енергийната ефективност (ЗЕ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ационален план за действие по енергийна ефектив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аредби към З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C614-6455-4715-83F7-62E24E09895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900000" y="4221000"/>
            <a:ext cx="7355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иректива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10/31/ЕС за енергийните характерис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а сград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732720" y="3357720"/>
            <a:ext cx="1893600" cy="208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CF8-1671-489D-B3E6-D64F69106D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1341360"/>
            <a:ext cx="806472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ационалният план за действие по енергийна ефективност се разработва въз основа на Директива 2006/32/ЕО за енергийна ефективност при крайното потребление и енергийните услуги на Европейския парламент и Съвета на Европейския съю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ървият План за действие обхващаше периода 2008 - 2010 г. и в него бяха предвидени за изпълнение следните групи мер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ормативни -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закони и наред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анъчни -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анъчни облекчения за собствениците на сертифицирани сград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Организационни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одсилване на административния капацитет на АЕЕ, енергиен мениджмънт в общините и в промишлените предприя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Финансови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одпомагане усвояването на европейските фондове, Фонд ЕЕ, ЕСКО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о 30.06.2011 г. предстои изготвянето на Втори национален план за периода 2011-201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476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НАЦИОНАЛЕН ПЛАН ЗА ДЕЙСТВИЕ ПО ЕНЕРГИЙНА ЕФЕКТИВ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B767-E5E7-4AF7-BD6D-09BB2BA3722F}" type="slidenum">
              <a:t>3</a:t>
            </a:fld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971640" y="4755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ЕС - ПЛАН ЗА ДЕЙСТВ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1484280"/>
            <a:ext cx="8388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Очак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√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икономия за домакинствата до 1000 евро годиш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√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създаване до 2 млн. работни ме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4581360"/>
            <a:ext cx="83883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Мониторин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√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междинен преглед през 2013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√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при вероятност да не бъде постигната общата цел на ЕС - правно обвързващи национални цели до 2020 годи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2852640"/>
            <a:ext cx="78483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√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амаляване зависимостта от вноса на ресурси от определени стр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√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разнообразяване начините за производство на енер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√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укрепване мрежите за пренос на газ и петрол до четирите краища на 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8F8E-BB77-4118-AE4F-ACF7BE2049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1773360"/>
            <a:ext cx="8388360" cy="34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амаляване на потреблението на енергия в поне 3 % от обществените сгради всяка година и да превърнат енергийната ефективност в условие за всички извършвани от тях покупки на стоки 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амаляване на потреблението на енергия в офиси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амаляване още повече потреблението на енергия от домакински електроуре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повишаване ефективността на производството на електричество и топ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изисквания в областта на ЕЕ за промишленото оборудва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извършване на енергийни одити и управление на големите комп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ъвеждане на "интелигентни" енергийни мрежи и уреди, даващи на потребителите възможност да намалят потреблението на енергия и да изчислят колко спестяв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971640" y="4755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ЕС - ПЛАН ЗА ДЕЙСТВ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1268280"/>
            <a:ext cx="69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Задачи и очак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680F-5D1B-44CF-9174-6C24DF193B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971640" y="4755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ЕС - ПЛАН ЗА ДЕЙСТВ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1341360"/>
            <a:ext cx="69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огноза за потреблението на първична енергия за ЕС до 2020 г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580536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99"/>
                </a:solidFill>
                <a:latin typeface="Arial"/>
              </a:rPr>
              <a:t>Източник: ГД "Енергетика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129800" cy="374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69D-CAF4-401A-8A19-8F88151CC1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71640" y="1413000"/>
            <a:ext cx="74167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Публичен секто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публичните власти следва да определят за ремонт най-малко 3% от сградите си (по области) всяка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систем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о прилагане на в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исоките стандарти за енергийна ефективност при закупуване на стоки, извършване на услуги и СМ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971640" y="4755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ЕС - ПЛАН ЗА ДЕЙСТВ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2924280"/>
            <a:ext cx="763272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Индустр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големите компании трябва да правят редовни и независими енергийни одити, организирани от самите т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обмен на най-добри практики в областта на ЕЕ и проекти, насочени към изграждане на капацитет за управление на енергията при микро и малките предприя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4797360"/>
            <a:ext cx="77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Домакинства: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подпомагане навлизането на фирми за енергийни услуги на пазара, които да се явяват като катализатори на ремонтните дейност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енергийните компании да дават възможност на техните клиенти да намалят потреблението си на енерг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971640" y="98028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Задължителни мерк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EE8-9BCE-4BF1-B616-E667282CFB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7848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-511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ланове за енергийна ефективност и програми за тяхното изпъл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511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Енергийни обследвани за всички сгради с над 1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000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кв.м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лощ и промишлени системи с над 3 000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Wh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годишно потребление на енер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511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Инспекции за енергийна ефективност на отоплителни водогрейни котли и климатични инстал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511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Енергиен мениджмънт в сгради и промишлени систе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511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Изготвяне на годишни отчети за изпълнението на плановете за енергийна ефективност и за управлението на ЕЕ в сградите и промишлените систе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511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редоставяне на информация от търговците с енергия за изпълнението на мерки за ЕЕ, реализирани продажби на енергия и изпълнение на индивидуалните це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47556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ИЗПЪЛНЕНИЕ НА ПОЛИТИКАТА ПО 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9589-5364-4E48-B685-D60FBB6B96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0" y="549360"/>
            <a:ext cx="9144000" cy="532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826920" y="2997360"/>
            <a:ext cx="792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042920" y="47628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ФИНАНСОВИ МЕХАНИ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755640" y="623736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4724280"/>
            <a:ext cx="7632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роекти за подобряване на ЕЕ в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сгр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ромишлени проце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комунални обекти и съоръ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руги случаи на крайно потребление на енер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1052640"/>
            <a:ext cx="37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Фонд за енергийна ефектив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1557360"/>
            <a:ext cx="7632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Бенефициент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общ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фир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асоциации на потребители на енерг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малки фирми и физически ли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финансово-кредитни институ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3213000"/>
            <a:ext cx="7632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Финансови продук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отпускане на зае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редоставяне на частични гаранции по кредити, отпускани от други финансово-кредитни институ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безвъзмездна техническа помощ по подготовката на проекти за 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FD5A-7A40-499B-A9FB-CDC1CFCBFA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09:39:50Z</dcterms:created>
  <dc:creator>Utilities11</dc:creator>
  <dc:description/>
  <dc:language>en-US</dc:language>
  <cp:lastModifiedBy>Filip Fikov</cp:lastModifiedBy>
  <dcterms:modified xsi:type="dcterms:W3CDTF">2011-03-15T19:44:15Z</dcterms:modified>
  <cp:revision>299</cp:revision>
  <dc:subject/>
  <dc:title>Slide 1</dc:title>
</cp:coreProperties>
</file>