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dt" idx="112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ftr" idx="113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 type="sldNum" idx="114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7B2190-B532-4DA3-AD5B-9E849A527E0A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400E7F-1CBC-41EF-A21E-771EB7FE30EF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8B3669-29ED-42BF-8B61-F2DB10C3689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623734-BAB7-4BC6-A7BA-8963651793C6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2B8EA2-5C9F-45C1-B365-9884C4F5B856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878F20-6AA1-467E-9A6D-FB8D1E9D0F0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0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EC172C-D21B-48EC-92B6-5BFAB5469730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71D-14AF-4CA4-A6B0-30CF0143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47A-C333-4F71-90B5-E3195DE1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B492-F3A5-4360-95E1-5E570A7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3FAF6-6A77-4E8D-84A1-2173E01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8178F-548F-4352-9F6C-5D3F3920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D0457-8804-4420-98E7-1A6BBB3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E11C-CF4E-4715-ADAD-5667522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2FEA-084C-4FEE-80EE-E9BC8AF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C18FA-3320-4A35-B955-61E320B9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1619B-325F-4BB2-B403-A70D6308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DD4C0-D1DF-4489-99F8-FCA6AD90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7F842-2F90-4248-BD18-C2FF890F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1A8-CA0D-46C5-8EEE-6870DECF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9DBF3-58F3-4EF6-A620-B1FB52E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89D94-042E-4FA0-8690-F2018A2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EC1E-2648-4F69-B245-69613C4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63CB-2DEA-489E-B99C-0AB0C7C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AAF30-B51E-46E3-BB48-9C37C04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3903-B244-40D1-9986-2D556B8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77AAE-4759-4F2D-A1B0-E3D3D4A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C6615-BACF-4EE5-AD76-07F2320B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1DEC9-5917-4E7C-A86E-4FFB1944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93B34-9164-415E-8E46-891F688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74D-40C4-47F5-BA58-D00AB494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74A5C-CB16-4D3B-8171-E502C5B6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0FE6C-2375-49EA-88E9-F7B0FB1A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F142-DB60-488D-9991-8196175D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5C89-4C1B-4429-B769-AF1B4EE3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21318-7F64-4725-B6F3-D6AA400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75FE4-7930-41A1-A7C0-286DF5C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CAB83-B99F-4581-B281-0876C0F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26967-CF78-4F5B-BE6D-2FC0B11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2EB96-870D-4875-9E1B-9788826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7F76B-8FE3-424B-81C2-2ED5E1D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3C7-7C3D-4CA5-B05C-D140B44D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63570-D3E6-404B-A740-73F0968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7AA61-CD80-46B2-9588-33EBED2A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27EE-4C93-4EF1-AB33-F75C3C3D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627AB-5318-4C69-82BF-3A25119F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4579-2D6D-474A-AB0D-CBA2C64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FE411-4360-4588-B47D-8FC5176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F6D48-C624-4162-90C9-A27CB61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4ED06-DB37-471A-88E5-15518C72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5ACF7-213E-4A62-8355-37E377C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8A91D-7546-42FE-B16D-134E8EC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4A23-4BEE-456B-AB7F-7567FE1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A76F-AAC0-4A6B-A3A1-A5B87D4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5E9FC-EE0D-406F-BF7C-7393C0B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72440-9CEC-481D-AA4E-FEECA756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F17F5-FA67-4A95-A09B-825B979E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4F39F-DC60-4F6A-8611-EF2D1F9A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213F9-388D-4153-859D-673A2471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4B08E-B2B1-4577-9227-1C3658B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73C41-AB3F-4356-ADA9-1C6DE7FA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1EB22-69BF-4921-8FC0-594465AB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CAE6D-A088-477A-B14E-CC73A61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846-005D-4821-91BA-C36B7E96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85DD0-0037-4F4B-99A4-46A300A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78966-161E-4A84-955C-0D61CE5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8DC8C-C977-4D53-85EC-91DB530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D544F-595F-4C34-90A2-E295F15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C9B2C-0E02-48AF-9BCD-7A7919C4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84F6E-CE32-4284-83E2-33C696B1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5FB97-3CE5-4FD7-8638-73AA20A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0F68E-F8CD-4DEE-B51A-1CFF1D0D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A5FC8-8A68-4F59-AE9D-5644FCC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95E52-C06A-4962-A824-F837A2A7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F99-3400-4AC2-9DBD-C1D2CDDA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2B6A3-9E80-4BA4-B848-CCCA3CE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E921D-AC8F-464E-AC71-B674FD85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27F7B-3C98-41FD-BCF2-7C61BD3D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44413-D7A6-4328-A750-BDC1E35C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5D28F-90A9-48DA-AB71-EAB27A9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38934-35A8-4690-8DFB-C5317B3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EFFE-EA60-4C6E-8D54-32F3ED2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6E796-F79D-4B15-8DA7-C62020AA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E909F-8E1A-4864-AF9A-15901403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A49AD-6839-4ED7-AB80-0600DB1E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1140-1AB2-432D-8B8C-62152E1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F6051-3F4E-4BE9-94CD-F965699F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F3873-7D13-4234-AA79-406A64F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3BBB1-7059-4B52-95AE-FACC6E2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B423F-E001-48B8-B01B-70BF810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FF009-F06B-4D23-B965-F4FF8DFB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FB397-0915-4A19-8F3C-AB35D50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CC847-6FA0-4018-BC6D-B4694CE8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954EF-5293-408D-94CA-C528C18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F0800-1AF3-4BD6-B659-0B2F1BEA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6ADD5-CE1F-4E1C-9609-D4943FAB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995A-F484-4339-BD3F-A260315B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DF6EA-17A9-44C1-A43F-A73B4F2F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70283-F233-405A-A071-67DE4EE0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F4DFF-5F66-4E37-B926-B278251D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4E88E-62D3-4C3E-BF89-8F1B91D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05A4B-05EA-45DD-8ADB-5684852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745A0-830E-4E69-83E6-B1B606A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6A45B-E704-48CA-AC60-36EFFEA3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2486-D927-4FA2-B450-97DE6F71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998FD-7363-457A-8A1A-D8BDD499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ED506-9B89-45CA-B732-D8D15D5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B3E6-8B42-4B8C-85CC-C90B673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1AA2A-1859-4437-8DA7-4201B30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53D20-1E8B-4C59-839D-B345875C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51FFE-0DA6-4130-9CF3-E2EB0256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CF743-273E-4732-A98B-6EB4D911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6D126-9F4D-454E-A12F-D08A7205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FF9E8-D9CF-4D97-B4C7-B7465DAE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40F85-FF05-497A-A14A-F2C731C5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407B4-087D-433B-B8E5-CDD75B6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A39D6-93EC-46D8-B31F-23E458C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4C535-E9E4-45F1-9DDA-027B463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178-E12F-4BE0-824D-25B4F42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20B7-6BEA-4ECA-A201-0B5A32C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D8FE0-C20A-4647-8133-9C70FA7A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AEB3-2E8A-492E-9475-A1E2E24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B00BA-9A86-4F23-8E72-F70CB91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027E2-B1FA-453C-93CD-2F3F00D9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2A276-1401-4EB0-88CC-D7FC1E79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12661-74C4-44E9-8154-604F6CD4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6A4BD-D830-4E21-BD05-0321E48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FAA42-844C-46F8-B934-DA1CBF58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9FEA2-B93E-43B1-8936-B45DF68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634EA-E5F7-4EA1-9ADC-DB436F3B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6EC-F2A4-4D23-83F7-A1F20EB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C1BBE-BAF3-4C30-A22F-B4A906D6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06E1E-5D63-4A6F-B702-0C38DF7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353AB-9A7F-4CB6-9015-E5EF686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E7A68-78A5-49D3-92FB-06EF4F0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FCC95-8947-4033-A324-D49E192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402C86-6E74-4ABB-87D2-8630E700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FDEE4-F385-4484-B65B-8072361E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0FAEF-8AA4-4D9B-AC5E-FBA64393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9353E-DBD4-4A12-B1BA-3DD38B3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E3A3D-1DAD-4F07-AAEA-A8B06C42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4BD-3AF9-4E2B-AB8D-C3E3A8C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225F2-D30C-400E-8FF6-E5D3AC9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4AFC4-2060-4B04-BED3-047888B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5B3EC-EB12-4EB6-82CE-F229501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587EE-0751-4381-8B30-DE1905A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9D537-5C16-413F-9BB2-0205877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43751-80F2-4DFB-AE09-0F61B2C2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77D2C-B92E-409E-A0BA-1CF420A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FB24DA-C6B3-4E04-9E74-59E6A8BB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71177-E898-4766-9411-F9448AB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9C8EC-0344-416C-8E28-B21F8AC1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35B2-84C0-49AD-83AD-EA423A5F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0141E-E1DD-4984-BB3F-94084EC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D9885-52E2-4B82-A65B-4D1A11E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082B7-508A-4F8B-AA61-7A9D9A2D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F7D4A-050A-4BD9-AC0E-6E20C4E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726FB-6D0F-4FFF-98CA-1A927DB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860732-0ECF-4C4F-A349-88AE4B19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8F845-DBBA-4DF3-9CA4-7683BA8F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899F1-8633-4720-8656-A25F978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39A44-29EA-4478-8B8B-CBC16C43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96635-BB1B-4FF4-86B0-69C8193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FC5-B508-4A6B-A752-D6731342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070E1-54FC-4E0E-9744-59E8CC14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D68D9-D7E5-434D-B06A-FE86C202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33079-65A7-4D2A-B4E9-CB946EF9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E8DCF-C492-43A8-97DF-D8D6FB1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A056A-339F-4AF0-B535-B58D642C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BDDEA-C6CF-4E87-B166-27FF1F2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21C5FA-D9E5-4B9F-9DE8-BE8EB27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B01C35-FA6D-474E-91A3-8CDAFB6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0074B-DC4F-40DB-B91B-C51B7FB0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43D4C4-6B78-4B7C-8234-26CAE5F4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982C-263D-45A0-8BE8-A73686C5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3E2B3-5073-44D5-88A1-80DB418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9D01C-A997-44BB-8E85-FBE48EBE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88067D-EAC8-461D-8CD6-73595533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01E2D-392A-47AB-B2A2-884C793B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BE896-10C4-49BD-904D-D20A263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1F9A0-3893-4E41-9D4B-E8D7D6E2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D5025-EAD2-4247-AB04-BE02C088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BFA61-AED9-4FBB-BA76-6AB7D7E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A076C-9924-4E1B-B7A5-69CD21F9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DF26AA-62B5-4253-86A4-5F3548F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F9FF-A55D-44BB-A67C-DB94007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AED59F-0D6B-415C-93C3-A3562CD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F721A-8A24-4153-B6D3-11A7E14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2EF85-A984-47A1-885C-D5CF55C0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AE7FFC-DA16-4B1B-9FFA-705233C1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265A9-6B73-445E-BB65-67F207FF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D33E75-5D04-4C80-B6D6-35DA690C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EDA7D2-D857-4DD5-8B5B-E87F08F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F24E2B-D7E5-4C03-BE34-C79955B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363D02-3B22-4BC0-AFBE-EA43A107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90959-0E91-4F72-8D82-DAAA2A7E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AB7B-ECF9-46A5-8F7B-CB8DD29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B46D5-1C90-4243-BB3A-EC98267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EB0DE5-FC68-4E8E-B151-D9CB186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710310-451A-46AE-8735-0DB66AE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3AD02-8906-4ABF-912C-D8A6726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82D154-4648-438F-8497-C51835C6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AAD214-B353-4291-B412-E1D61449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6F2938-8B2B-45C7-990F-A109D99B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350842-A539-4FF2-B42A-4839F625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87CF5D-1B55-44A1-A59D-AED2988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7D40A-53CB-4BD4-969B-A560310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9E405-7888-45AF-94B9-94066D7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83B20-8805-4F85-9AE9-AA99BCF0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348F69-666F-40AE-8D59-30B14A7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60B0E-2658-4CF1-9646-1E9A81A2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C8B7D5-C5F0-4D9A-8839-1E230A8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19584A-273F-4B55-B142-1B50B99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F8C8F3-3CE5-4C06-9205-D9F7F40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9C44E1-6944-49C7-BB7E-4946BC0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926DB-4B9E-404A-943C-4E5B1E87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0382C2-CB69-46C4-8E87-3CCF94AB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CF16BD-80CE-4B67-9634-478895A4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AD68-CE04-4D3C-B1CA-C21E0A5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71D42F-0D73-453F-9927-83AFAE0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7BE681-D2FF-446B-9D7D-26970A8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0BCC3A-345D-4132-90EF-798EFD66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7E2A60-24B5-43BE-953B-DDDB569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A41030-A428-43C7-B985-5F5C9F9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1BF0D8-E59A-433A-83AF-38A34C1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3CD30-E159-42F9-825E-B1843A5C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B6B816-E430-4602-8A8F-E3E9A72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E00DAA-E2BC-49CB-8275-78E67AE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4E3F36-3031-472D-9E98-4C4E6339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34B-46AA-4A41-8B6D-59A92EA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C21D-64A8-4F4A-B69D-E62F79EE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ED9EEC-3B22-452E-BFA1-59527BA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67F63C-270C-4760-B134-5BBB65D5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D8F55F-4E6A-43CF-8A92-A11EFE6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158438-EC87-4150-BAB1-D93344F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FB58B4-F2C4-4F59-8C3C-255378D3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0E71F2-1BC5-4BD7-AAE8-99D223D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CBA5A-176E-41CA-BD91-E95BB3ED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3743F7-BCD8-4A3E-93FE-0B02ED4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58106C-769C-465C-A41D-1051505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91751-49D1-4DDE-AD19-B98BC768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4CFD-0973-49F3-9966-B84B254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A4D311-C4C5-4E74-8502-207E9B9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E7B986-3F16-4C0D-8083-D341B261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320BF1-5594-48C5-B4F4-F1529E3A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3D00A-CB0A-4276-B662-2B7AB53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6C8A82-3F11-4033-8A02-F5A3B5E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6830F7-66B2-4084-AC09-B651969C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41399A-17B2-47E8-913A-2B8FEC1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840305-AEAA-4FF8-8FC7-93A7164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B461C-4172-47F0-985B-764D8D1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1FA3BD-538B-4964-8EA1-6409A36F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5114-B26A-4C77-B633-0B9DADC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C53400-C535-4C20-947D-36F672E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AD4F42-AD71-4548-A5EA-A354CF96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0ACDB4-8A3E-4318-A52D-989712A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B4BD53-1CEF-4CC8-A78B-A19CD24C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B8CF16-2140-47A6-B2D0-B8C7D03A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CA8F19-12B2-407F-AB63-1FB89719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54F000-4E81-43EA-A1FD-E3B1DC1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4F2C57-AA24-4AF7-BFD3-061BA8B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007905-9AAF-49E0-BC51-F3AB7F2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15F173-86D4-4073-B983-4D639693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E2E9-3524-4A65-840B-B12FFD4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B34BF9-277A-43EC-B2F3-F6721B65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125432-7D79-43BF-BA05-AB982BB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93FA06-E993-48EE-87A6-BF7233C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8B01D3-404D-41E0-9BC7-5368E77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F1477-13E0-46D2-BA49-5442611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2EE720-3ECF-48E7-A479-7AA87E90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499CA3-8CA9-43AD-8631-AC930739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1C283D-512A-4442-BAD6-484B254A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734566-8335-4B3A-BD2C-7939AA6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9807EC-BC67-4B9A-BE3E-E136A004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E3C4-259A-4E04-AF71-3F08ED54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6DAE93-C2AA-4A29-93A9-6FEDB104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B06AE-0E89-43F6-851D-29A194C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ACC35C-CD3A-4030-AFCC-A5B723FE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B64045-5A6B-4F9E-9005-1DB2059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5E7EE5-1F18-41E3-BA7C-4984CAA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4BB870-FEFA-43CF-9AD1-35493AF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DE4C97-9595-42C1-8357-5ABC608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59B601-A832-45B8-9185-52EEE225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A49276-7CB7-4EFC-A331-4796C662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CA2A64-6164-4F3A-A6B0-762BCF06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0BFD-1270-4DFB-B4FC-52B06DDF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731AE7-A68F-4D55-9521-724332B4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6DDA6E-6A11-48AD-A195-DE465FE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78EB3E-9F67-42BB-879F-9E90021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629D59-A846-452B-8221-9A38205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164798-5295-45A4-8474-FD348B2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B2CF1E-075A-458A-BC31-803CF14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79A6A9-5435-4DF8-BCD3-620473C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AA030D-9E36-4688-A655-9185078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C3A66C-82BF-4368-BBD0-D5436684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61BC4D-A1F6-4377-A35F-81F11E04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293D-C4F4-47C1-89B2-1FA0AA8D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69586F-18D7-4E5F-B79B-0A0B0B7C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0E72CA-4479-45E7-979B-D1978C2C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194B81-1449-4160-99CA-C716BE65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9E4B22-1C68-4E9F-AA1A-F15E9496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5A799F-0769-4DE2-BC52-9DB55F8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F16180-62D8-4D7F-B276-A044506C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A1CE22-8A3F-44B3-B92E-7E396D0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AE29DF-7BD5-4F71-B28E-5A9CE40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5DA205-280E-400A-B067-AB8005E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0C3FB5-CE90-4FC1-96D2-9B4C8C3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F145-536E-463E-B023-2B0AC36C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FCACD4-DFFC-432D-B748-AFF5FD7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E563DA-102E-456C-BA08-28C9B671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6B037-8AD5-4B50-85E1-3293D1A1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FE7BB2-6FF6-4B0A-ACED-DBDDC528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84F780-ADA1-438B-8116-58D4160E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70E88F-7E04-49E1-962B-C235729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2E00DB-848F-4576-96A6-DC9CE85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82068A-6448-4D71-B9A4-DE19FCA6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07B79E-F67C-42CF-8E39-26D7F2F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4AB7C5-DE75-4744-AD08-3114484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5AA9-6B36-4A37-A29C-8097401C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D2E1F3-E096-4E56-BC78-C96887B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B52C6E-4F78-4470-B21B-A0FA294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184694-E580-4ED2-8965-8CC80398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AAF2FF-F6BB-4E1E-B9B7-BF34A0CD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DF6083-3EB5-46B1-BCD5-1117F35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9142E2-1293-42D0-BB7D-5C381A9C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CF283F-25B3-43F0-BE8E-09C6D93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9F7C13-9755-4FB4-83FB-11782F19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78E21A-C0BE-41BD-A3BC-41FB4ED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9B8674-9C33-4AF8-A07E-64A1750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2BC6-24B0-456A-A965-4C57EEA4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DACA84-20C2-4894-9217-955BE65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F4566E-E9D7-477F-905A-1DCA66D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DE7C14-D0BC-41AC-809D-60D96DD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7301C4-6AE4-4B22-89B1-8370C7E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9FDAF2-249B-4EA6-84F4-5DF5F1E1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3B46E2-4BAE-4587-B3F6-7899F00A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36849C-0535-4F1B-9811-F34AFE00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094B71-876C-417D-B30B-7833FBBE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A7471A-BC77-4926-9C46-7FEBC650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BEF360-B90F-4674-AD97-DF90E76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0FD-7589-40D2-8FB7-2F157FD8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6F7E-148F-4CFB-8F4C-55167E6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F371A6-EEA9-41E6-AABF-8CA832C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4BBDCE-BEB2-48FA-8D9E-1B588D0F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28F47B-4BC0-4352-80E3-B308831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99E8DA-7044-4FE7-80E8-0F5A387B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30405F-8CE9-42E6-B04A-02FFBE64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75FF38-E281-41B6-8111-1211893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70873C-F1A9-4DC2-A74B-D601244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2B5F71-FA27-40CD-B2ED-CD824455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B4D6DD-19FC-40C8-8896-A21B5D7A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2DC072-7884-419D-8311-5DF3CB7D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4F7F-1C70-44D2-B46B-815E6130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124244-AAC9-4F85-8C53-9031291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016619-54FF-409A-8543-1BE955BF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D91476-FD42-4A70-82FE-F02BAFA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9F9F36-9D28-466C-98BB-7796408A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D7B583-2F82-4563-A4DD-614F417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CF8F77-1212-430D-9ABD-FDCBCBB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0384AE-68AE-4449-BC29-B2236DB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999880-C61E-4456-B0BE-7BABE8E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F06022-3F50-45D0-9BD9-25BA0C9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DA0B1B-1B18-4897-B9BE-62B726F1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14A5-54B1-481A-8048-36F64810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590CB8-A01B-457B-BC01-129A4BF7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1476B9-2B80-4B91-87C6-6891DD9D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ACA760-4104-488B-8B3D-050F08C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1F287C-9F6E-44D0-8345-1195A6B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AD0423-7E15-4457-A387-BADFBCB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C46DA5-9AE6-4BCC-8E3C-5FA6B667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14D287-2B8E-4214-8A2D-7949986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930459-8DB9-4D3C-9918-3C6AE93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DAB1BA-190F-4072-9656-67B427E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04C29A-C7E9-49DE-BF6E-5B25F43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F1C4-7393-4BED-BC33-DBBB41F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ADE715-26A6-45F1-A071-8EF810A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E53151-AC28-4247-8907-EB91C825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A34E20-410E-4754-ACC3-100314E9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B40191-2320-4AE9-BDDD-3BB0754B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3510E2-7690-49EF-977E-EBA3658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E56AC8-6DC5-44EB-BA8F-3F533C82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0B8E06-BA91-4E56-9FF2-C12F800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775B7C-EE48-47D9-AE89-92856315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5F9170-4D58-4163-B4F7-CF840C7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F6E40E-D6EB-4AF8-AFE4-8354DB5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C041-B291-4909-8F19-EB45CA59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5F1F83-85CB-4992-BE98-F384D56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C5053C-B728-4A20-97E0-1292762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DABEC3-0797-43D5-B8B4-5460359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F38BCB-339D-4081-952D-DFA96450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7D7E55-EAEC-46E6-B8D8-E13B9258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C7C2-8431-4A9D-B3EF-9AF9DD6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9F14-FDFC-41B9-8A40-6594EF3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21F5-87E1-4C51-9B86-C731FDCF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3B34-65BF-4F63-9DC4-1CF9106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7D71-51A2-44C1-B1EE-64C33F4D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2F8-E356-430E-BFC3-38AD5DE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D156F-62D6-4962-9533-B2A79F7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D94C-7238-4A8F-800D-8A399DBE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EB98-3474-4DA8-A5E4-1DE9A00B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EF6F-044B-4353-93CA-E97B9FEC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F541-33B4-41A5-918E-7FAFC8B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E35C-8FA8-4046-953E-EF95492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8CE7-9431-4C23-B8E0-EC56E70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4CA8-8605-4540-A8AC-8B284A5E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C1FE-4873-47EC-A96E-1F881F4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C678-E2CB-4502-85CC-851E5FB2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B76-94F4-4CED-B14F-93C5545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94AF-B831-46EA-89B9-ED48A581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16BE-AE91-464A-BF4D-84F02D8E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72A5-EF9B-4AF4-8F4D-5C8ECBFA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9087-FD99-4832-9EC3-8DF9E0F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FF15-C188-4B46-82A7-1A5258DE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260F-806D-40C4-9B08-D8213CB7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4AB1-8CD6-4142-8CBC-3AECD78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4A7DB-C9A2-4234-B50E-9F919D2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B1A0-45C7-4F52-9BC1-E1477CA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F4266-CE39-480A-BCAB-CE12B7A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4CF-D5B1-4695-AF69-B72A3FD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8DA4-8C71-44D9-A2D0-DAC8043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9F8B-055C-41A8-992D-BDFB9CCE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B7F1-06D4-492C-8641-87BF356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71EE-F802-440B-81CE-87C6EE97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EEC3-CC58-4786-94DF-2DEBF930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D9A7-12B8-4039-99C9-74C72AF1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F944-737A-46DA-BC23-0A6A3B4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850B-4DAE-4555-BFE5-9C7789A9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FFF3-250F-4F8E-BDB4-9C5FFE4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0C9DC-4E4F-4C07-A0C1-C23A7F0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7CC-A2E1-405C-B5B1-13668EB0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2B6C-BFEC-48F5-ADB2-FF9573D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2BD2-E563-4B25-BEF2-CEDF648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5F566-0304-4B9B-8352-EF550F2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31134-1FDE-49F0-A186-8BC85596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C769-10E5-4C1D-AC0A-02640858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54CEE-DEA0-4EE8-BE61-5E78D8F9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6BF8B-EC48-4B84-8BBE-008A21E8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1E382-726E-4469-8AE6-D72AE8E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5D1C-2BCF-4E02-93D5-9CCE287F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4B01-BD58-41E3-BF06-80FF0057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811-2B1E-4C4D-827F-EA58B26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980F-8EC4-4FC0-BAEA-83E9214D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9F428-F675-450E-A037-7F2B6AE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D6356-BC1E-43C6-8E1B-EF4279F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8706-2D5F-45FF-B0C3-21E70CF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1C1B-4E5B-4EB5-B665-53A48C4F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ACD84-A7A0-4733-BCCE-F782AD26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4130-4AC8-4DF2-BCD8-B82794DD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D8001-1586-4D6D-A0E8-1D32657F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8825A-E5A0-4BA8-B2FD-24AA9DB1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E933-0B5B-4434-B25E-87B1FFC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406-D2A3-44EB-8872-74FBD7F491D5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077-FA65-4AEC-8F20-49E456AC896A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0B1-0721-4089-AAFD-FA7B4ADC5B1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4EA-9BDF-45F6-998F-C01CE732371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62E8-8F37-4ADC-A61A-71CDBB4FCE2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EA40-1969-4827-9C01-F2A636DA15D9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E22-4D48-465A-8A89-584A1F92574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44C8-1BCA-413E-9DCB-0C1C51268BEF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575-419A-4D28-A213-D9381A5B762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C934-C72E-4F5D-8326-83A8250DC78F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4116-6EA3-4258-ADD0-2D59BBA202ED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4349-6B91-4CC0-999A-9E26C916C19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7A15-49B6-4A8E-A56F-882EF591BB6D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974-4CCD-4D28-9FD1-7B502D2AB14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5E71-83E1-48EF-BFE5-B5E4808800F6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E5FD-8DFD-42B5-8A7D-284C5EB0095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98C5-E086-49E0-82E7-A1495F000E17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904D-B40E-4F6C-8D57-0F03DE279CB8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3DAB-7A0A-45E0-AEF4-E681837092F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A43-6F00-4DE7-BC99-1142CE0636F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957-C732-4A6C-8892-C65FA39A3CA3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BF60-4EFA-4F68-9CBC-08700D0C123A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AA3B-C13B-4723-A318-BEBFA66092D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C93-125D-44E5-AE91-40F2EEDE77F6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7C2-4C71-47CB-8245-0800C162373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78D-57E9-4FBB-9C1B-E1217BF4DE5B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232E-D995-444E-9C2E-F55206F47CF7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ED93-F273-4E5F-A07B-5B764B7B9A0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0DF-99C1-43C0-9B43-9E0BE1D3FFAF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902-E171-4796-BB0C-2BC41A1B5D8E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ED47-202B-4B19-9525-515C5103B788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922-1611-4BA5-976A-ABF5FED1330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928F-094F-428A-BC47-DEFB2FE64B71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BD9-C457-48D0-BE77-30EEE5AC2DA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7433-4386-48BB-8FB3-5EB305EE7B4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B6B-F475-4E55-B0B2-E8E8CA7850F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F7A-D9DC-4636-8B92-9638D6BA8740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1" descr="slide_EU logo.png"/>
          <p:cNvPicPr/>
          <p:nvPr/>
        </p:nvPicPr>
        <p:blipFill>
          <a:blip r:embed="rId2"/>
          <a:stretch/>
        </p:blipFill>
        <p:spPr>
          <a:xfrm>
            <a:off x="7667640" y="18900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7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084320" cy="1152720"/>
          </a:xfrm>
          <a:prstGeom prst="rect">
            <a:avLst/>
          </a:prstGeom>
          <a:ln w="0">
            <a:noFill/>
          </a:ln>
        </p:spPr>
      </p:pic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2014 – 20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Четвърта версия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2014 – 2020 г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офи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май 2014 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Content Placeholder 2"/>
          <p:cNvSpPr/>
          <p:nvPr/>
        </p:nvSpPr>
        <p:spPr>
          <a:xfrm>
            <a:off x="108000" y="1281240"/>
            <a:ext cx="8955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62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 Съотнош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75%/25% безвъзмездно финансиране/финансови инструменти за жилищните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ОЖС” в МРР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студентски общежития, финансови инструмен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70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91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79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(общинска)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0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63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52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8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и инструменти за 39 общини от 1-во до 3-то йерархично н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63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 и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3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39 общини от 1-во до 3-то ни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Content Placeholder 2"/>
          <p:cNvSpPr/>
          <p:nvPr/>
        </p:nvSpPr>
        <p:spPr>
          <a:xfrm>
            <a:off x="81000" y="1620720"/>
            <a:ext cx="55706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условия за модерни образователн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Методологията за приоритизация на образователната инфраструктура, разработена от 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Content Placeholder 2"/>
          <p:cNvSpPr/>
          <p:nvPr/>
        </p:nvSpPr>
        <p:spPr>
          <a:xfrm>
            <a:off x="81000" y="457524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одобряване на условията за адекватна спешна медицинска помощ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вие с Концепцията за развитие на спешната медицинска пом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8"/>
          <p:cNvSpPr/>
          <p:nvPr/>
        </p:nvSpPr>
        <p:spPr>
          <a:xfrm>
            <a:off x="5540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2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850000" y="4575240"/>
            <a:ext cx="3039840" cy="215424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12" descr="HTMU-after 3"/>
          <p:cNvPicPr/>
          <p:nvPr/>
        </p:nvPicPr>
        <p:blipFill>
          <a:blip r:embed="rId6"/>
          <a:stretch/>
        </p:blipFill>
        <p:spPr>
          <a:xfrm>
            <a:off x="5850000" y="1697040"/>
            <a:ext cx="2952720" cy="24480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Content Placeholder 2"/>
          <p:cNvSpPr/>
          <p:nvPr/>
        </p:nvSpPr>
        <p:spPr>
          <a:xfrm>
            <a:off x="87480" y="1711440"/>
            <a:ext cx="527652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Деинституционализация на социалнит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; Министерство на здравеопазването за медико-социални домове за гри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Визията за деинституционализация на децата 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ата стратегия за дългосрочна гри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Content Placeholder 2"/>
          <p:cNvSpPr/>
          <p:nvPr/>
        </p:nvSpPr>
        <p:spPr>
          <a:xfrm>
            <a:off x="87480" y="4076640"/>
            <a:ext cx="5276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храняване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туристическото предлагане н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ително в партньорство с НП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Методологията за приоритизиране на обекти на културното насле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8"/>
          <p:cNvSpPr/>
          <p:nvPr/>
        </p:nvSpPr>
        <p:spPr>
          <a:xfrm>
            <a:off x="128916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508720" y="4179960"/>
            <a:ext cx="3166920" cy="249876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2" descr=""/>
          <p:cNvPicPr/>
          <p:nvPr/>
        </p:nvPicPr>
        <p:blipFill>
          <a:blip r:embed="rId6"/>
          <a:stretch/>
        </p:blipFill>
        <p:spPr>
          <a:xfrm>
            <a:off x="5508720" y="1711440"/>
            <a:ext cx="3166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Content Placeholder 2"/>
          <p:cNvSpPr/>
          <p:nvPr/>
        </p:nvSpPr>
        <p:spPr>
          <a:xfrm>
            <a:off x="131760" y="1833480"/>
            <a:ext cx="5664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9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свързаността и достъпността на мрежата от градове и обектите на културното и природно наследство с TEN-T 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Mетодика и критериите за приоритизиране на пътни участъци, разработени от Агенцията „Пътна инфраструктур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8"/>
          <p:cNvSpPr/>
          <p:nvPr/>
        </p:nvSpPr>
        <p:spPr>
          <a:xfrm>
            <a:off x="1177920" y="143820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Content Placeholder 2"/>
          <p:cNvSpPr/>
          <p:nvPr/>
        </p:nvSpPr>
        <p:spPr>
          <a:xfrm>
            <a:off x="131760" y="4491000"/>
            <a:ext cx="5592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в съответствие с Методологията за приоритизиране на свлачищни об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8"/>
          <p:cNvSpPr/>
          <p:nvPr/>
        </p:nvSpPr>
        <p:spPr>
          <a:xfrm>
            <a:off x="1258920" y="4076640"/>
            <a:ext cx="504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Picture 10" descr="zx480_1139082"/>
          <p:cNvPicPr/>
          <p:nvPr/>
        </p:nvPicPr>
        <p:blipFill>
          <a:blip r:embed="rId5"/>
          <a:stretch/>
        </p:blipFill>
        <p:spPr>
          <a:xfrm>
            <a:off x="5867280" y="4356000"/>
            <a:ext cx="3086280" cy="2349720"/>
          </a:xfrm>
          <a:prstGeom prst="rect">
            <a:avLst/>
          </a:prstGeom>
          <a:ln w="0">
            <a:noFill/>
          </a:ln>
        </p:spPr>
      </p:pic>
      <p:sp>
        <p:nvSpPr>
          <p:cNvPr id="1578" name="Rectangle 8"/>
          <p:cNvSpPr/>
          <p:nvPr/>
        </p:nvSpPr>
        <p:spPr>
          <a:xfrm>
            <a:off x="1177920" y="6137280"/>
            <a:ext cx="432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16" descr=""/>
          <p:cNvPicPr/>
          <p:nvPr/>
        </p:nvPicPr>
        <p:blipFill>
          <a:blip r:embed="rId6"/>
          <a:stretch/>
        </p:blipFill>
        <p:spPr>
          <a:xfrm>
            <a:off x="5894280" y="1936800"/>
            <a:ext cx="3059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Picture 9" descr="slide_element.png"/>
          <p:cNvPicPr/>
          <p:nvPr/>
        </p:nvPicPr>
        <p:blipFill>
          <a:blip r:embed="rId1"/>
          <a:stretch/>
        </p:blipFill>
        <p:spPr>
          <a:xfrm>
            <a:off x="8078760" y="6021360"/>
            <a:ext cx="1065240" cy="8366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53400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на Оперативна програма „Региони в растеж“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Picture 7" descr=""/>
          <p:cNvPicPr/>
          <p:nvPr/>
        </p:nvPicPr>
        <p:blipFill>
          <a:blip r:embed="rId3"/>
          <a:stretch/>
        </p:blipFill>
        <p:spPr>
          <a:xfrm>
            <a:off x="7736040" y="115920"/>
            <a:ext cx="1083960" cy="115236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1" descr="slide_EU logo.png"/>
          <p:cNvPicPr/>
          <p:nvPr/>
        </p:nvPicPr>
        <p:blipFill>
          <a:blip r:embed="rId4"/>
          <a:stretch/>
        </p:blipFill>
        <p:spPr>
          <a:xfrm>
            <a:off x="361800" y="189000"/>
            <a:ext cx="1103400" cy="1152360"/>
          </a:xfrm>
          <a:prstGeom prst="rect">
            <a:avLst/>
          </a:prstGeom>
          <a:ln w="0">
            <a:noFill/>
          </a:ln>
        </p:spPr>
      </p:pic>
      <p:sp>
        <p:nvSpPr>
          <p:cNvPr id="1585" name="TextBox 9"/>
          <p:cNvSpPr/>
          <p:nvPr/>
        </p:nvSpPr>
        <p:spPr>
          <a:xfrm>
            <a:off x="250920" y="558972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"/>
              </a:rPr>
              <a:t>Резултативни сто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6" name=""/>
          <p:cNvGraphicFramePr/>
          <p:nvPr/>
        </p:nvGraphicFramePr>
        <p:xfrm>
          <a:off x="755640" y="1306440"/>
          <a:ext cx="7323120" cy="5238720"/>
        </p:xfrm>
        <a:graphic>
          <a:graphicData uri="http://schemas.openxmlformats.org/drawingml/2006/table">
            <a:tbl>
              <a:tblPr/>
              <a:tblGrid>
                <a:gridCol w="4910040"/>
                <a:gridCol w="1511280"/>
                <a:gridCol w="9018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о финансиране + национално съ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1 "Градско развитие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6 134 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9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 Енерг. eф-ст в админ. и жилищ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 229 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Градска сре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 176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7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дска ср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712 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ни с потенциал за икономическо разви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3 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Образовате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17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,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 Социа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 377 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8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8 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301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тур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1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Интегриран градски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 034 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2 "Регионална образовател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63 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3 "Регионална здрав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5 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4 "Регионална социал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6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5 "Регионален туризъм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 141 7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6 "Регионална пътна инфраструктур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7 "Превенция на риск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6 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,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8 "Техническа помо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445 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89 272 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БЩ БЮДЖЕТ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589 272 2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Zdravko Beshendzhiev</cp:lastModifiedBy>
  <cp:lastPrinted>2014-03-20T17:15:04Z</cp:lastPrinted>
  <dcterms:modified xsi:type="dcterms:W3CDTF">2014-05-21T12:05:41Z</dcterms:modified>
  <cp:revision>496</cp:revision>
  <dc:subject/>
  <dc:title>Оперативна програма “Региони в растеж” 2014 - 2020</dc:title>
</cp:coreProperties>
</file>