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dt" idx="112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bg-B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 type="ftr" idx="113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6"/>
          <p:cNvSpPr>
            <a:spLocks noGrp="1"/>
          </p:cNvSpPr>
          <p:nvPr>
            <p:ph type="sldNum" idx="114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bg-B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E73495F-E9DB-4D98-8FB9-BDDFE1D8D10B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0CB5A80-CAA8-4B5C-ADB9-AACD9DAD8179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8139758-4F6A-41A8-97AA-6CEEF3F843BF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595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5EA40C5-87D7-4AC5-AF3B-286673ACD377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4C95A68-988F-48FE-9DF3-DE0A85C7DE02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B6DD74E-8118-4CC4-857B-61C6A7588A1B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04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E3DB5A8-8498-4376-90D1-E0992AA4FD43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60A8-D219-4E81-90DD-ABC7944F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5292-6D1F-49E9-8BD7-37C882FB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E69A4-3540-4663-8B60-2DBFC2A8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773E1-5DD2-47AD-8EDC-A24B48CA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057A3-EEF0-461A-84D5-7CA12B81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9071D-E757-46D2-B0A1-890E5D44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EA5DE-A4AF-4A67-9057-314199E4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4E192-0984-40B4-BFB1-F91C2245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3ABDE-BC16-401C-A8BD-7B78FEEF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5DA0C-72BA-43B7-B247-E4EA3F73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2E5CA-E338-4AB9-8195-CAEA2634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B8E94-3787-4B41-83D2-F879E7C0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DA2-0214-43CE-B2CB-384DBA0E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C9CED-FB7A-45E1-8556-E224C8A3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F1574-E233-42E0-9666-78ECAF1D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CD7B2-4F8B-424C-88B7-9FFA0048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C6D25-360E-420A-8D2B-AAB3E3B7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4E8EA-DD75-4233-948B-23CB4549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7D608-5292-4055-80F6-52ABE8C5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4D4F5-CE9F-48D5-BB9A-5C673FCE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C6880-80B7-4014-874A-48E5AB0A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82DB5-F582-494F-B27B-E1556DB5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4D2D7-AB6A-4F1C-9FB7-FFFFAC6E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AE2-B8A4-44C8-93D6-DEC5D8D7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E382C-5A53-4E92-B8E3-D7E59A87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4C82C-F180-4B56-918D-A1F3AA49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D9C72-7BC5-4DE3-996D-E2362E19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E3782-CAF2-4267-9F3E-46D6F0D4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16155-A3ED-49AF-ADBF-4F201390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4B462-5C4D-4886-9DE2-B3A9F77C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BE05A-03E3-4CCA-9132-756D4CF3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37466-4781-42C6-991A-AB76F149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72C1E-D2E3-43B8-BBC9-257EAE8C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8922E-BAF5-43AD-83C8-46EFC4E3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19E6-9697-4BD3-8BAD-1066D127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BA6D8-78CD-4D47-AA5E-A319477C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67A17-52D4-4030-86DE-FD4FB33B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B45A0-C682-41A0-AFF5-EA6ECC79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65FC2-2FEA-46D1-8D5D-EBF49C7F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B1BE7-442D-415E-B929-7F5E65C6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063CD-A417-4385-9EC7-5644A86A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53BEF-6CA2-4D78-BD62-C07BDF1F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8F8CB-D23F-4591-B694-3C480A49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8B832-807E-4493-B499-DE6686BF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ECC8E-98C4-44BD-BC9F-FD57A19B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DC9B-0E65-4A9B-BAFC-4A337690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2E3EE-1667-4F5A-B1CC-631ACC08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CBDC8-D9A2-496F-943A-EF621951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7D434-DFEF-408C-A7F8-0E49E460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F2C0B-6B98-4B55-86AD-5E3C69D6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8F2EE-F6A2-4A10-A3C4-C9D0CB34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0E982-20C9-4F1A-8096-616A1ACB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CBB16E-24D2-4882-AF66-D1861FD4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0EC648-9629-4F74-A69E-3874587F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B18BFE-3CA6-4DC1-BAD8-4DB6AA50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BCB1C-E293-47B4-88C5-56F69C51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1244-6C2B-42CE-B399-3A46AE28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3CFFF3-67C0-4A15-90A4-2DD117B1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6C8403-9A34-4141-A05C-C8931D8A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B7B78E-BCE0-4CDF-A8E1-B7B8110A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08234-F1A8-48BA-800F-F359AC1F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35FF7-128A-418C-9511-333CEC1B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A531FD-48AC-4584-8973-2D89786C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ACF189-5DC0-4A8F-A3E6-1471697F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B54FB0-DB24-40B4-8F9C-1F24D434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86B6E2-0D9F-4CF4-9DEA-7132C684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AFED0C-335E-4023-8662-9AA25F57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5350-DDC4-4DAC-9018-F4D8BF7E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A77FD5-1C2B-4782-A2C2-3E0FC0BE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CC0B66-40B8-47B2-BE5C-EFF8D6E7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20D26D-BF54-4381-B705-684E1F7B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301CBC-72E7-4275-9956-4F597B3B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DAC84D-4512-4FC6-B8E6-970A6033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6927BF-3836-4AF6-876E-11D08794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86CDB7-CA81-4B46-953A-AC1CD635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65532C-3891-42CE-8721-6A2B54A4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D9CE75-1DFB-4486-B690-D133A6E7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E6DD9B-B85A-464E-978B-A7A0C187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ECF2-E3AA-4AB1-87A5-004A1BE3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C696E8-8BC7-44F5-AFD2-879322EA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AC4CAB-7884-4CBD-A16F-5638CB57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DB54F4-3A27-4F22-86FF-035DF79B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9CBAA1-B251-400A-9C4C-0CE55BE7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DE7512-E598-4201-9FD1-C3F5C4B7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B8C0CB-F973-4B71-AE66-9AF5ABF9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131349-3DBA-4489-82EC-872D04EA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897397-4526-4723-ACEA-C3CA805D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016968-CCAD-4A9D-91A6-362DADE8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773272-5078-47FF-8AAA-B1113E29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8EC0-227F-4F96-A866-BCBD27CE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1A6908-1A47-4264-A392-6923E268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5CCA81-5579-4F84-8C81-EA4DB6E9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133D3D-BAEE-4B98-8A9C-A05F3CA0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3E5DA0-C470-401B-BEE5-D66ECD69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A031AF-8D90-4CAB-B7E5-261CD4D3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B46539-8669-4764-8775-3BE33629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6B56A1-D283-448C-A9C5-81B0AFD4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FBF29F-3AEA-4291-9BD3-349DFFDA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C200A6-19FC-4D28-96B9-C2EDD0A2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C36CF0-5F13-4F8B-9D6D-B3832FB0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5307-B6E9-4CB2-8D2E-68D39B02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42A967-5441-45CE-9E40-4FA42AF0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F93648-BE08-4389-9AF7-A684E689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EB7083-8D32-4526-88DB-D09E0A31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8C7296-988D-4082-8C2D-A3841CBA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886128-73D2-4592-A250-1740D491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67B807-E59F-499A-8352-DF7C69ED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9A5782-C208-4265-93A5-57CAAC77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132FEE-C10B-44A0-B148-C0A456CF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C9830B-D0BA-4535-B8A1-1E676C15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35CB9B-697F-4C0C-8244-53173C52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479-C915-4DED-A638-4542E023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A6DE-34AE-42D5-9872-DBCE3A6C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BB6799-B0F6-42EF-9360-7690CA86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DF8D0F-E2C1-4566-8085-26AC31A8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6BE62E-83B3-42CF-828C-701BB99C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DD1E54-84BA-490D-8B49-BFFBD377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F9474B-B746-4905-9AFD-EB66596D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5D083D-CC12-4993-8A89-FA20D4C7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7F49F6-9F66-41CD-A52E-F57C339C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81AEC7-F87A-4D88-BB02-C4C47684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26AAAE-A727-4E07-818B-14724127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2EDDC4-F42F-463F-B6EC-0F583F1B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D402-9CA8-4E10-B692-619F13E7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9B02D7-74A5-4D28-B965-E3E09B2A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79F8B4-4993-4403-AB96-6FCCDE6C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4E23C1-1877-4EBA-AF6C-B16F6CD2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E1A170-5C86-4788-BCE6-EA20AE5D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71B22C-C413-4D76-A978-2E75A8BF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F77F4B-23F4-4EE2-AA54-A0DB3050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DE92BD-BFA8-43E6-93C6-0B7BEE11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033A44-5464-46F2-A02D-609B3B98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C09F8A-9C75-4F7C-ACF3-78E3F31C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426371-D9C3-4207-BDED-0340B7B4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CBDB-171B-4D22-8237-7585D210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6D35FE-EB3F-42CB-8F6C-9C523E49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84B063-9AA3-4F71-B4B1-86200E92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DC05E8-CFE4-4A03-B312-9BFDE4DE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962435-D838-40DF-9046-327DE5D1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086F3A-0233-4EC5-86CD-3117DE9B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949515-B463-4F27-BEFC-BBC65539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298E27-3474-437B-99EB-E742BA5F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F478CE-D9E5-4661-8A0A-68035F78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5F1E6A-0598-4EC5-82C3-B2A282B6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25EA65-D9F5-48A0-80E7-350B6D22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CBAB-5D6A-4CD4-8470-D9D4453B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8D38DB-23F5-4FE0-B777-F4471DEC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7B5899-38A8-4038-A914-A8DDA089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5F3E6D-9017-498B-A5FF-353AC110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BB1ED7-993C-47F3-AE16-741B8A41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DE0BCD-B6A5-4FBA-89DF-E285EC22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06BB60-C25F-4C90-AFE4-296C5ED8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9A2662-DF63-4AF2-8C34-205C0B46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C1FAF0-2C39-4903-9A7B-8FC8BC1A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359293-A3D5-4D2F-8F04-5697435A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CE06D9-8268-4EE0-B6D8-0E77422D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7ECE-B52C-44B8-9AA6-9099DD00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6138C9-F498-4DDC-819B-363F9FD6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464C62-2F3C-4073-90D8-D3D3B7A2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A5CF42-B2D1-49B9-84ED-D55E4DB0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97A88C-D01A-45F8-AF6F-27F6D1BE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6690D8-EEE0-4CD5-9FB3-47DE25EE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AA8506-5E7B-4F96-9AAE-AA2A5658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3EC457-7F18-49F0-B0E7-F46A3BB7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FDB3B3-851B-4B8B-A4C4-C441FFF6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D87F47-1B3E-49FC-9074-DA3F6EBC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40630F-2E40-4576-98BB-98FF3D10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9CFD0-D5BE-4B1A-932D-5F2FE98F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53C2D7-BEC9-4358-8B5F-4622B1E2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1E8F03-F5F6-4825-A079-A58C445F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77BB67-FD1D-427F-96BA-5C6F4B58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871C07-B38D-48A1-808A-B8ACF042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7F07C3-7725-4522-9FBD-F4F9638A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EE0946-583C-4A6C-9E8C-A4E52CD8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DA48C2-87E4-4F70-B8A1-85C26027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6B3071-EF02-4CF4-844B-7DDB9E53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E45EA9-BED2-4904-AB17-3F7D39B3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2560F9-26DF-4EF2-BF6B-01650239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CE9C2-B1B0-4077-9C48-19586B8D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9511D8-3F5E-4731-8774-48788307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9F3440-9CCE-406F-A9DE-68122415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9AE1FF-9C66-473B-900B-7E190F3A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89500F-CE0B-4B0D-B0D5-23B45B1C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163783-883D-47F8-B1DB-98E0F114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EAE752-96D9-43FE-9200-FC7B7FD9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FABE00-FC18-42B5-BB94-8D9AEAC8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3D51EE-16E2-48B5-8A47-83573821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1FE6DA-8DE0-4EF6-BE79-3310DEA3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2C80FD-4F27-4D0E-9C98-7720DCD3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5C4B7-FD1B-4C93-A0FF-336EBF51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86A0ED-E097-4852-A463-95C59B44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3588B2-2A7E-42EE-B467-00BC0DEA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B3CA7D-14C8-489D-B3E7-562A4D81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60799D-D5A9-4E84-A680-C765C363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1A9FA7-A244-4220-ADCC-1B781834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656832-022A-4815-8BCC-B6859AFF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5FBA2C-0856-4D4B-B8C9-8DFD541E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CC503B-3312-4B96-B739-E84E44E8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24AC0F-9D16-4731-A2D3-76230ADE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83647C-4F41-4C96-A836-3BFF3150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02E9C-A33F-4224-9624-61574C73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2BB825-80D3-4622-8382-86A2489E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982104-08DB-4531-9C7E-88B527CA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DA23A8-F551-4626-93C3-1EE443EC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29585C-5115-4F34-98AB-C9B3A86B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0F8E6F-1291-4E24-A942-96E47692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D0FF5B-D0FF-4D23-B41F-B52D48F4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B0983D-4158-4A7B-94C8-D30F4B42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232013-8AAD-4DF0-B00F-970AC734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E7532B-0FB5-4D5A-AF69-036DF32F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32913A-D0F1-4CEA-82A0-2C7761BA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AC8C0-AD2F-40AE-8057-0AAD64D0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18D2E5-D492-42C4-A870-A4EED44A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50414A-B88B-4230-9481-5B5C63B4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9A2D24-2DB4-47C5-B695-D7C187C7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8B0E41-F58C-4EF9-9E50-663CCEAB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4A0476-EEB6-4715-8F16-4339700D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98BF29-E248-46E4-95C1-FD177A3B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ACCF7A-8EDC-48A9-AE97-E8617B85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DC5C7D-3529-4184-8ABA-D4CA3BA8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B0E939-BD45-4C19-B7DC-F2A5E052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446725-9F3A-42AC-85BF-67E9E7AF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B788-79F9-4829-9DC1-B77B62F7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344E8-1154-43DC-A32A-5F0FA659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9CB499-3BB1-466F-BDF6-08963365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817570-8F06-4FD8-8452-AA3FA61A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446229-0122-4F3D-939F-51B65738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1399E0-2762-45C3-B3A5-CB259F71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DCC3C3-8AE0-4962-A78B-6784C5E5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2D214B-1730-44DE-A3F2-717F33BC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1140FE-98C8-42E1-BAF6-4E7FAB26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533979-ED95-4B40-9F8B-1C6C73D8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8E9ED3-2A6E-4161-9519-24455275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26EA92-4B08-4D42-9EAD-0D045AD8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55C61-FD69-4727-9BA3-2804E7B4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42313A-D8E7-4A0B-AAB8-CE8D342F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E7E0E7-6619-460D-A71C-7F8E611B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8B9669-3817-4076-B76C-05753909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783971-CF2B-43A6-82E0-6162D2F0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716AFF-DFAE-486A-BB50-462EAA0B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20A491-6CB5-41E4-A5E0-574EA61E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CE2893-2D26-4547-8CC0-CCC8FB2A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588416-E912-49D1-968C-905DE9EF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032D37-3D5A-4266-8CC1-349F1021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1B312A-7FC7-4FBE-8683-9F07B946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5C796-274F-4A53-BB0D-0871E596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C89B7E-4D99-422E-9282-22C820B7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722766-DB3F-41A9-A121-3A10AC2B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AC279D-BEE8-4A43-A317-4B3A0EF9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2F9A3B-ED6F-48F7-A62B-B6A78634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090825-37E7-4E4B-A01A-3C7BF763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40189D-A007-4127-A80F-F63130DA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6C7558-7D0B-4E8B-96DB-CC60D837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DAFD1D-2335-4A41-AC27-EA1C339D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8F5403-E9C1-45AB-B1B3-BF66A678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423572-06C7-4ABE-A087-DA574728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B24F4-E4AA-4B86-A93E-D34F56A5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B06F0B-9014-49BB-BE7A-AFC9E7F8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3E4EC4-4901-4C3D-B601-58011F0A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631B37-0386-4FFE-AD06-35DC5DB6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1C6CDA-3099-4211-8F46-5F165272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3FF3E9-D964-42B0-B8AE-E02A8319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29B53C-B4EA-4A71-AFAD-7FB2EA0A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697310-D073-462F-8EBD-8682DAEF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A6EECD-66FB-48A6-9B1F-C9646116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7B7857-539E-4A85-8CC9-C80CC5C2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53B889-4982-45A9-A7F3-28A52C2F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53869-13E8-4A33-BFC0-24D5D933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95D53D-D73D-4BC1-880C-4ACEF6B8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D5A7C6-5A57-44BF-9918-D463A12D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0144EF-BCF6-4778-94B8-72A7D94F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C3B2BD-49C1-461A-ACBA-1F0B25A6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139F01-E542-4147-809D-EE254A70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BF8F5E-75EA-4307-A10B-8153734A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E7DFB1-CA10-4C49-9B8A-A8B9241A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195D9C-E2E1-483A-A833-B9E4C75F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447D17-43B0-4F74-8838-037BB8EC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0C0BE4-2C04-42FC-941C-FC624318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1C441-C5ED-47A9-8AB6-6AD9D970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CA07EA-D529-480E-BF12-E27D5BE3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C425DB-5B9C-4152-AF0A-4EC545E7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81A0A6-CC97-4A09-B760-D25F60CF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68752B-F6E8-49AD-A149-C1143678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3B3682-1DEF-4396-86AB-DFEE407D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D0418D-4EF2-457B-BAE8-5FB00449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65EEEC-6551-40A7-A3AC-157E3A5F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52BA07-122D-4D38-8283-DC52594C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BCB1CA-E30B-4D99-9112-A39A11E6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71612B-84FA-47BB-B3DD-353A7878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BC12A-ADD2-4A4A-A71F-ECC99906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7A8973-8DB4-4CF3-9D71-57527810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5AEA8A-DCBE-45D2-8A9A-54E3B97A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41B716-3F6A-44BF-ADC1-0A4CAC34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6FBE3A-B8A6-438B-81E1-664937B8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976E2C-95BF-4451-8E7D-98813080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89472B-A9DC-4864-A6EA-E513239C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970D2C-753D-4467-92C9-31366656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007026-340F-41B4-9827-4BAC8255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265E33-B69F-4481-8466-951ADDCF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50EC63-CDDF-4C46-AF35-6ACA0BC4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92EFA-D727-4918-ABB5-20CBA663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62B98FC-1C8F-41C3-A4A9-E9C0974F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73E9D6-F2AB-4ADF-A3E7-0154B545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B13A44-F477-489F-BC3E-DFA382DD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4B2663-0B5E-4847-AD5C-8BD32446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9DDDF99-9F1C-4029-9A22-3892FB86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3D90AF3-E825-4B94-8E0B-43F0C8F0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5F65E9-3B33-4C19-AA7B-C23B6561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2DA107-93F0-473A-A814-877E9504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6F30E26-AB8E-4079-A568-2BFABEA7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0D5723-8394-486B-942F-F67C215F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8E8C5-56BA-4950-9573-B8C023A3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F5DEE57-C477-41F1-8EAA-8AC16E0F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CC6EE7-488F-450E-8042-63BE104E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96A1560-DF49-403F-88CD-39D7CC63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C293922-F8B7-46DA-BA73-72B801F5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3FCB9B-F1D8-47B3-BE84-8D7A7176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1DEC088-5D18-45A8-8E6D-FE14E406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770F4C-B371-49B0-84BC-56F22B72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C1D91DE-98E7-4701-9B71-FFBDC189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5904DE0-5040-4063-B87F-497BFCC0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B42F097-4E78-4F2E-9297-A42A367D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4EE4C-84AB-41F5-B0EF-72C0156C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5144F5-B3D7-4400-A4D2-D59E3B97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09A3674-640F-4A84-8923-DF228903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EF9466-CD5E-4932-A5EE-E60152F5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D60B561-6E45-40CA-B406-6FA431B3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057CE7F-6EDA-483C-9ABA-E69AE47A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AF9E7AE-2852-4AB9-BAE0-ACF82143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EBC49AA-153F-459F-BA81-7F6D7924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12ED37-3956-4566-B717-07E90518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EE8A36C-E340-49E9-91FB-01B9F129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D086EE3-6CFB-46BB-A84B-11D76D74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B1E7-A5D7-46B9-8401-7F4600F7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BDE5C-6A10-4131-90E4-F817E9B0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238F038-AC90-44E9-AD93-91C5DF5B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684BD6-647B-40F5-AAB3-A6F3264F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1BEA24-98FA-4DF3-A098-6EC3AABA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39F72D-D93A-4D55-96A4-A06EF926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F20BD31-F12B-47E5-9D36-15154657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9F0A28E-01CF-478A-892D-6E10BAED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BA53E4-D9F1-4192-92B2-33C5786B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818D4D-7206-41BA-BDFF-6255C2C1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3461EE-86A1-4EDF-A0C5-7C8A170C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8791390-8521-45EB-8019-E84AF074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6E56C-F632-4289-B30A-FBB3162E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8AEEBB2-4C26-499B-8EAC-825086CB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EB2D964-76D7-4F3A-B20E-6E335A5F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7913AA4-BFDF-401B-8B11-4633CD79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1292B33-F153-469A-A456-15EC902E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73B0454-C515-4246-B619-83EE03F5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EB58B3A-3464-4E8E-8825-000FF930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848BE48-F2BA-4F30-BE30-0AF6E6B6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59ECC45-79F1-47BD-A49C-40A5CB60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E729899-0E9F-43F8-A9C5-E8F6D066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B72D4F6-B3E8-4CFB-85BB-63E3F696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4AB64-24B1-41C7-A591-ADBF8F9B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2104BB-F370-49D7-9086-7CF154F6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72AFB24-89C9-4854-9C01-01045368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1BC2083-7607-4EEE-9447-4B086770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4D0E2ED-E8B7-49EF-82EB-4551C74E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C2D8F53-AF00-4332-BE40-62F76559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65CED73-7C6D-4C67-8DAA-5D4EA841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3CD5ED9-31AB-4B19-928E-337BA76D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874A114-B3B6-4567-8305-117ACC0A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201293F-6947-4B37-A082-A3F9CB68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111E71F-70F8-485E-9395-1343D805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2454E-1284-4432-9D5A-D21AD589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BF9C0A8-5D8F-44AB-BF9F-2BD4C864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4CC3E68-39F9-44D5-8A23-6585930F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7C64C8-D967-4989-9B8D-9F8B43C2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A356A3-25FD-4854-B9C5-0657AEF4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A4653E0-7B1B-4DC7-A6BD-B0E29F55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28F1300-FDEC-4570-99AD-B7F2D32E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393129A-3857-4427-8C8C-CD5D7D3A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44A1A67-6191-4BE3-A3B4-A6C5B5D4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3990D8B-2397-466A-BFF5-FCC3BFF2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CBB0328-8F48-4530-B67F-41F8DD84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63F54-5F96-40A9-9060-309EF8A0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5E0A6EC-D6E8-4736-8D50-D4D7CF57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15056CF-426C-4225-87DE-A2297506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839F1F3-5CAC-42D4-BE0F-50FE67BA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6D2771C-8423-45A5-986F-977F855B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E41C1E0-A32E-4BB7-80C3-5FF8ABB4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6EFA4-26E3-45B0-ACA0-80E77CE5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ADCEC-C7E2-4D7B-9D2A-E12C8994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AB9CA-C3F8-4E5E-ACC8-4BA371A5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EE2D2-F982-46ED-9331-A5B808AE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FA703-B431-4378-8EDC-D5BB8E6D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F47-BE53-4747-8AB5-8295EA7F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F3A77-662D-4070-AF60-E7CBAE71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85BB5-A046-4479-90FA-CC6E0FCD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F5289-B966-4085-B6BF-C3A1F797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FEB17-9FD7-4B13-B927-3B201B37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A999C-1B15-49B5-87CF-A82720F3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8D849-F625-4B3F-9256-E0DC142E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35565-BD70-4FA0-ABD3-FC757E68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DA677-949C-4AAE-BACD-25217848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F3653-F4F1-4913-BE20-3C432895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A2C9D-7FD9-43F4-8801-43D20066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387-D662-4F4E-82FD-C7EAFBFF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1E8B0-18A8-4856-A956-00357B5E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10A8F-00DD-4692-B78E-32E74AD2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C8C00-0557-49E9-AE44-7ECC74A7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CAACB-9227-492C-A8B6-1191CF87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D5135-C173-4F20-B52B-46EEAD3D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58225-EB9A-4E40-B1AA-E8CF9813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D1DB6-4831-4362-81DA-3C5CF5B4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209D8-259C-46FE-A4FE-324C6223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3116F-3357-4EF9-835F-D0B0C077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55993-3CBD-4C6C-8503-934F4FE9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F76-75A7-43CC-9A12-444714BC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3F1B4-5893-4CC1-BB63-635D8E1B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57D89-605F-4CA1-830C-B13A6933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9BC53-9C8F-472A-9869-84B84C0C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4E713-7914-4491-8799-7F6E01EE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7C26F-6039-41CA-A41C-85B2DED1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07E33-E984-424F-B6FB-52747975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7B707-026D-42F6-BE76-3ECE9614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B26F2-2471-4F49-839A-11A4D254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51004-1C36-4CCC-8FCA-45ED698D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82200-B2DD-4599-8968-28C69BD9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807E-81F6-42C3-8984-2F7D913F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6FECE-43E6-48C9-9A09-15F38064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E2E17-1FAA-465E-97FC-C553A746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EDA68-734F-4111-948C-0B0800BA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6C66C-5699-4BE7-8C90-A51E85CA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69493-7FFF-4757-A321-21836A04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E944B-E5B4-4733-B8B9-24E2727A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363E1-769F-4639-9CAA-8DA312DF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A000C-F524-4E46-AB91-BFD9932B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45F1E-DFE6-46D1-8DD3-36B57A72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40C92-F4C8-4857-A4AB-092403FD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DCEB-EDC0-48A3-B673-F1C485C0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190DF-8DF0-4482-A4DD-EECE29D6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08567-0D69-4A98-8345-78027F71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1E79A-079B-4A00-AD3C-AAD9C8DB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C97CE-D16E-4E20-B290-EA377814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963FE-2AA2-447D-B167-B2946874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40B84-C289-413C-8E67-0ADD6D73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E155C-0E48-45AB-B465-B280F29E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D2FB2-936C-47FD-9126-C683B39D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22619-C137-46F0-8BD3-1BC886F7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91F1E-5FE0-4EC9-B8BB-16815C6A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6C79-440B-489F-9501-E2A1EB1A6F65}" type="slidenum">
              <a:rPr b="0" lang="bg-BG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6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BDF4-022E-41CB-AEE6-3323F1071E1E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A74B-E300-429D-8174-CC74F6EDB973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7F9E-C6BD-4565-971E-4D7CF2CF1A6C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DE0A-09BB-421F-9C0D-E4A361AC24E2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EA1F-2132-4EB8-B90E-9E21EF18FBCE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043C-674E-429E-922A-303B7D5E7C6F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63EB-AAF4-44EF-8F0E-CDFE226F2656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01B6-74FD-4016-B8D9-64A7BDAB7360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F256-8803-4C55-AD3A-156FB3164FC7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461B-3634-41B2-B72D-BCFE43CCCAC4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E341-E651-4C98-B424-2FAD5FA68802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0530-65C7-48D3-868A-DE445C3F84F7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2A27-FA99-4237-B072-E84594670D0D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0F00-AA14-497C-AC26-14D22183794B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4AC7-DC09-457E-AC84-E329BB1FA38C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1AD0-A6E2-472D-AC7B-D8FAD532F1D3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3F64-A9A7-4626-9CD7-93E6C52EBBA1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9722-8540-411A-B3EE-E5CBDD6A7AB5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C91F-A884-483F-8448-725CF0E78F60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5B60-EEDB-4C55-A057-7F669C7D1CE8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70CB-A24B-4DF8-A174-8D3B07964EA1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2F44-72DA-4220-A5DC-9F2C701A86A7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9FD0-A3D0-4BA5-9B2B-838F7D301984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8B4E-968F-48C7-94AE-B275F91828D4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2593-CF45-48CF-A0E6-644664D2ECAA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AFFF-A4BF-4EB1-8D56-79D97430C9AE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B3BD-ECA0-4E11-ADEC-99CC6B94D851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EF2C-2A64-45EA-B18F-DA61544946AB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7404-9560-4BBF-A460-E90196B62EC4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7555-C7D4-408F-B870-8D6B5D735DB8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F849-E16E-496B-9AD0-BCCA0AB656AB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1986-8D86-4960-B73A-7CCB50551D19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5BC9-686D-4249-9F80-ED1991204BA6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CAE3-A71A-4CF4-BA8D-ACBF69097527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F9FA-DE4B-45F4-B7BF-D9157A9FF5B1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7BBD-FFF3-4ABB-BB48-1A8E7F90BCF2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11" descr="slide_EU logo.png"/>
          <p:cNvPicPr/>
          <p:nvPr/>
        </p:nvPicPr>
        <p:blipFill>
          <a:blip r:embed="rId2"/>
          <a:stretch/>
        </p:blipFill>
        <p:spPr>
          <a:xfrm>
            <a:off x="7667640" y="18900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453360"/>
            <a:ext cx="1041480" cy="134640"/>
          </a:xfrm>
          <a:prstGeom prst="rect">
            <a:avLst/>
          </a:prstGeom>
          <a:ln w="0">
            <a:noFill/>
          </a:ln>
        </p:spPr>
      </p:pic>
      <p:pic>
        <p:nvPicPr>
          <p:cNvPr id="1529" name="Picture 7" descr=""/>
          <p:cNvPicPr/>
          <p:nvPr/>
        </p:nvPicPr>
        <p:blipFill>
          <a:blip r:embed="rId4"/>
          <a:stretch/>
        </p:blipFill>
        <p:spPr>
          <a:xfrm>
            <a:off x="395280" y="333360"/>
            <a:ext cx="1084320" cy="1152720"/>
          </a:xfrm>
          <a:prstGeom prst="rect">
            <a:avLst/>
          </a:prstGeom>
          <a:ln w="0">
            <a:noFill/>
          </a:ln>
        </p:spPr>
      </p:pic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Arial"/>
              </a:rPr>
              <a:t>Оперативна програма “Региони в растеж”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Arial"/>
              </a:rPr>
              <a:t>2014 – 202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Arial"/>
              </a:rPr>
              <a:t>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7138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Line 18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Rectangle 32"/>
          <p:cNvSpPr/>
          <p:nvPr/>
        </p:nvSpPr>
        <p:spPr>
          <a:xfrm>
            <a:off x="250920" y="1700280"/>
            <a:ext cx="85690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Четвърта версия </a:t>
            </a:r>
            <a:r>
              <a:rPr b="1" lang="bg-BG" sz="2400" spc="-1" strike="noStrike">
                <a:solidFill>
                  <a:srgbClr val="c00000"/>
                </a:solidFill>
                <a:latin typeface="Arial"/>
                <a:ea typeface="Arial"/>
              </a:rPr>
              <a:t>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c00000"/>
                </a:solidFill>
                <a:latin typeface="Arial"/>
                <a:ea typeface="Arial"/>
              </a:rPr>
              <a:t>Оперативна програма “Региони в растеж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  <a:ea typeface="Arial"/>
              </a:rPr>
              <a:t>2014 – 2020 г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София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 май 2014 г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4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535" name="Picture 11" descr="slide_EU logo.png"/>
          <p:cNvPicPr/>
          <p:nvPr/>
        </p:nvPicPr>
        <p:blipFill>
          <a:blip r:embed="rId2"/>
          <a:stretch/>
        </p:blipFill>
        <p:spPr>
          <a:xfrm>
            <a:off x="179280" y="468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1536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1537" name="Picture 7" descr=""/>
          <p:cNvPicPr/>
          <p:nvPr/>
        </p:nvPicPr>
        <p:blipFill>
          <a:blip r:embed="rId4"/>
          <a:stretch/>
        </p:blipFill>
        <p:spPr>
          <a:xfrm>
            <a:off x="7885080" y="127080"/>
            <a:ext cx="1084320" cy="1152360"/>
          </a:xfrm>
          <a:prstGeom prst="rect">
            <a:avLst/>
          </a:prstGeom>
          <a:ln w="0">
            <a:noFill/>
          </a:ln>
        </p:spPr>
      </p:pic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1582560" y="333360"/>
            <a:ext cx="5978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оритетна ос 1: „Устойчиво и интегрирано градско развитие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Line 18"/>
          <p:cNvSpPr/>
          <p:nvPr/>
        </p:nvSpPr>
        <p:spPr>
          <a:xfrm>
            <a:off x="0" y="1279440"/>
            <a:ext cx="906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Content Placeholder 2"/>
          <p:cNvSpPr/>
          <p:nvPr/>
        </p:nvSpPr>
        <p:spPr>
          <a:xfrm>
            <a:off x="108000" y="1281240"/>
            <a:ext cx="8955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1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Енергийна ефективност в административни и жилищни сгради –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262 млн. евро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. Съотноше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75%/25% безвъзмездно финансиране/финансови инструменти за жилищните сгра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ирекция „ОЖС” в МРР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67 общини, студентски общежития, финансови инструмен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2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Подобряване на градска среда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270 млн. евр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градска среда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-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191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млн. Евро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(10%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финансови инструменти)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они с потенциал за икономическо развитие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–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79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млн. евро (33% финансови инструмент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67 общини, финансови инструмен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3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на инфраструктура (общинска)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107 млн. ев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67 общи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4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Социална инфраструктура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163 млн. евр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циална инфраструктура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- 52 млн. евро. Конкретни бенефициент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67 общи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ртна инфраструктура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- 48 млн. евро. Конкретни бенефициент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Финансови инструменти за 39 общини от 1-во до 3-то йерархично ни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ултурна инфраструктура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– 63 млн. евро. Конкретни бенефициент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67 общини и финансови инструмен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5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тегриран градски транспорт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143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39 общини от 1-во до 3-то нив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и инструменти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1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542" name="Picture 11" descr="slide_EU logo.png"/>
          <p:cNvPicPr/>
          <p:nvPr/>
        </p:nvPicPr>
        <p:blipFill>
          <a:blip r:embed="rId2"/>
          <a:stretch/>
        </p:blipFill>
        <p:spPr>
          <a:xfrm>
            <a:off x="285840" y="5256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1543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1544" name="Picture 7" descr=""/>
          <p:cNvPicPr/>
          <p:nvPr/>
        </p:nvPicPr>
        <p:blipFill>
          <a:blip r:embed="rId4"/>
          <a:stretch/>
        </p:blipFill>
        <p:spPr>
          <a:xfrm>
            <a:off x="7834320" y="189000"/>
            <a:ext cx="1084320" cy="11523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977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Приоритетни оси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Line 18"/>
          <p:cNvSpPr/>
          <p:nvPr/>
        </p:nvSpPr>
        <p:spPr>
          <a:xfrm flipV="1">
            <a:off x="0" y="1332000"/>
            <a:ext cx="9252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Rectangle 32"/>
          <p:cNvSpPr/>
          <p:nvPr/>
        </p:nvSpPr>
        <p:spPr>
          <a:xfrm>
            <a:off x="250920" y="1700280"/>
            <a:ext cx="85690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Content Placeholder 2"/>
          <p:cNvSpPr/>
          <p:nvPr/>
        </p:nvSpPr>
        <p:spPr>
          <a:xfrm>
            <a:off x="81000" y="1620720"/>
            <a:ext cx="557064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</a:t>
            </a:r>
            <a:r>
              <a:rPr b="0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вестиции в образованието, уменията и ученето през целия живот –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1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15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ъздаване на условия за модерни образователни услу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ОН, МЗХ, МК, ММС, Висши училища, общини за общинска образователна инфраструктура от национално и регионално значение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Предефинирани проекти: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 в 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ъответствие с Методологията за приоритизация на образователната инфраструктура, разработена от М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8"/>
          <p:cNvSpPr/>
          <p:nvPr/>
        </p:nvSpPr>
        <p:spPr>
          <a:xfrm>
            <a:off x="882720" y="1341360"/>
            <a:ext cx="7475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2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на образователна инфраструктур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Content Placeholder 2"/>
          <p:cNvSpPr/>
          <p:nvPr/>
        </p:nvSpPr>
        <p:spPr>
          <a:xfrm>
            <a:off x="81000" y="4575240"/>
            <a:ext cx="557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</a:t>
            </a:r>
            <a:r>
              <a:rPr b="0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вестиране в здравна и социална инфраструктура  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84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мл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Подобряване на условията за адекватна спешна медицинска помощ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: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на здравеопазването и общи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Предефинирани проект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съответсвие с Концепцията за развитие на спешната медицинска помощ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Rectangle 8"/>
          <p:cNvSpPr/>
          <p:nvPr/>
        </p:nvSpPr>
        <p:spPr>
          <a:xfrm>
            <a:off x="554040" y="4221000"/>
            <a:ext cx="7721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3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на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здравна инфраструктур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2" name="Picture 2" descr="C:\Users\StefanovZ\Desktop\КН 27.05\Ehograf-Ruse.JPG"/>
          <p:cNvPicPr/>
          <p:nvPr/>
        </p:nvPicPr>
        <p:blipFill>
          <a:blip r:embed="rId5"/>
          <a:stretch/>
        </p:blipFill>
        <p:spPr>
          <a:xfrm>
            <a:off x="5850000" y="4575240"/>
            <a:ext cx="3039840" cy="2154240"/>
          </a:xfrm>
          <a:prstGeom prst="rect">
            <a:avLst/>
          </a:prstGeom>
          <a:ln w="0">
            <a:noFill/>
          </a:ln>
        </p:spPr>
      </p:pic>
      <p:pic>
        <p:nvPicPr>
          <p:cNvPr id="1553" name="Picture 12" descr="HTMU-after 3"/>
          <p:cNvPicPr/>
          <p:nvPr/>
        </p:nvPicPr>
        <p:blipFill>
          <a:blip r:embed="rId6"/>
          <a:stretch/>
        </p:blipFill>
        <p:spPr>
          <a:xfrm>
            <a:off x="5850000" y="1697040"/>
            <a:ext cx="2952720" cy="2448000"/>
          </a:xfrm>
          <a:prstGeom prst="rect">
            <a:avLst/>
          </a:prstGeom>
          <a:ln w="19080">
            <a:solidFill>
              <a:srgbClr val="000000">
                <a:alpha val="98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11" descr="slide_EU logo.png"/>
          <p:cNvPicPr/>
          <p:nvPr/>
        </p:nvPicPr>
        <p:blipFill>
          <a:blip r:embed="rId2"/>
          <a:stretch/>
        </p:blipFill>
        <p:spPr>
          <a:xfrm>
            <a:off x="196920" y="6192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1557" name="Picture 7" descr=""/>
          <p:cNvPicPr/>
          <p:nvPr/>
        </p:nvPicPr>
        <p:blipFill>
          <a:blip r:embed="rId4"/>
          <a:stretch/>
        </p:blipFill>
        <p:spPr>
          <a:xfrm>
            <a:off x="7736040" y="189000"/>
            <a:ext cx="1083960" cy="1152360"/>
          </a:xfrm>
          <a:prstGeom prst="rect">
            <a:avLst/>
          </a:prstGeom>
          <a:ln w="0">
            <a:noFill/>
          </a:ln>
        </p:spPr>
      </p:pic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979280" y="182160"/>
            <a:ext cx="504036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Приоритетни о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Line 18"/>
          <p:cNvSpPr/>
          <p:nvPr/>
        </p:nvSpPr>
        <p:spPr>
          <a:xfrm>
            <a:off x="0" y="1405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Content Placeholder 2"/>
          <p:cNvSpPr/>
          <p:nvPr/>
        </p:nvSpPr>
        <p:spPr>
          <a:xfrm>
            <a:off x="87480" y="1711440"/>
            <a:ext cx="5276520" cy="22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</a:t>
            </a:r>
            <a:r>
              <a:rPr b="0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вестиране в здравна и социална инфраструктура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51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Деинституционализация на социалните услу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щини; Министерство на здравеопазването за медико-социални домове за гриж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Предефинирани проекти: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 в 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ъответствие с Визията за деинституционализация на децата и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ната стратегия за дългосрочна гриж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Rectangle 8"/>
          <p:cNvSpPr/>
          <p:nvPr/>
        </p:nvSpPr>
        <p:spPr>
          <a:xfrm>
            <a:off x="863640" y="1405080"/>
            <a:ext cx="635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4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на социална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инфраструктур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Content Placeholder 2"/>
          <p:cNvSpPr/>
          <p:nvPr/>
        </p:nvSpPr>
        <p:spPr>
          <a:xfrm>
            <a:off x="87480" y="4076640"/>
            <a:ext cx="5276520" cy="27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ъхраняване, опазване, популяризиране и развитие на природното и културното наследство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127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и цел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вишаване на туристическото предлагане на паметници на културата от национално и световно зна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К, религиозни институции, общини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включително в партньорство с НПО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и инсрумен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Предефинирани проект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съответствие с Методологията за приоритизиране на обекти на културното наслед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8"/>
          <p:cNvSpPr/>
          <p:nvPr/>
        </p:nvSpPr>
        <p:spPr>
          <a:xfrm>
            <a:off x="1289160" y="3852720"/>
            <a:ext cx="5776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5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ен туризъм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4" name="Picture 2" descr="C:\Users\DimovD\Desktop\снимки ОПРР\асенова крепост\18.jpg"/>
          <p:cNvPicPr/>
          <p:nvPr/>
        </p:nvPicPr>
        <p:blipFill>
          <a:blip r:embed="rId5"/>
          <a:stretch/>
        </p:blipFill>
        <p:spPr>
          <a:xfrm>
            <a:off x="5508720" y="4179960"/>
            <a:ext cx="3166920" cy="2498760"/>
          </a:xfrm>
          <a:prstGeom prst="rect">
            <a:avLst/>
          </a:prstGeom>
          <a:ln w="0">
            <a:noFill/>
          </a:ln>
        </p:spPr>
      </p:pic>
      <p:pic>
        <p:nvPicPr>
          <p:cNvPr id="1565" name="Picture 2" descr=""/>
          <p:cNvPicPr/>
          <p:nvPr/>
        </p:nvPicPr>
        <p:blipFill>
          <a:blip r:embed="rId6"/>
          <a:stretch/>
        </p:blipFill>
        <p:spPr>
          <a:xfrm>
            <a:off x="5508720" y="1711440"/>
            <a:ext cx="316692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6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567" name="Picture 11" descr="slide_EU logo.png"/>
          <p:cNvPicPr/>
          <p:nvPr/>
        </p:nvPicPr>
        <p:blipFill>
          <a:blip r:embed="rId2"/>
          <a:stretch/>
        </p:blipFill>
        <p:spPr>
          <a:xfrm>
            <a:off x="250920" y="74520"/>
            <a:ext cx="1103040" cy="1279440"/>
          </a:xfrm>
          <a:prstGeom prst="rect">
            <a:avLst/>
          </a:prstGeom>
          <a:ln w="0">
            <a:noFill/>
          </a:ln>
        </p:spPr>
      </p:pic>
      <p:pic>
        <p:nvPicPr>
          <p:cNvPr id="1568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1569" name="Picture 7" descr=""/>
          <p:cNvPicPr/>
          <p:nvPr/>
        </p:nvPicPr>
        <p:blipFill>
          <a:blip r:embed="rId4"/>
          <a:stretch/>
        </p:blipFill>
        <p:spPr>
          <a:xfrm>
            <a:off x="7812000" y="201600"/>
            <a:ext cx="1084320" cy="1152360"/>
          </a:xfrm>
          <a:prstGeom prst="rect">
            <a:avLst/>
          </a:prstGeom>
          <a:ln w="0">
            <a:noFill/>
          </a:ln>
        </p:spPr>
      </p:pic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582560" y="182160"/>
            <a:ext cx="56534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оритетн</a:t>
            </a: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и о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Line 18"/>
          <p:cNvSpPr/>
          <p:nvPr/>
        </p:nvSpPr>
        <p:spPr>
          <a:xfrm>
            <a:off x="0" y="1405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Rectangle 32"/>
          <p:cNvSpPr/>
          <p:nvPr/>
        </p:nvSpPr>
        <p:spPr>
          <a:xfrm>
            <a:off x="230040" y="1670040"/>
            <a:ext cx="8569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Content Placeholder 2"/>
          <p:cNvSpPr/>
          <p:nvPr/>
        </p:nvSpPr>
        <p:spPr>
          <a:xfrm>
            <a:off x="131760" y="1833480"/>
            <a:ext cx="566424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</a:t>
            </a:r>
            <a:r>
              <a:rPr b="0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мобилността на регионално равнище –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194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свързаността и достъпността на мрежата от градове и обектите на културното и природно наследство с TEN-T мреж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ен бенефициент: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ция «Пътна инфраструк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Предефинирани проекти: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 в 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ъответствие с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Mетодика и критериите за приоритизиране на пътни участъци, разработени от Агенцията „Пътна инфраструктура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8"/>
          <p:cNvSpPr/>
          <p:nvPr/>
        </p:nvSpPr>
        <p:spPr>
          <a:xfrm>
            <a:off x="1177920" y="1438200"/>
            <a:ext cx="6610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6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на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ътна инфраструктур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Content Placeholder 2"/>
          <p:cNvSpPr/>
          <p:nvPr/>
        </p:nvSpPr>
        <p:spPr>
          <a:xfrm>
            <a:off x="131760" y="4491000"/>
            <a:ext cx="55926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Насърчаване на инвестициите за справяне със специфични рискове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20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венция на риска от свлачищ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бенефициенти: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щин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Предефинирани проек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в съответствие с Методологията за приоритизиране на свлачищни обек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8"/>
          <p:cNvSpPr/>
          <p:nvPr/>
        </p:nvSpPr>
        <p:spPr>
          <a:xfrm>
            <a:off x="1258920" y="4076640"/>
            <a:ext cx="504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7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Превенция на риск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7" name="Picture 10" descr="zx480_1139082"/>
          <p:cNvPicPr/>
          <p:nvPr/>
        </p:nvPicPr>
        <p:blipFill>
          <a:blip r:embed="rId5"/>
          <a:stretch/>
        </p:blipFill>
        <p:spPr>
          <a:xfrm>
            <a:off x="5867280" y="4356000"/>
            <a:ext cx="3086280" cy="2349720"/>
          </a:xfrm>
          <a:prstGeom prst="rect">
            <a:avLst/>
          </a:prstGeom>
          <a:ln w="0">
            <a:noFill/>
          </a:ln>
        </p:spPr>
      </p:pic>
      <p:sp>
        <p:nvSpPr>
          <p:cNvPr id="1578" name="Rectangle 8"/>
          <p:cNvSpPr/>
          <p:nvPr/>
        </p:nvSpPr>
        <p:spPr>
          <a:xfrm>
            <a:off x="1177920" y="6137280"/>
            <a:ext cx="4321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8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Техническа помощ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9" name="Picture 16" descr=""/>
          <p:cNvPicPr/>
          <p:nvPr/>
        </p:nvPicPr>
        <p:blipFill>
          <a:blip r:embed="rId6"/>
          <a:stretch/>
        </p:blipFill>
        <p:spPr>
          <a:xfrm>
            <a:off x="5894280" y="1936800"/>
            <a:ext cx="30592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0" name="Picture 9" descr="slide_element.png"/>
          <p:cNvPicPr/>
          <p:nvPr/>
        </p:nvPicPr>
        <p:blipFill>
          <a:blip r:embed="rId1"/>
          <a:stretch/>
        </p:blipFill>
        <p:spPr>
          <a:xfrm>
            <a:off x="8078760" y="6021360"/>
            <a:ext cx="1065240" cy="836640"/>
          </a:xfrm>
          <a:prstGeom prst="rect">
            <a:avLst/>
          </a:prstGeom>
          <a:ln w="0">
            <a:noFill/>
          </a:ln>
        </p:spPr>
      </p:pic>
      <p:pic>
        <p:nvPicPr>
          <p:cNvPr id="1581" name="Picture 12" descr="slide_www.png"/>
          <p:cNvPicPr/>
          <p:nvPr/>
        </p:nvPicPr>
        <p:blipFill>
          <a:blip r:embed="rId2"/>
          <a:stretch/>
        </p:blipFill>
        <p:spPr>
          <a:xfrm>
            <a:off x="361800" y="6534000"/>
            <a:ext cx="1041480" cy="135000"/>
          </a:xfrm>
          <a:prstGeom prst="rect">
            <a:avLst/>
          </a:prstGeom>
          <a:ln w="0">
            <a:noFill/>
          </a:ln>
        </p:spPr>
      </p:pic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977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  <a:ea typeface="Arial"/>
              </a:rPr>
              <a:t>Индикативен бюджет на Оперативна програма „Региони в растеж“ 2014-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3" name="Picture 7" descr=""/>
          <p:cNvPicPr/>
          <p:nvPr/>
        </p:nvPicPr>
        <p:blipFill>
          <a:blip r:embed="rId3"/>
          <a:stretch/>
        </p:blipFill>
        <p:spPr>
          <a:xfrm>
            <a:off x="7736040" y="115920"/>
            <a:ext cx="1083960" cy="1152360"/>
          </a:xfrm>
          <a:prstGeom prst="rect">
            <a:avLst/>
          </a:prstGeom>
          <a:ln w="0">
            <a:noFill/>
          </a:ln>
        </p:spPr>
      </p:pic>
      <p:pic>
        <p:nvPicPr>
          <p:cNvPr id="1584" name="Picture 41" descr="slide_EU logo.png"/>
          <p:cNvPicPr/>
          <p:nvPr/>
        </p:nvPicPr>
        <p:blipFill>
          <a:blip r:embed="rId4"/>
          <a:stretch/>
        </p:blipFill>
        <p:spPr>
          <a:xfrm>
            <a:off x="361800" y="189000"/>
            <a:ext cx="1103400" cy="1152360"/>
          </a:xfrm>
          <a:prstGeom prst="rect">
            <a:avLst/>
          </a:prstGeom>
          <a:ln w="0">
            <a:noFill/>
          </a:ln>
        </p:spPr>
      </p:pic>
      <p:sp>
        <p:nvSpPr>
          <p:cNvPr id="1585" name="TextBox 9"/>
          <p:cNvSpPr/>
          <p:nvPr/>
        </p:nvSpPr>
        <p:spPr>
          <a:xfrm>
            <a:off x="250920" y="5589720"/>
            <a:ext cx="129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ffff"/>
                </a:solidFill>
                <a:latin typeface="Arial"/>
                <a:ea typeface="Arial"/>
              </a:rPr>
              <a:t>Резултативни сто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6" name=""/>
          <p:cNvGraphicFramePr/>
          <p:nvPr/>
        </p:nvGraphicFramePr>
        <p:xfrm>
          <a:off x="755640" y="1306440"/>
          <a:ext cx="7323120" cy="5238720"/>
        </p:xfrm>
        <a:graphic>
          <a:graphicData uri="http://schemas.openxmlformats.org/drawingml/2006/table">
            <a:tbl>
              <a:tblPr/>
              <a:tblGrid>
                <a:gridCol w="4910040"/>
                <a:gridCol w="1511280"/>
                <a:gridCol w="901800"/>
              </a:tblGrid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оритетни оси и инвестиционни приоритет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вропейско финансиране + национално съфинансира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с национално съфинансиране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вр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87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1 "Градско развитие"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6 134 9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9,5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 Енерг. eф-ст в админ. и жилищни сгр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2 229 9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6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 Градска сре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 176 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7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30168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адска сре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1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 712 6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2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30168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они с потенциал за икономическо разви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1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 463 6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Образователна инфра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 317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6,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 Социална инфра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 377 1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,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30168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иална инфра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1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128 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3,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30168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ртна инфра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1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 678 1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3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30168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лтурна инфра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1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 570 8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4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 Интегриран градски тран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 034 5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9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2 "Регионална образователна инфраструктура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 863 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7,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3 "Регионална здравна инфраструктура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 595 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,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4 "Регионална социална инфраструктура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856 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3,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5 "Регионален туризъм"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 141 7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8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6 "Регионална пътна инфраструктура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4 526 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2,2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7 "Превенция на риска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 706 9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,2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8 "Техническа помощ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445 9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3,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589 272 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БЩ БЮДЖЕТ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589 272 238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ЕВР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66092"/>
                    </a:solidFill>
                  </a:tcPr>
                </a:tc>
              </a:tr>
              <a:tr h="18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1:22:21Z</dcterms:created>
  <dc:creator>Zlatko Stefanov</dc:creator>
  <dc:description/>
  <dc:language>en-US</dc:language>
  <cp:lastModifiedBy>Zdravko Beshendzhiev</cp:lastModifiedBy>
  <cp:lastPrinted>2014-03-20T17:15:04Z</cp:lastPrinted>
  <dcterms:modified xsi:type="dcterms:W3CDTF">2014-05-21T12:05:41Z</dcterms:modified>
  <cp:revision>496</cp:revision>
  <dc:subject/>
  <dc:title>Оперативна програма “Региони в растеж” 2014 - 2020</dc:title>
</cp:coreProperties>
</file>