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F92-68BB-4391-AC32-715567DB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8F9-91ED-43AC-979F-6B9B6D9F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7B9-D04E-4D25-A489-5D6F683C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BA6-3CFB-4F9B-AD7C-801739FB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5A9-D1E0-47E7-BB53-909A76E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9F3-E121-459B-818B-A35B820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58E-F3C4-4A34-AFB8-460F21ED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9F6-2280-425D-A22D-93066B4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C9E-428C-494D-B5F8-459C071F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A5D-4A6F-45D4-8CBF-3374DAA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06F-04B6-43EB-8716-AA59DA4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85C-EC1C-4F78-B1C2-4A25A41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DB97-1C9F-45A1-9B2B-8DBD55C052D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1" descr=""/>
          <p:cNvPicPr/>
          <p:nvPr/>
        </p:nvPicPr>
        <p:blipFill>
          <a:blip r:embed="rId4"/>
          <a:stretch/>
        </p:blipFill>
        <p:spPr>
          <a:xfrm>
            <a:off x="542880" y="2133720"/>
            <a:ext cx="8113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611280" y="2060640"/>
            <a:ext cx="8047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Очаквани продукти/резултати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новена и рехабилитирана площ на основен обект - 29 202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зеленени площи - 6 927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Реновирани водни съоръжения - 840 кв.м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новена и реконструирана пешеходна зона - 21 435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градена Система за управление на уличнот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градена напоителна система за зелени площ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цяло подменени настилки и водохващащи съоръж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Монтирани нови архитектурни елементи на градската сре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сигурено осветление по маршрутите за достъпност – минимална осветеност 20 лук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11280" y="2179800"/>
            <a:ext cx="80470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сигурена достъпна архитектурна сре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обрено въздействие на водните съоръж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амалени разходи за вода и електричество и въвеждане на нови стандар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Изградена нова система от ефекти със съвременни енергоефектни решения за водната архитектур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бновена и модернизирана физическа среда на площад „Възраждане” и прилежащите му пешеходни пространства към Военен клуб, НЧ „Съгласие” и от зала „Катя Попова” до площад „Свобода”, и Централен градски фонта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8" name="Текстово поле 1"/>
          <p:cNvSpPr/>
          <p:nvPr/>
        </p:nvSpPr>
        <p:spPr>
          <a:xfrm>
            <a:off x="1547640" y="2846520"/>
            <a:ext cx="60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Calibri"/>
              </a:rPr>
              <a:t>БЛАГОДАРЯ ЗА ВНИМАНИЕ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Calibri"/>
              </a:rPr>
              <a:t>ОЧАКВАМЕ ВАШИТЕ ВЪПРОС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611280" y="2133720"/>
            <a:ext cx="80470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Обща стойност на проект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 максимална стойност на проект 5 846 880,19 л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 стойност за реализиране н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сновните обекти е 4 911 841,36 лв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от които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4 666 249,29 лв. безвъзмездна финансова помо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245 592,07 лв. собствен финансов принос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та стойност за реализиране на допълнителните обекти („Водни огледала“ и „Пеещ фонтан“)  е 935 038,83 л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 изискване на схемата за предоставяне на безвъзмездна помощ, тези обекти ще могат да бъдат изпълнени в случай на спестени финансови ресурси от провеждане на процедури за избор на изпълнители за основните обек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611280" y="2133720"/>
            <a:ext cx="8047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Продължителността на проекта е 20 месец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Начало на проекта 20.05.2013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рай на проекта 19.01.2015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бща цел на проекта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тимизиране условията на живот, техническите и екологичните характеристики на физическата среда за постигане на интегрирано и устойчиво развитие, гарантиращо безопасност и сигурност, свободен достъп, привлекателност и социално-икономически растеж на Плевен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11280" y="2133720"/>
            <a:ext cx="804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Специфични цели на проек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добряване физическото състояние и екологичните параметри на централната пешеходна зона на град Плеве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вишаване качеството на живот за успешно приобщаване на групи с влошен социален стату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ревенция на риска, по отношение безопасността и сигурността на градската сре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611280" y="2060640"/>
            <a:ext cx="804708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Дейности по проек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Подобект 1 „Площад Възраждане и прилежащите му пешеходни пространства към Военен клуб, НЧ „Съгласие” и от зала „Катя Попова” до площад „Свобода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готвителните работи включват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на бетонни улични бордюри, градински варовикови бордюри, клинкерни, мраморни и плочи от гнайс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бор, почистване, палетиране и извозван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разбиване и извозване на циментова замазка под демонтирани плоч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разбиване и извозване на подложен бетон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на съществуващи метални стълбове 4 м. за парков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и преместване на 4 бр. съществуващи метални стълбове с Н=16м. за прожекторн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ремахване на дървета (по проект за паркоустрояване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611280" y="2060640"/>
            <a:ext cx="8281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овите строителни работи с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лагане на дрениращ бетон – дебелина 15 с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лагане на земновлажен дрениращ разтвор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аправа на дрениращи отвори в съществуващия бетон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земна почва - доставка, полагане и уплътняване до естествено състояние на почвата за новите зелени участъц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бордюри – гранитни (термолющен двустранно) на бетонови ивици към зелени площ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декоративни метални бордюри - листове ламарина (COR-TEN steel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бетонови улични бордюри на бетонова основа (към паркинги и улиц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павета със система за заключване и мита декоративна повърхност - плочи с дебелина 8 см. и размери 30/30см., 20/30 см., 20/20 см., 20/10 см., цветове: светлосиви, антрацит и охра (по схема за редене) с дренираща свързана фуга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611280" y="2060640"/>
            <a:ext cx="8047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настилка от сегментен паваж с разтвори от съответната система, с дебелена 8 см., цветове: светлосиви, антрацит и охра - около дървета в окръжности на пясъчна основа, завършващи със заключващ обръч от ПЕВП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плочи 40/40 см. с тактилни ивиц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блицовка с гранит термолющен – 4 см. върху пясъчно легло на партер при паметник „Васил Левски"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ревизионни капаци чугунени с ф600 и ф800, с клас на натоварване D400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линейни отводнителни оттоци- моноблок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елементи на градския дизайн: пейки, кошчета за отпадъци, достъпна чешма-фонтанка, афишни колони, места за синтез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611280" y="2133720"/>
            <a:ext cx="804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обект 2: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ен градски фонтан на площад ”Възраждане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Ще бъде извършен основен ремонт и реконструкция на хидроизолация, настилки, облицовки и инсталации на фонтана (840 кв.м.), включително саниране на машинната зала (479 кв.м.). Основната цел на проекта е да се подобри въздействието на водните съоръжения. Решенията са насочени към прецизиране и актуализация на водните количества, в зависимост от исканите водни ефекти, с тенденция към намаляване разхода на вода и електричество и възможности за различни сценарии. Настилка – декинг около входа за машинното на фонтан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611280" y="2060640"/>
            <a:ext cx="8047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Това става, чрез избор на нови струйници и осветление, съобразно исканите водни и светлинни ефекти и система за тяхното управление; избор на нови помпи и връзка със смукателния колектор и струйниците; премахване на компроментирани облицовки и настилки (до бетон); саниране на съществуващи стоманобетонови (поцинковани стоманени) елементи; полагане на хидроизолация по дъното на фонтана и стените; полагане наново на некомпроментираните и добавяне на нови облицовки по дъното и стените  на фонтана; изграждане на нова система от ефекти посредством съвременни енергоефективни решения за водна архитектура (помпи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дюзи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светление и др.); извършва се саниране на машинната з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19:54Z</dcterms:created>
  <dc:creator>Maria</dc:creator>
  <dc:description/>
  <dc:language>en-US</dc:language>
  <cp:lastModifiedBy>User</cp:lastModifiedBy>
  <dcterms:modified xsi:type="dcterms:W3CDTF">2014-03-10T11:47:32Z</dcterms:modified>
  <cp:revision>23</cp:revision>
  <dc:subject/>
  <dc:title>PowerPoint Presentation</dc:title>
</cp:coreProperties>
</file>