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7B6C-085D-407C-9C1D-B4CE71B4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180C-0159-4B99-95D0-3F2CFE85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E7F-6293-4463-91D0-5E7F64DA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8C4-C461-4F06-BDE0-E8A505C14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EE0-353A-477B-ACC5-1CA100DB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A837-0E47-459A-95BF-1C8CD04D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6FBC-46F6-40A6-9B70-77B081E0A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01F4-1176-4236-BDE2-B1E34523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850-0CDB-48AC-AC40-8F3EA1F9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2E8F-510D-4FC3-A26D-1AA3A88D0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A90F-C6F7-4E7A-B36D-656619B90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B471-AA7B-479F-AE0A-3DCAB061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0A50-16EC-4613-94D9-96D735773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C07-7CA1-4331-8DB6-AF14B27F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A80-A2F8-42C5-A6B4-E70A3B1C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5C3-447A-481F-9BA7-7694E17B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74D-E6E6-4829-B924-881B48CD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DFE7-E55D-423E-A8E8-1DB8BFC7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1DC6-809A-42F5-96E4-3B6E3C1D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84E8-7CA2-4C94-B6A4-A143BF5D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0BDC-A81E-4F71-9133-6C1B7BA7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BCB-145C-4DDC-ABB9-6E6DC1D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D5F-C8EC-4662-B439-25798652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D45E-C4B5-493F-AD3B-4D3AE74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5A9-E40E-4D8C-8488-096DAD37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8587-753F-4791-8DFD-F52D23E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6CE-DCC4-40B5-9A2A-C53B043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A9D2-F4EE-41DD-A93A-78317709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C75-7A42-4AB0-AA6A-AE5ACBE4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B4D7-B3D7-4FA9-B256-7251F8A4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B3D-0CE8-4CDE-A678-EE8430BF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63C-6B55-4F41-9254-09945A13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686-6649-495C-A00E-FA192B94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329-A8BF-4859-BB77-7A4DCB0C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B24-1939-471A-80FD-F43F212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C8A-38F6-4F6E-8133-6CDC9A7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B87-8A09-4804-97C4-E6DABD62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C242-4370-4875-AB67-0960C08F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custGeom>
            <a:avLst/>
            <a:gdLst>
              <a:gd name="textAreaLeft" fmla="*/ 0 w 8165880"/>
              <a:gd name="textAreaRight" fmla="*/ 8166240 w 81658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>
              <a:gd name="textAreaLeft" fmla="*/ 0 w 8878680"/>
              <a:gd name="textAreaRight" fmla="*/ 8879040 w 887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1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6BB9-00F7-4AC9-B55A-858F0F392F45}" type="datetime3">
              <a:rPr b="0" lang="bg-BG" sz="1200" spc="-1" strike="noStrike">
                <a:solidFill>
                  <a:srgbClr val="000000"/>
                </a:solidFill>
                <a:latin typeface="Garamond"/>
              </a:rPr>
              <a:t>29 юли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2044-4A04-4D3B-A712-2BCF3027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3141360"/>
            <a:ext cx="568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  ВЪРХУ  ПРОЦЕСА И РЕЗУЛТАТИТЕ ОТ ОБСЛЕДВАНИЯТА НА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МИШЛЕНИ СИСТЕМИ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левен, 17 март 2011 г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C080-ACAE-4BC7-885B-FD93A682661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МСП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ХЕМИ ЗА БЕЗВЪЗМЕЗДНО ФИНАНСИРАН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395280" y="2060640"/>
            <a:ext cx="2016000" cy="720720"/>
          </a:xfrm>
          <a:prstGeom prst="downArrowCallout">
            <a:avLst>
              <a:gd name="adj1" fmla="val 69936"/>
              <a:gd name="adj2" fmla="val 124657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ff"/>
                </a:solidFill>
                <a:latin typeface="Arial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179280" y="3068640"/>
            <a:ext cx="2808360" cy="1079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ДОСТАВЕН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660,4 хил. лв.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79280" y="4653000"/>
            <a:ext cx="2808360" cy="719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ОБСЛЕДВА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МСП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76720" y="2060640"/>
            <a:ext cx="2016000" cy="720720"/>
          </a:xfrm>
          <a:prstGeom prst="downArrowCallout">
            <a:avLst>
              <a:gd name="adj1" fmla="val 69936"/>
              <a:gd name="adj2" fmla="val 124657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ff"/>
                </a:solidFill>
                <a:latin typeface="Arial"/>
              </a:rPr>
              <a:t>2008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3132000" y="4653000"/>
            <a:ext cx="2808360" cy="719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ОБСЛЕДВА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7 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МСП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372360" y="2060640"/>
            <a:ext cx="2016000" cy="720720"/>
          </a:xfrm>
          <a:prstGeom prst="downArrowCallout">
            <a:avLst>
              <a:gd name="adj1" fmla="val 69936"/>
              <a:gd name="adj2" fmla="val 124657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ff"/>
                </a:solidFill>
                <a:latin typeface="Arial"/>
              </a:rPr>
              <a:t>2009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084720" y="4653000"/>
            <a:ext cx="2808360" cy="719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ОБСЛЕДВА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(19) 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МСП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3132000" y="3068640"/>
            <a:ext cx="2808360" cy="1079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ДОСТАВЕН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613,7 хил. лв.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3068640"/>
            <a:ext cx="2808360" cy="1079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ДОСТАВЕ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462,9 (440,9) хил. лв.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ED0-EACE-4FCF-99EE-0B126930ED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9649-8423-4AE5-9AC2-275FD5D629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8D97-BA27-4DD3-A7EE-5D4AB35D3B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МСП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ИЕТИ ДОКЛАДИ  ОТ ТЕХНИЧЕСКИЯ СЪВЕТ НА АЕЕ</a:t>
            </a:r>
            <a:br>
              <a:rPr sz="2000"/>
            </a:b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8" name="Chart 1" descr=""/>
          <p:cNvPicPr/>
          <p:nvPr/>
        </p:nvPicPr>
        <p:blipFill>
          <a:blip r:embed="rId1"/>
          <a:stretch/>
        </p:blipFill>
        <p:spPr>
          <a:xfrm>
            <a:off x="560520" y="1433520"/>
            <a:ext cx="7878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7A47-A2DA-418A-90B3-DE7B7DE426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СЪСТОЯНИЕ НА ПРОЦЕС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1600200"/>
          <a:ext cx="8291520" cy="4525920"/>
        </p:xfrm>
        <a:graphic>
          <a:graphicData uri="http://schemas.openxmlformats.org/drawingml/2006/table">
            <a:tbl>
              <a:tblPr/>
              <a:tblGrid>
                <a:gridCol w="3973680"/>
                <a:gridCol w="1662120"/>
                <a:gridCol w="2655720"/>
              </a:tblGrid>
              <a:tr h="12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АМЕТЪ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ЕРНОС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СЛЕДВАНИ П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ЧАКВАНА ИКОНОМИЯ НА ЕНЕРГ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h/ye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ОБХОДИМИ ИНВЕСТИ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лн. л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ЕН СРОК НА ОТКУПУВ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ЕН ДЯЛ НА СПЕСТЯВАНИЯ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9A64-8889-468E-B8E2-B46531F260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НАЙ-ЧЕСТО ПРЕДПИСВАНИ МЕРК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58920" y="1628640"/>
          <a:ext cx="7200720" cy="4367520"/>
        </p:xfrm>
        <a:graphic>
          <a:graphicData uri="http://schemas.openxmlformats.org/drawingml/2006/table">
            <a:tbl>
              <a:tblPr/>
              <a:tblGrid>
                <a:gridCol w="5099040"/>
                <a:gridCol w="2101680"/>
              </a:tblGrid>
              <a:tr h="70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ЯЛ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СТЯВА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ИРАНЕ ЕНЕРГОПОТРЕБЛЕНИЕТО НА СГРАДНИЯ ФОН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ЕРКИ ПО ОСВЕТИТЕЛНИ ИНСТАЛ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ВЪВЕЖДАНЕ Н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 СМ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ЕРКИ ПО ГЕНЕРИРАЩИ МОЩ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ЕРКИ ПО ТЕХНОЛОГИЧНИ АГРЕГАТИ И СЪОРЪЖ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25E-3B5D-4954-A67B-C1A479F16C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ДЛЕЖАЩИ НА ОБСЛЕДВАНЕ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МИШЛЕНИ СИСТЕМИ - 164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B8BE-FB91-4435-9CD6-879EE88390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8" name="Picture 14" descr="Rayoni_za_planirane_2006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5115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5"/>
          <p:cNvSpPr/>
          <p:nvPr/>
        </p:nvSpPr>
        <p:spPr>
          <a:xfrm>
            <a:off x="2050920" y="2492280"/>
            <a:ext cx="1305000" cy="505080"/>
          </a:xfrm>
          <a:custGeom>
            <a:avLst/>
            <a:gdLst>
              <a:gd name="textAreaLeft" fmla="*/ 297720 w 1305000"/>
              <a:gd name="textAreaRight" fmla="*/ 1007280 w 130500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СЗ-1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4572000" y="2708280"/>
            <a:ext cx="1305000" cy="504720"/>
          </a:xfrm>
          <a:custGeom>
            <a:avLst/>
            <a:gdLst>
              <a:gd name="textAreaLeft" fmla="*/ 297720 w 1305000"/>
              <a:gd name="textAreaRight" fmla="*/ 1007280 w 130500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СЦ-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6588000" y="2276640"/>
            <a:ext cx="1305000" cy="504720"/>
          </a:xfrm>
          <a:custGeom>
            <a:avLst/>
            <a:gdLst>
              <a:gd name="textAreaLeft" fmla="*/ 297720 w 1305000"/>
              <a:gd name="textAreaRight" fmla="*/ 1007280 w 130500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СИ-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1403280" y="3789360"/>
            <a:ext cx="1449360" cy="504720"/>
          </a:xfrm>
          <a:custGeom>
            <a:avLst/>
            <a:gdLst>
              <a:gd name="textAreaLeft" fmla="*/ 330840 w 1449360"/>
              <a:gd name="textAreaRight" fmla="*/ 1118520 w 144936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ЮЗ-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3203640" y="4724280"/>
            <a:ext cx="1439640" cy="505080"/>
          </a:xfrm>
          <a:custGeom>
            <a:avLst/>
            <a:gdLst>
              <a:gd name="textAreaLeft" fmla="*/ 328680 w 1439640"/>
              <a:gd name="textAreaRight" fmla="*/ 1110960 w 143964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ЮЦ-2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5292720" y="3789360"/>
            <a:ext cx="1511280" cy="50472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ЮИ-2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КОНТРОЛНА ДЕЙНОСТ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ЦЕЛ - ПОВИШАВАНЕ НА ЕНЕРГИЙНИТЕ СПЕСТЯВАН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26920" y="1628640"/>
          <a:ext cx="7848720" cy="3002040"/>
        </p:xfrm>
        <a:graphic>
          <a:graphicData uri="http://schemas.openxmlformats.org/drawingml/2006/table">
            <a:tbl>
              <a:tblPr/>
              <a:tblGrid>
                <a:gridCol w="2665440"/>
                <a:gridCol w="5183280"/>
              </a:tblGrid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ТА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ни обслед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л. 64, т. 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яване разликат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л. 80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ни провер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л. 64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ълнение на ЕС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чл. 33, ал. 3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ящ контрол 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ъответствие на представените документи с изискванията на чл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редба № РД-16-346 от 2 април 2009 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55"/>
          <p:cNvSpPr/>
          <p:nvPr/>
        </p:nvSpPr>
        <p:spPr>
          <a:xfrm>
            <a:off x="2688120" y="4868280"/>
            <a:ext cx="370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КОНТРОЛНИ ПРОВЕРКИ НА ОБСЛЕДВАНИ ПС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5229360"/>
          <a:ext cx="4525920" cy="914400"/>
        </p:xfrm>
        <a:graphic>
          <a:graphicData uri="http://schemas.openxmlformats.org/drawingml/2006/table">
            <a:tbl>
              <a:tblPr/>
              <a:tblGrid>
                <a:gridCol w="1668600"/>
                <a:gridCol w="2857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ве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лофикация – Плевен ЕА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ве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ко А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112"/>
          <p:cNvSpPr/>
          <p:nvPr/>
        </p:nvSpPr>
        <p:spPr>
          <a:xfrm>
            <a:off x="7961760" y="65833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1644-1364-4FAF-897B-698DC510E8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992B-C843-4CCE-BD47-0D8C34F8A1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14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НИ ОБСЛЕДВАНИЯ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ЦЕДУРА ЗА ИЗВЪРШВАНЕ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РД14-85/23.07.2010 НА АЕЕ</a:t>
            </a:r>
            <a:br>
              <a:rPr sz="2000"/>
            </a:b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2F3-1340-4371-A8FB-110CE6206F1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68360" y="2492280"/>
            <a:ext cx="7991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ЗБОР НА ЛИЦА И УТВЪРЖДАВАНЕ ОТ ИД НА АЕ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ЗГОТВЯНЕ НА ГРАФИК И ЗАПОВЕДИ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СЕЩЕНИЯ НА МЯСТО, АНАЛИЗИ И ОЦЕНКИ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ЗГОТВЯНЕ НА РЕЗЮМЕ ПО ОБРАЗЕЦ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СТАВЯНЕ И ВРЪЧВАНЕ НА КОНСТАТИВЕН ПРОТОКОЛ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9616-FD09-4D10-AA82-92A3E4DB46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720" y="533160"/>
            <a:ext cx="70293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 НА ОБСЛЕДВАНИЯТА – ПО ГРАФИ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4211640" y="1413000"/>
            <a:ext cx="4249800" cy="14414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НТРОЛНИ ОБСЛЕДВА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установяват отклонението н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сновния показател – обща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годишна икономия на енергия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4284720" y="3068640"/>
            <a:ext cx="4249800" cy="1511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НСТАТИВНИ ПРОТОКОЛ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отразяват резултатите от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равняването на основ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оказател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250920" y="2781360"/>
            <a:ext cx="2736720" cy="20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КОНТРОЛ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ОБСЛЕДВАНИЯ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987640" y="2133360"/>
            <a:ext cx="1224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98764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4284720" y="4797360"/>
            <a:ext cx="4249800" cy="1511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КТОВЕ ЗА УСТАНОВЯВАНЕ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ДМИНИСТРАТИВНИ НАРУШЕНИЯ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при разлика в основ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оказател повече от 10%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2987640" y="3789360"/>
            <a:ext cx="1297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8F0F-A281-4898-AAE1-4A329640A0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995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НИ ОБСЛЕДВАНИЯ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ЩИ ПРЕПОРЪК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1187280" y="1844640"/>
            <a:ext cx="4608720" cy="14414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А ВКЛЮЧВАТ ВСИЧКИ ЕТАПИ,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РАЗПИСАНИ В ЧЛ. 9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РЕДБА № РД-16-346/02.04.2009 г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1979640" y="3860640"/>
            <a:ext cx="5688000" cy="180036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 ДА ОБХВАЩАТ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ЕХНИЧЕСКИТЕ СРЕДСТВА,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ИСТЕМИ И ЕЛЕМЕНТ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 ТЕРИТОРИЯТА НА ПС, СЪГЛАСНО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ЧЛ. 10 НА НАРЕДБА № РД-16-346/02.04.2009 г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31E-4CE2-4797-BC23-C8B36F46744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80722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ХОДЯЩ КОНТРОЛ НА ПОСТЪПИЛА В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АЕЕ ДОКУМЕНТАЦИЯ ОТ ОБСЛЕДВАНИЯ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1640" y="2060640"/>
            <a:ext cx="4249800" cy="14414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ЪЛНОТА НА КОМПЛЕК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резюме, протокол, декларация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4284720" y="4221000"/>
            <a:ext cx="4249800" cy="1511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РЕКТНОСТ НА ИНФОРМАЦИЯТ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контрол на данните в резюметата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250920" y="2781360"/>
            <a:ext cx="2736720" cy="20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КОНТРОЛ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ДОКУМЕНТАЦ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Line 6"/>
          <p:cNvSpPr/>
          <p:nvPr/>
        </p:nvSpPr>
        <p:spPr>
          <a:xfrm flipV="1">
            <a:off x="2987640" y="270792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2987640" y="378936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333E-9D4D-433A-84E9-041B595491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ПРАВЛЕНИЕ НА ЕНЕРГИЙНАТА ЕФЕКТИВНОСТ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 ПРОМИШЛЕНИ СИСТЕМ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334A-7292-410E-ADAD-591E516CCF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02" name="Group 19"/>
          <p:cNvGrpSpPr/>
          <p:nvPr/>
        </p:nvGrpSpPr>
        <p:grpSpPr>
          <a:xfrm>
            <a:off x="428760" y="1285920"/>
            <a:ext cx="8358120" cy="3714840"/>
            <a:chOff x="428760" y="1285920"/>
            <a:chExt cx="8358120" cy="3714840"/>
          </a:xfrm>
        </p:grpSpPr>
        <p:sp>
          <p:nvSpPr>
            <p:cNvPr id="103" name="Rectangle 4"/>
            <p:cNvSpPr/>
            <p:nvPr/>
          </p:nvSpPr>
          <p:spPr>
            <a:xfrm>
              <a:off x="714240" y="1285920"/>
              <a:ext cx="16430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Bookman Old Style"/>
                </a:rPr>
                <a:t>ОБСЛЕДВАНЕ</a:t>
              </a:r>
              <a:endParaRPr b="1" lang="en-US" sz="16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2857680" y="1285920"/>
              <a:ext cx="16430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ЕСМ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000760" y="2400480"/>
              <a:ext cx="1643040" cy="1176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Мониторинг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Контрол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Анализ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7143840" y="2400480"/>
              <a:ext cx="1643040" cy="618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Реални 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резултати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2857680" y="3700800"/>
              <a:ext cx="20714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Производство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6143760" y="4010040"/>
              <a:ext cx="1643040" cy="618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Готова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продукция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9" name="Right Arrow 10"/>
            <p:cNvSpPr/>
            <p:nvPr/>
          </p:nvSpPr>
          <p:spPr>
            <a:xfrm>
              <a:off x="2357280" y="1409760"/>
              <a:ext cx="571320" cy="371160"/>
            </a:xfrm>
            <a:prstGeom prst="rightArrow">
              <a:avLst>
                <a:gd name="adj1" fmla="val 50000"/>
                <a:gd name="adj2" fmla="val 57723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Bent-Up Arrow 12"/>
            <p:cNvSpPr/>
            <p:nvPr/>
          </p:nvSpPr>
          <p:spPr>
            <a:xfrm flipH="1" rot="10800000">
              <a:off x="4500720" y="1471320"/>
              <a:ext cx="1428480" cy="928440"/>
            </a:xfrm>
            <a:custGeom>
              <a:avLst/>
              <a:gdLst>
                <a:gd name="textAreaLeft" fmla="*/ 0 w 1428480"/>
                <a:gd name="textAreaRight" fmla="*/ 1294560 w 1428480"/>
                <a:gd name="textAreaTop" fmla="*/ 69660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1428760" h="1071569">
                  <a:moveTo>
                    <a:pt x="0" y="803677"/>
                  </a:moveTo>
                  <a:lnTo>
                    <a:pt x="1026922" y="803677"/>
                  </a:lnTo>
                  <a:lnTo>
                    <a:pt x="1026922" y="267892"/>
                  </a:lnTo>
                  <a:lnTo>
                    <a:pt x="892976" y="267892"/>
                  </a:lnTo>
                  <a:lnTo>
                    <a:pt x="1160868" y="0"/>
                  </a:lnTo>
                  <a:lnTo>
                    <a:pt x="1428760" y="267892"/>
                  </a:lnTo>
                  <a:lnTo>
                    <a:pt x="1294814" y="267892"/>
                  </a:lnTo>
                  <a:lnTo>
                    <a:pt x="1294814" y="1071569"/>
                  </a:lnTo>
                  <a:lnTo>
                    <a:pt x="0" y="1071569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Right Arrow 13"/>
            <p:cNvSpPr/>
            <p:nvPr/>
          </p:nvSpPr>
          <p:spPr>
            <a:xfrm>
              <a:off x="6643800" y="2400480"/>
              <a:ext cx="571320" cy="371160"/>
            </a:xfrm>
            <a:prstGeom prst="rightArrow">
              <a:avLst>
                <a:gd name="adj1" fmla="val 50000"/>
                <a:gd name="adj2" fmla="val 57723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2" name="Bent-Up Arrow 14"/>
            <p:cNvSpPr/>
            <p:nvPr/>
          </p:nvSpPr>
          <p:spPr>
            <a:xfrm flipH="1" flipV="1" rot="5400000">
              <a:off x="6638040" y="3147480"/>
              <a:ext cx="866520" cy="857160"/>
            </a:xfrm>
            <a:custGeom>
              <a:avLst/>
              <a:gdLst>
                <a:gd name="textAreaLeft" fmla="*/ -360 w 866520"/>
                <a:gd name="textAreaRight" fmla="*/ 773640 w 866520"/>
                <a:gd name="textAreaTop" fmla="*/ 642600 h 857160"/>
                <a:gd name="textAreaBottom" fmla="*/ 857160 h 857160"/>
              </a:gdLst>
              <a:ahLst/>
              <a:rect l="textAreaLeft" t="textAreaTop" r="textAreaRight" b="textAreaBottom"/>
              <a:pathLst>
                <a:path w="1000132" h="857256">
                  <a:moveTo>
                    <a:pt x="0" y="642942"/>
                  </a:moveTo>
                  <a:lnTo>
                    <a:pt x="678661" y="642942"/>
                  </a:lnTo>
                  <a:lnTo>
                    <a:pt x="678661" y="214314"/>
                  </a:lnTo>
                  <a:lnTo>
                    <a:pt x="571504" y="214314"/>
                  </a:lnTo>
                  <a:lnTo>
                    <a:pt x="785818" y="0"/>
                  </a:lnTo>
                  <a:lnTo>
                    <a:pt x="1000132" y="214314"/>
                  </a:lnTo>
                  <a:lnTo>
                    <a:pt x="892975" y="214314"/>
                  </a:lnTo>
                  <a:lnTo>
                    <a:pt x="892975" y="857256"/>
                  </a:lnTo>
                  <a:lnTo>
                    <a:pt x="0" y="857256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3" name="Bent-Up Arrow 15"/>
            <p:cNvSpPr/>
            <p:nvPr/>
          </p:nvSpPr>
          <p:spPr>
            <a:xfrm flipH="1" rot="5400000">
              <a:off x="4071960" y="2700360"/>
              <a:ext cx="928800" cy="1071360"/>
            </a:xfrm>
            <a:custGeom>
              <a:avLst/>
              <a:gdLst>
                <a:gd name="textAreaLeft" fmla="*/ 0 w 928800"/>
                <a:gd name="textAreaRight" fmla="*/ 812880 w 928800"/>
                <a:gd name="textAreaTop" fmla="*/ 80352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71571" h="1071570">
                  <a:moveTo>
                    <a:pt x="0" y="803678"/>
                  </a:moveTo>
                  <a:lnTo>
                    <a:pt x="669732" y="803678"/>
                  </a:lnTo>
                  <a:lnTo>
                    <a:pt x="669732" y="267893"/>
                  </a:lnTo>
                  <a:lnTo>
                    <a:pt x="535786" y="267893"/>
                  </a:lnTo>
                  <a:lnTo>
                    <a:pt x="803679" y="0"/>
                  </a:lnTo>
                  <a:lnTo>
                    <a:pt x="1071571" y="267893"/>
                  </a:lnTo>
                  <a:lnTo>
                    <a:pt x="937625" y="267893"/>
                  </a:lnTo>
                  <a:lnTo>
                    <a:pt x="937625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2857680" y="4381560"/>
              <a:ext cx="20714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Потребена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енергия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Right Arrow 17"/>
            <p:cNvSpPr/>
            <p:nvPr/>
          </p:nvSpPr>
          <p:spPr>
            <a:xfrm>
              <a:off x="428760" y="3824640"/>
              <a:ext cx="2500200" cy="371160"/>
            </a:xfrm>
            <a:prstGeom prst="rightArrow">
              <a:avLst>
                <a:gd name="adj1" fmla="val 50000"/>
                <a:gd name="adj2" fmla="val 57725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МАТЕРИАЛИ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СУРОВИНИ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6" name="Right Arrow 18"/>
            <p:cNvSpPr/>
            <p:nvPr/>
          </p:nvSpPr>
          <p:spPr>
            <a:xfrm>
              <a:off x="428760" y="4505400"/>
              <a:ext cx="2500200" cy="371160"/>
            </a:xfrm>
            <a:prstGeom prst="rightArrow">
              <a:avLst>
                <a:gd name="adj1" fmla="val 50000"/>
                <a:gd name="adj2" fmla="val 57725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ЕНЕРГО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НОСИТЕЛИ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7" name="Right Arrow 11"/>
            <p:cNvSpPr/>
            <p:nvPr/>
          </p:nvSpPr>
          <p:spPr>
            <a:xfrm>
              <a:off x="4500720" y="4133880"/>
              <a:ext cx="1714320" cy="371520"/>
            </a:xfrm>
            <a:prstGeom prst="rightArrow">
              <a:avLst>
                <a:gd name="adj1" fmla="val 50000"/>
                <a:gd name="adj2" fmla="val 57679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8" name="TextBox 20"/>
          <p:cNvSpPr/>
          <p:nvPr/>
        </p:nvSpPr>
        <p:spPr>
          <a:xfrm>
            <a:off x="428760" y="50864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Постигане на ЕСМ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Съкращаване времето за постигане на целите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о – добро управление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F6B2-8A34-4E8E-91E9-246195B133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971640" y="3573360"/>
            <a:ext cx="345600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ЪВЕЖДАНЕ НА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АННИТЕ В НИССЕЕ.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ОМПЛЕКТОВА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ОСИЕТА НА ПС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826920" y="1557360"/>
            <a:ext cx="3600720" cy="1366920"/>
          </a:xfrm>
          <a:prstGeom prst="downArrow">
            <a:avLst>
              <a:gd name="adj1" fmla="val 76454"/>
              <a:gd name="adj2" fmla="val 42403"/>
            </a:avLst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ЪЛЕН КОМПЛЕКТ,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РЕКТН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5003640" y="2997360"/>
            <a:ext cx="3600720" cy="12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ЗПРАЩАНЕ Н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ИСМА С ПРЕДПИСА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ЗА ОТСТРАНЯВАНЕ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 НАРУШЕНИЯ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932360" y="1557360"/>
            <a:ext cx="3635280" cy="1295280"/>
          </a:xfrm>
          <a:prstGeom prst="downArrow">
            <a:avLst>
              <a:gd name="adj1" fmla="val 76454"/>
              <a:gd name="adj2" fmla="val 42403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УСТАНОВЕН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РУШЕ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92180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ХОДЯЩ КОНТРОЛ НА ДОКУМЕНТАЦИЯ -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СЛЕДВАЩИ ДЕЙСТВ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5076720" y="4508640"/>
            <a:ext cx="360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ОЛУЧАВАНЕ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ЪЛНА/КОРИГИРА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ОКУМЕНТАЦ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4500720" y="4869000"/>
            <a:ext cx="431640" cy="50472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МИШЛЕНИ СИСТЕМИ – ОБЛАСТ ПЛЕВЕН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ОБЩЕНИ ПОКАЗАТЕЛ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916280"/>
          <a:ext cx="7836120" cy="4001760"/>
        </p:xfrm>
        <a:graphic>
          <a:graphicData uri="http://schemas.openxmlformats.org/drawingml/2006/table">
            <a:tbl>
              <a:tblPr/>
              <a:tblGrid>
                <a:gridCol w="289080"/>
                <a:gridCol w="4319640"/>
                <a:gridCol w="1152360"/>
                <a:gridCol w="1366920"/>
                <a:gridCol w="70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160640"/>
                          <a:tab algn="l" pos="1247760"/>
                          <a:tab algn="l" pos="1871640"/>
                          <a:tab algn="l" pos="2495520"/>
                          <a:tab algn="l" pos="3119400"/>
                          <a:tab algn="l" pos="3743280"/>
                          <a:tab algn="l" pos="4367160"/>
                          <a:tab algn="l" pos="4991040"/>
                          <a:tab algn="l" pos="5614920"/>
                          <a:tab algn="l" pos="6238800"/>
                          <a:tab algn="l" pos="6862680"/>
                          <a:tab algn="l" pos="7486560"/>
                          <a:tab algn="l" pos="8110440"/>
                          <a:tab algn="l" pos="8734320"/>
                          <a:tab algn="l" pos="9358200"/>
                          <a:tab algn="l" pos="9982080"/>
                          <a:tab algn="l" pos="106059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ЪЛЖЕНИ ЗА ОБС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НЕ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И ОДИТОРИ ЗА 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ВАН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АКВАН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КОНОМИ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Wh/ye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И ИНВЕСТИЦИ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лн. л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СЛЕДВАНИ 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НИ ИКОНОМИ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h/year/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в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Rectangle 72"/>
          <p:cNvSpPr/>
          <p:nvPr/>
        </p:nvSpPr>
        <p:spPr>
          <a:xfrm>
            <a:off x="800784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1409-8436-4E0F-B12B-D7A6FDF4E8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3F29-B9AB-4F43-8A02-310E11642A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572000" y="3141720"/>
            <a:ext cx="424800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Венцислав Мирчев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Началник отдел КЕЕПС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.: 915 40 27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-mail: VMirchev@SEEA.government.bg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30" name="Group 67"/>
          <p:cNvGrpSpPr/>
          <p:nvPr/>
        </p:nvGrpSpPr>
        <p:grpSpPr>
          <a:xfrm>
            <a:off x="0" y="2060640"/>
            <a:ext cx="4572000" cy="4360680"/>
            <a:chOff x="0" y="2060640"/>
            <a:chExt cx="4572000" cy="4360680"/>
          </a:xfrm>
        </p:grpSpPr>
        <p:sp>
          <p:nvSpPr>
            <p:cNvPr id="231" name="AutoShape 15"/>
            <p:cNvSpPr/>
            <p:nvPr/>
          </p:nvSpPr>
          <p:spPr>
            <a:xfrm>
              <a:off x="0" y="2060640"/>
              <a:ext cx="457200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103320" y="2203560"/>
              <a:ext cx="4430520" cy="3968640"/>
            </a:xfrm>
            <a:custGeom>
              <a:avLst/>
              <a:gdLst>
                <a:gd name="textAreaLeft" fmla="*/ 0 w 4430520"/>
                <a:gd name="textAreaRight" fmla="*/ 4430880 w 4430520"/>
                <a:gd name="textAreaTop" fmla="*/ 0 h 3968640"/>
                <a:gd name="textAreaBottom" fmla="*/ 3969000 h 3968640"/>
              </a:gdLst>
              <a:ahLst/>
              <a:rect l="textAreaLeft" t="textAreaTop" r="textAreaRight" b="textAreaBottom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1738440" y="3340080"/>
              <a:ext cx="2689200" cy="2773440"/>
            </a:xfrm>
            <a:custGeom>
              <a:avLst/>
              <a:gdLst>
                <a:gd name="textAreaLeft" fmla="*/ 0 w 2689200"/>
                <a:gd name="textAreaRight" fmla="*/ 2689560 w 268920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1795320" y="3473280"/>
              <a:ext cx="2446560" cy="2681280"/>
            </a:xfrm>
            <a:custGeom>
              <a:avLst/>
              <a:gdLst>
                <a:gd name="textAreaLeft" fmla="*/ 0 w 2446560"/>
                <a:gd name="textAreaRight" fmla="*/ 2446920 w 244656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3241800" y="3452760"/>
              <a:ext cx="787320" cy="4222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2381400" y="2098800"/>
              <a:ext cx="422280" cy="288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1644480" y="3559320"/>
              <a:ext cx="1560600" cy="2692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3362400" y="4095720"/>
              <a:ext cx="871560" cy="12794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>
              <a:off x="2225520" y="2311560"/>
              <a:ext cx="944640" cy="164772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0" name="Freeform 25"/>
            <p:cNvSpPr/>
            <p:nvPr/>
          </p:nvSpPr>
          <p:spPr>
            <a:xfrm>
              <a:off x="2211480" y="2467080"/>
              <a:ext cx="922320" cy="146520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465200"/>
                <a:gd name="textAreaBottom" fmla="*/ 1465200 h 1465200"/>
              </a:gdLst>
              <a:ahLst/>
              <a:rect l="textAreaLeft" t="textAreaTop" r="textAreaRight" b="textAreaBottom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1" name="Freeform 26"/>
            <p:cNvSpPr/>
            <p:nvPr/>
          </p:nvSpPr>
          <p:spPr>
            <a:xfrm>
              <a:off x="1968480" y="2114640"/>
              <a:ext cx="1127160" cy="9921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2" name="Freeform 27"/>
            <p:cNvSpPr/>
            <p:nvPr/>
          </p:nvSpPr>
          <p:spPr>
            <a:xfrm>
              <a:off x="2317680" y="3146400"/>
              <a:ext cx="339840" cy="24912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3" name="Freeform 28"/>
            <p:cNvSpPr/>
            <p:nvPr/>
          </p:nvSpPr>
          <p:spPr>
            <a:xfrm>
              <a:off x="2770200" y="3021120"/>
              <a:ext cx="236520" cy="253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4" name="Freeform 29"/>
            <p:cNvSpPr/>
            <p:nvPr/>
          </p:nvSpPr>
          <p:spPr>
            <a:xfrm>
              <a:off x="2395440" y="3181320"/>
              <a:ext cx="181080" cy="1429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5" name="Freeform 30"/>
            <p:cNvSpPr/>
            <p:nvPr/>
          </p:nvSpPr>
          <p:spPr>
            <a:xfrm>
              <a:off x="2230560" y="2664000"/>
              <a:ext cx="852480" cy="7380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6" name="Freeform 31"/>
            <p:cNvSpPr/>
            <p:nvPr/>
          </p:nvSpPr>
          <p:spPr>
            <a:xfrm>
              <a:off x="2521080" y="2208240"/>
              <a:ext cx="556920" cy="66024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7" name="Freeform 32"/>
            <p:cNvSpPr/>
            <p:nvPr/>
          </p:nvSpPr>
          <p:spPr>
            <a:xfrm>
              <a:off x="1973160" y="2336760"/>
              <a:ext cx="287280" cy="382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8" name="Freeform 33"/>
            <p:cNvSpPr/>
            <p:nvPr/>
          </p:nvSpPr>
          <p:spPr>
            <a:xfrm>
              <a:off x="2289240" y="3021120"/>
              <a:ext cx="244440" cy="1206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9" name="Freeform 34"/>
            <p:cNvSpPr/>
            <p:nvPr/>
          </p:nvSpPr>
          <p:spPr>
            <a:xfrm>
              <a:off x="1846440" y="5337000"/>
              <a:ext cx="1144440" cy="43344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0" name="Freeform 35"/>
            <p:cNvSpPr/>
            <p:nvPr/>
          </p:nvSpPr>
          <p:spPr>
            <a:xfrm>
              <a:off x="1873080" y="5407200"/>
              <a:ext cx="1094040" cy="401400"/>
            </a:xfrm>
            <a:custGeom>
              <a:avLst/>
              <a:gdLst>
                <a:gd name="textAreaLeft" fmla="*/ 0 w 1094040"/>
                <a:gd name="textAreaRight" fmla="*/ 1094400 w 10940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1" name="Freeform 36"/>
            <p:cNvSpPr/>
            <p:nvPr/>
          </p:nvSpPr>
          <p:spPr>
            <a:xfrm>
              <a:off x="0" y="3624120"/>
              <a:ext cx="2016000" cy="2759040"/>
            </a:xfrm>
            <a:custGeom>
              <a:avLst/>
              <a:gdLst>
                <a:gd name="textAreaLeft" fmla="*/ 0 w 2016000"/>
                <a:gd name="textAreaRight" fmla="*/ 2016000 w 201600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2" name="Freeform 37"/>
            <p:cNvSpPr/>
            <p:nvPr/>
          </p:nvSpPr>
          <p:spPr>
            <a:xfrm>
              <a:off x="63360" y="4100400"/>
              <a:ext cx="820800" cy="99072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3" name="Freeform 38"/>
            <p:cNvSpPr/>
            <p:nvPr/>
          </p:nvSpPr>
          <p:spPr>
            <a:xfrm>
              <a:off x="241200" y="5234040"/>
              <a:ext cx="1754280" cy="1139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4" name="Freeform 39"/>
            <p:cNvSpPr/>
            <p:nvPr/>
          </p:nvSpPr>
          <p:spPr>
            <a:xfrm>
              <a:off x="353880" y="3660840"/>
              <a:ext cx="1033560" cy="939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5" name="Freeform 40"/>
            <p:cNvSpPr/>
            <p:nvPr/>
          </p:nvSpPr>
          <p:spPr>
            <a:xfrm>
              <a:off x="1081080" y="4121280"/>
              <a:ext cx="247680" cy="3920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6" name="Freeform 41"/>
            <p:cNvSpPr/>
            <p:nvPr/>
          </p:nvSpPr>
          <p:spPr>
            <a:xfrm>
              <a:off x="633240" y="4295880"/>
              <a:ext cx="852840" cy="122688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7" name="Freeform 42"/>
            <p:cNvSpPr/>
            <p:nvPr/>
          </p:nvSpPr>
          <p:spPr>
            <a:xfrm>
              <a:off x="2790720" y="4013280"/>
              <a:ext cx="492120" cy="1703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8" name="Freeform 43"/>
            <p:cNvSpPr/>
            <p:nvPr/>
          </p:nvSpPr>
          <p:spPr>
            <a:xfrm>
              <a:off x="2922480" y="4238640"/>
              <a:ext cx="152640" cy="46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9" name="Freeform 44"/>
            <p:cNvSpPr/>
            <p:nvPr/>
          </p:nvSpPr>
          <p:spPr>
            <a:xfrm>
              <a:off x="2532240" y="5616720"/>
              <a:ext cx="841320" cy="7221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0" name="Freeform 45"/>
            <p:cNvSpPr/>
            <p:nvPr/>
          </p:nvSpPr>
          <p:spPr>
            <a:xfrm>
              <a:off x="2884320" y="5664240"/>
              <a:ext cx="517680" cy="62064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1" name="Freeform 46"/>
            <p:cNvSpPr/>
            <p:nvPr/>
          </p:nvSpPr>
          <p:spPr>
            <a:xfrm>
              <a:off x="2521080" y="5862600"/>
              <a:ext cx="398160" cy="424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3089160" y="5329080"/>
              <a:ext cx="108000" cy="195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3" name="Freeform 48"/>
            <p:cNvSpPr/>
            <p:nvPr/>
          </p:nvSpPr>
          <p:spPr>
            <a:xfrm>
              <a:off x="3168720" y="5241960"/>
              <a:ext cx="304560" cy="347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4" name="Freeform 49"/>
            <p:cNvSpPr/>
            <p:nvPr/>
          </p:nvSpPr>
          <p:spPr>
            <a:xfrm>
              <a:off x="3144960" y="4713120"/>
              <a:ext cx="101520" cy="882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5" name="Freeform 50"/>
            <p:cNvSpPr/>
            <p:nvPr/>
          </p:nvSpPr>
          <p:spPr>
            <a:xfrm>
              <a:off x="3149640" y="4740120"/>
              <a:ext cx="98280" cy="843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3211560" y="5041800"/>
              <a:ext cx="571320" cy="4590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7" name="Freeform 52"/>
            <p:cNvSpPr/>
            <p:nvPr/>
          </p:nvSpPr>
          <p:spPr>
            <a:xfrm>
              <a:off x="2938320" y="5122800"/>
              <a:ext cx="1490760" cy="8701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8" name="Freeform 53"/>
            <p:cNvSpPr/>
            <p:nvPr/>
          </p:nvSpPr>
          <p:spPr>
            <a:xfrm>
              <a:off x="2922480" y="5345280"/>
              <a:ext cx="1354320" cy="66024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9" name="Freeform 54"/>
            <p:cNvSpPr/>
            <p:nvPr/>
          </p:nvSpPr>
          <p:spPr>
            <a:xfrm>
              <a:off x="2954160" y="5730840"/>
              <a:ext cx="233640" cy="1810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0" name="Freeform 55"/>
            <p:cNvSpPr/>
            <p:nvPr/>
          </p:nvSpPr>
          <p:spPr>
            <a:xfrm>
              <a:off x="2911320" y="5873760"/>
              <a:ext cx="198720" cy="139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1" name="Freeform 56"/>
            <p:cNvSpPr/>
            <p:nvPr/>
          </p:nvSpPr>
          <p:spPr>
            <a:xfrm>
              <a:off x="3198960" y="5160960"/>
              <a:ext cx="1230120" cy="70812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2" name="Freeform 57"/>
            <p:cNvSpPr/>
            <p:nvPr/>
          </p:nvSpPr>
          <p:spPr>
            <a:xfrm>
              <a:off x="784080" y="2549520"/>
              <a:ext cx="1081080" cy="158580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3" name="Freeform 58"/>
            <p:cNvSpPr/>
            <p:nvPr/>
          </p:nvSpPr>
          <p:spPr>
            <a:xfrm>
              <a:off x="814320" y="2546280"/>
              <a:ext cx="898560" cy="150336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4" name="Freeform 59"/>
            <p:cNvSpPr/>
            <p:nvPr/>
          </p:nvSpPr>
          <p:spPr>
            <a:xfrm>
              <a:off x="476280" y="2311560"/>
              <a:ext cx="1346040" cy="132048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5" name="Freeform 60"/>
            <p:cNvSpPr/>
            <p:nvPr/>
          </p:nvSpPr>
          <p:spPr>
            <a:xfrm>
              <a:off x="539640" y="2575080"/>
              <a:ext cx="217440" cy="8967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6" name="Freeform 61"/>
            <p:cNvSpPr/>
            <p:nvPr/>
          </p:nvSpPr>
          <p:spPr>
            <a:xfrm>
              <a:off x="763560" y="2408400"/>
              <a:ext cx="871560" cy="8492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7" name="Freeform 62"/>
            <p:cNvSpPr/>
            <p:nvPr/>
          </p:nvSpPr>
          <p:spPr>
            <a:xfrm>
              <a:off x="620640" y="2400480"/>
              <a:ext cx="376200" cy="3729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8" name="Freeform 63"/>
            <p:cNvSpPr/>
            <p:nvPr/>
          </p:nvSpPr>
          <p:spPr>
            <a:xfrm>
              <a:off x="822240" y="3346560"/>
              <a:ext cx="219240" cy="2300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9" name="Freeform 64"/>
            <p:cNvSpPr/>
            <p:nvPr/>
          </p:nvSpPr>
          <p:spPr>
            <a:xfrm>
              <a:off x="992160" y="3351240"/>
              <a:ext cx="55440" cy="187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80" name="Freeform 65"/>
            <p:cNvSpPr/>
            <p:nvPr/>
          </p:nvSpPr>
          <p:spPr>
            <a:xfrm>
              <a:off x="836640" y="3365640"/>
              <a:ext cx="58680" cy="172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81" name="Freeform 66"/>
            <p:cNvSpPr/>
            <p:nvPr/>
          </p:nvSpPr>
          <p:spPr>
            <a:xfrm>
              <a:off x="1461960" y="3481560"/>
              <a:ext cx="185760" cy="125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4D62-583D-41A5-A097-52CA35C044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ЕГЛАМЕНТИРАНЕ НА ПРОЦЕСА – ЗЕЕ, чл. 33, ал. 2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84360" y="2133720"/>
            <a:ext cx="374472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27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ЗАДЪЛЖИТЕЛНО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ОБСЛЕДВАНЕ ЗА ЕЕ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НА ПС С ГОДИШНО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ПОТРЕБЛЕНИЕ 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НА ЕНЕРГИЯ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bg-BG" sz="2200" spc="-1" strike="noStrike">
                <a:solidFill>
                  <a:srgbClr val="ff00ff"/>
                </a:solidFill>
                <a:latin typeface="Arial"/>
              </a:rPr>
              <a:t>3 000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MWh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ВЕДНЪЖ НА ВСЕКИ</a:t>
            </a:r>
            <a:r>
              <a:rPr b="1" lang="bg-BG" sz="2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00ff"/>
                </a:solidFill>
                <a:latin typeface="Arial"/>
              </a:rPr>
              <a:t>3 ГОДИНИ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AutoShape 4"/>
          <p:cNvSpPr/>
          <p:nvPr/>
        </p:nvSpPr>
        <p:spPr>
          <a:xfrm rot="16200000">
            <a:off x="3781440" y="3500280"/>
            <a:ext cx="2232000" cy="648000"/>
          </a:xfrm>
          <a:prstGeom prst="downArrow">
            <a:avLst>
              <a:gd name="adj1" fmla="val 76454"/>
              <a:gd name="adj2" fmla="val 42403"/>
            </a:avLst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81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Text Box 5"/>
          <p:cNvSpPr/>
          <p:nvPr/>
        </p:nvSpPr>
        <p:spPr>
          <a:xfrm rot="10800000">
            <a:off x="4645080" y="3357720"/>
            <a:ext cx="4546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ff"/>
                </a:solidFill>
                <a:latin typeface="Arial"/>
              </a:rPr>
              <a:t>Ц Е Л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133720"/>
            <a:ext cx="3168720" cy="34560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ПРЕДЕЛЯ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ПЕЦИФИЧНИТ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ЪЗМОЖНОСТИ З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АМАЛЯВА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НЕРГИЙНОТО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ТРЕБЛЕНИЕ И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ЕДЛАГА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ЕРКИ З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ВИШАВАН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А Е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D521-0582-4054-A66E-60D2A98F838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ЧАСТНИЦИ В ПРОЦЕС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900000" y="13413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d7b00"/>
              </a:gs>
              <a:gs pos="100000">
                <a:srgbClr val="e9a60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 ПО ЕНЕРГИЙНА ЕФЕКТИВНОСТ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ДЪРЖА ИНФОРМАЦИЯ 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А ПРОЦЕСА В НИСС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ПРАЖНЯВА КОНТРОЛ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ПИСВА В ПР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971640" y="5084640"/>
            <a:ext cx="4895640" cy="127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5d14"/>
              </a:gs>
              <a:gs pos="100000">
                <a:srgbClr val="2a7d1c"/>
              </a:gs>
            </a:gsLst>
            <a:lin ang="16200000"/>
          </a:gradFill>
          <a:ln w="9360">
            <a:solidFill>
              <a:srgbClr val="32732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БСТВЕНИЦИ НА ПС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ДОСТАВЯТ ИНФОРМАЦИЯ НА А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ЪЗЛАГАТ ОБСЛЕДВАН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ВЪРШВАТ УПРАВЛЕНИЕ НА 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268360" y="3284640"/>
            <a:ext cx="3456000" cy="12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ИРМИ ОТ ПР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ЖДАТ ОБСЛЕДВАН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ЗРАБОТВАТ МЕРКИ ПО 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ОТВЯТ ДОКЛАД И РЕЗЮМ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300720" y="3284640"/>
            <a:ext cx="2349720" cy="1368360"/>
          </a:xfrm>
          <a:prstGeom prst="roundRect">
            <a:avLst>
              <a:gd name="adj" fmla="val 16667"/>
            </a:avLst>
          </a:prstGeom>
          <a:solidFill>
            <a:srgbClr val="e2caaa"/>
          </a:solidFill>
          <a:ln w="25560">
            <a:solidFill>
              <a:srgbClr val="a69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УЧАВАЩИ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ЗРАБОТВАТ 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ЧЕБНИ ПРОГРАМИ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ВЪРШВАТ 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AutoShape 10"/>
          <p:cNvSpPr/>
          <p:nvPr/>
        </p:nvSpPr>
        <p:spPr>
          <a:xfrm rot="10800000">
            <a:off x="3348000" y="2923920"/>
            <a:ext cx="432000" cy="291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AutoShape 10"/>
          <p:cNvSpPr/>
          <p:nvPr/>
        </p:nvSpPr>
        <p:spPr>
          <a:xfrm rot="5175600">
            <a:off x="5756040" y="3684240"/>
            <a:ext cx="514440" cy="292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AutoShape 8"/>
          <p:cNvSpPr/>
          <p:nvPr/>
        </p:nvSpPr>
        <p:spPr>
          <a:xfrm rot="15966600">
            <a:off x="3321000" y="4608360"/>
            <a:ext cx="34272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AutoShape 10"/>
          <p:cNvSpPr/>
          <p:nvPr/>
        </p:nvSpPr>
        <p:spPr>
          <a:xfrm rot="21480000">
            <a:off x="1547280" y="3152520"/>
            <a:ext cx="347760" cy="1790640"/>
          </a:xfrm>
          <a:prstGeom prst="downArrow">
            <a:avLst>
              <a:gd name="adj1" fmla="val 50000"/>
              <a:gd name="adj2" fmla="val 128727"/>
            </a:avLst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AutoShape 10"/>
          <p:cNvSpPr/>
          <p:nvPr/>
        </p:nvSpPr>
        <p:spPr>
          <a:xfrm rot="10800000">
            <a:off x="1044360" y="3206880"/>
            <a:ext cx="360360" cy="1790640"/>
          </a:xfrm>
          <a:prstGeom prst="downArrow">
            <a:avLst>
              <a:gd name="adj1" fmla="val 50000"/>
              <a:gd name="adj2" fmla="val 124226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4067280" y="2924280"/>
            <a:ext cx="431640" cy="291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0BFF-0220-40C9-80D8-0941957E333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АКТИВНОСТ НА ФИРМИТЕ ОТ ПУБЛИЧНИЯ РЕГИСТЪ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7280" y="2781360"/>
          <a:ext cx="7488360" cy="3332160"/>
        </p:xfrm>
        <a:graphic>
          <a:graphicData uri="http://schemas.openxmlformats.org/drawingml/2006/table">
            <a:tbl>
              <a:tblPr/>
              <a:tblGrid>
                <a:gridCol w="5329440"/>
                <a:gridCol w="1295280"/>
                <a:gridCol w="8636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ЕДВАЩА ФИР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С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БЪЛГАРСКА ЕНЕРГЕТИЧНА КОМПАНИЯ" А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ЕНЕРДЖИ ЕФЕКТ" Е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ДЖИ СЕЙВИНГ” Е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ЕЕС - ЕНЕРГИЙНО ЕФЕКТИВНИ СИСТЕМИ" 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ЕНЕРГЕТИКА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Д" 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ТЕХНИЧЕСКИ УНИВЕРСИТЕТ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ФИЯ"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АРНО ЗА ШЕСТТЕ ФИР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187280" y="1341360"/>
          <a:ext cx="7499520" cy="1036800"/>
        </p:xfrm>
        <a:graphic>
          <a:graphicData uri="http://schemas.openxmlformats.org/drawingml/2006/table">
            <a:tbl>
              <a:tblPr/>
              <a:tblGrid>
                <a:gridCol w="4884840"/>
                <a:gridCol w="1306440"/>
                <a:gridCol w="130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РМИ В П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РМИ ОТ ПР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ОБСЛЕД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ТРЕБЛЕНИЕ НА ЕНЕРГИЯ ПО СЕКТОРИ 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Wh/ye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785880" y="1736640"/>
            <a:ext cx="7900920" cy="4251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790704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69BE-B536-4387-883F-465CFEF6FE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 –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 СЕКТОРИ/ПОД-СЕКТОРИ/БРАНШОВЕ – бр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85880" y="1709640"/>
            <a:ext cx="7900920" cy="4305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805140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38DE-A705-4F37-AB08-BB36772553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533160"/>
            <a:ext cx="78213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ЧАКВАНИ ИКОНОМИИ НА ЕНЕРГИЯ ПО РИП –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Wh/ye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82316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826740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07BD-5CA5-4EEF-9AB2-23F643CE98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НЕОБХОДИМИ ИНВЕСТИЦИИ ПО РИП – в млн. лв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792000" y="1600200"/>
            <a:ext cx="788688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805140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2BD-378A-4015-B441-8F74237789A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V Mirchev</dc:creator>
  <dc:description/>
  <dc:language>en-US</dc:language>
  <cp:lastModifiedBy>knaydenov</cp:lastModifiedBy>
  <dcterms:modified xsi:type="dcterms:W3CDTF">2011-03-14T13:05:32Z</dcterms:modified>
  <cp:revision>379</cp:revision>
  <dc:subject/>
  <dc:title>Industry 2008</dc:title>
</cp:coreProperties>
</file>