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7CC5-9762-4255-B6A6-27503004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ACA-0770-481D-AE95-C5D03ADC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48C5-F1BE-43EC-90F4-E55EB9C3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333D-58EC-4BC6-95CC-E0E7D334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5CFC-2622-4856-942E-E152C97E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BE67-B672-4B4A-8497-41C08299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9388-0366-48B8-9DDC-9A3DF863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76B7-B0FB-4B6F-B9DD-F2BF6E87E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290A-B723-447F-9DA3-1FD87300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B79-F0AF-4773-A05D-C18E71A2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9A1-A9B9-44B0-86CE-80A6F1E38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CB9-A847-4748-A0A9-6EA57C0D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E01A-46F5-4AA9-8F61-2C8CB995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A3F-D4A9-424F-BF47-43CEFE39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6BE-1407-405A-ABA3-04F216DD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045-A98A-4F27-AF33-AF6017A6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808-AD2C-410B-8389-40C85F95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788-FD40-42A0-9B91-C9E47D86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31F-5F35-4B81-92C3-6F2883F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ED06-C821-4431-8E92-8AB6EED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2EA-5C98-4A1F-93CE-DCC086AC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3C35-26C8-4BFB-963A-87B9715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61F6-6D15-446B-8653-9874179F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3960-C441-4B5D-BAC7-5BF8D77B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B5E-7C02-43E7-89A4-3990204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946-F368-4A2A-AF58-57DF8325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49F5-F4BD-40FE-9A79-DEACE7D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69FF-AADA-4001-BF00-745533C9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584-7487-4CF2-B342-3B22CD6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ECF-E470-46F7-A0DD-4291CAD3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359-9E5D-44F1-BE7D-C2D6C7A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700-5188-4865-B9B8-9D86AD5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973-2293-45B5-AA6F-3F56B6D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EE2-B0D3-43A8-BCD2-2AB2C6FD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BEA-FDAE-4052-A52B-0055114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B20-761D-4CCC-B298-25B902B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D4A-42C4-4DBF-941D-BC5EDD1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B18A-35D7-4FC9-B760-B28EC9BF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3A9-9D18-4AD9-BDD4-F3DE42FF2975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2DD-8371-4050-A3C7-F0FA34B4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141360"/>
            <a:ext cx="568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  ВЪРХУ  ПРОЦЕСА И РЕЗУЛТАТИТЕ ОТ ОБСЛЕДВАНИЯТА НА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левен, 17 март 2011 г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E826-CD23-43CB-B77C-062271AC5EA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МСП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СХЕМИ ЗА БЕЗВЪЗМЕЗДНО ФИНАНСИРАН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39528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7928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660,4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17928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7672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8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13200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7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372360" y="2060640"/>
            <a:ext cx="2016000" cy="720720"/>
          </a:xfrm>
          <a:prstGeom prst="downArrowCallout">
            <a:avLst>
              <a:gd name="adj1" fmla="val 69936"/>
              <a:gd name="adj2" fmla="val 124657"/>
              <a:gd name="adj3" fmla="val 16667"/>
              <a:gd name="adj4" fmla="val 66667"/>
            </a:avLst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ff"/>
                </a:solidFill>
                <a:latin typeface="Arial"/>
              </a:rPr>
              <a:t>2009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084720" y="4653000"/>
            <a:ext cx="2808360" cy="719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ОБСЛЕДВА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(19) 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МСП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313200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613,7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3068640"/>
            <a:ext cx="2808360" cy="1079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ПРЕДОСТАВЕН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СРЕДСТВ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cc33"/>
                </a:solidFill>
                <a:latin typeface="Arial"/>
              </a:rPr>
              <a:t>462,9 (440,9) хил. лв.</a:t>
            </a:r>
            <a:r>
              <a:rPr b="1" lang="bg-BG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D44-CBDA-41E7-AC8A-78091A266E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66D-7B92-42D9-830E-5517CCDF7E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6B8-BD66-404A-AEAA-0E8AD7998BA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МСП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ИЕТИ ДОКЛАДИ  ОТ ТЕХНИЧЕСКИЯ СЪВЕТ НА АЕЕ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8" name="Chart 1" descr=""/>
          <p:cNvPicPr/>
          <p:nvPr/>
        </p:nvPicPr>
        <p:blipFill>
          <a:blip r:embed="rId1"/>
          <a:stretch/>
        </p:blipFill>
        <p:spPr>
          <a:xfrm>
            <a:off x="560520" y="1433520"/>
            <a:ext cx="7878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40E6-A966-4853-A3B3-EC9FCA8B6EF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СЪСТОЯНИЕ НА ПРОЦЕС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600200"/>
          <a:ext cx="8291520" cy="4525920"/>
        </p:xfrm>
        <a:graphic>
          <a:graphicData uri="http://schemas.openxmlformats.org/drawingml/2006/table">
            <a:tbl>
              <a:tblPr/>
              <a:tblGrid>
                <a:gridCol w="3973680"/>
                <a:gridCol w="1662120"/>
                <a:gridCol w="2655720"/>
              </a:tblGrid>
              <a:tr h="12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АМЕТЪ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ЕРНО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СЛЕДВАНИ П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ЧАКВАНА ИКОНОМИЯ НА ЕНЕРГ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h/ye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ОБХОДИМИ ИНВЕСТИ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н. л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ЕН СРОК НА ОТКУПУВ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ЕН ДЯЛ НА СПЕСТЯВАНИЯ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3CD-F8E1-4FA6-B5F1-D8FAC8E1E5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АЙ-ЧЕСТО ПРЕДПИСВАНИ МЕРК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58920" y="1628640"/>
          <a:ext cx="7200720" cy="4367520"/>
        </p:xfrm>
        <a:graphic>
          <a:graphicData uri="http://schemas.openxmlformats.org/drawingml/2006/table">
            <a:tbl>
              <a:tblPr/>
              <a:tblGrid>
                <a:gridCol w="5099040"/>
                <a:gridCol w="2101680"/>
              </a:tblGrid>
              <a:tr h="70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Л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СТЯВА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ИРАНЕ ЕНЕРГОПОТРЕБЛЕНИЕТО НА СГРАДНИЯ ФОН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ОСВЕТИТЕЛНИ ИНСТАЛ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ЪВЕЖДАНЕ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 СМК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ГЕНЕРИРАЩИ МОЩ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ЕРКИ ПО ТЕХНОЛОГИЧНИ АГРЕГАТИ И СЪОРЪЖ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FE6-7540-418F-8BBB-A1557AF7A9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ДЛЕЖАЩИ НА ОБСЛЕДВАНЕ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 - 164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794A-05B0-46C3-B0B6-53A7A83456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8" name="Picture 14" descr="Rayoni_za_planirane_2006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5115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5"/>
          <p:cNvSpPr/>
          <p:nvPr/>
        </p:nvSpPr>
        <p:spPr>
          <a:xfrm>
            <a:off x="2050920" y="2492280"/>
            <a:ext cx="1305000" cy="50508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З-1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4572000" y="2708280"/>
            <a:ext cx="1305000" cy="50472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Ц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588000" y="2276640"/>
            <a:ext cx="1305000" cy="504720"/>
          </a:xfrm>
          <a:custGeom>
            <a:avLst/>
            <a:gdLst>
              <a:gd name="textAreaLeft" fmla="*/ 297720 w 1305000"/>
              <a:gd name="textAreaRight" fmla="*/ 1007280 w 130500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СИ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1403280" y="3789360"/>
            <a:ext cx="1449360" cy="50472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З-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3203640" y="4724280"/>
            <a:ext cx="1439640" cy="505080"/>
          </a:xfrm>
          <a:custGeom>
            <a:avLst/>
            <a:gdLst>
              <a:gd name="textAreaLeft" fmla="*/ 328680 w 1439640"/>
              <a:gd name="textAreaRight" fmla="*/ 1110960 w 143964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Ц-2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5292720" y="3789360"/>
            <a:ext cx="1511280" cy="50472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Bookman Old Style"/>
              </a:rPr>
              <a:t>ЮИ-2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КОНТРОЛНА ДЕЙНОСТ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ЦЕЛ - ПОВИШАВАНЕ НА ЕНЕРГИЙНИТЕ СПЕСТЯВАН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6920" y="1628640"/>
          <a:ext cx="7848720" cy="3002040"/>
        </p:xfrm>
        <a:graphic>
          <a:graphicData uri="http://schemas.openxmlformats.org/drawingml/2006/table">
            <a:tbl>
              <a:tblPr/>
              <a:tblGrid>
                <a:gridCol w="2665440"/>
                <a:gridCol w="5183280"/>
              </a:tblGrid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ни обслед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64, т. 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яване разликат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80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ни провер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л. 64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ълнение на ЕС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 чл. 33, ал. 3 на ЗЕ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 контрол 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ъответствие на представените документи с изискванията на чл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аредба № РД-16-346 от 2 април 2009 г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55"/>
          <p:cNvSpPr/>
          <p:nvPr/>
        </p:nvSpPr>
        <p:spPr>
          <a:xfrm>
            <a:off x="2688120" y="4868280"/>
            <a:ext cx="370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КОНТРОЛНИ ПРОВЕРКИ НА ОБСЛЕДВАНИ ПС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5229360"/>
          <a:ext cx="4525920" cy="914400"/>
        </p:xfrm>
        <a:graphic>
          <a:graphicData uri="http://schemas.openxmlformats.org/drawingml/2006/table">
            <a:tbl>
              <a:tblPr/>
              <a:tblGrid>
                <a:gridCol w="1668600"/>
                <a:gridCol w="2857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ве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плофикация – Плевен Е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ве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ко 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112"/>
          <p:cNvSpPr/>
          <p:nvPr/>
        </p:nvSpPr>
        <p:spPr>
          <a:xfrm>
            <a:off x="7961760" y="6583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6EC3-5BD0-4E68-8569-AAB407239B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023-D25B-4031-BB03-F01A6E0CA04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НИ ОБСЛЕДВАНИЯ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ЦЕДУРА ЗА ИЗВЪРШВАНЕ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РД14-85/23.07.2010 НА АЕЕ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701-ABB0-4DF7-B08D-212C8559A4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468360" y="2492280"/>
            <a:ext cx="7991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БОР НА ЛИЦА И УТВЪРЖДАВАНЕ ОТ ИД НА АЕ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ГОТВЯНЕ НА ГРАФИК И ЗАПОВЕД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ОСЕЩЕНИЯ НА МЯСТО, АНАЛИЗИ И ОЦЕНК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ЗГОТВЯНЕ НА РЕЗЮМЕ ПО ОБРАЗЕЦ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СТАВЯНЕ И ВРЪЧВАНЕ НА КОНСТАТИВЕН ПРОТОКОЛ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F28C-0B23-43B2-B333-FF2637F617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720" y="533160"/>
            <a:ext cx="70293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 НА ОБСЛЕДВАНИЯТА – ПО ГРАФИК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4211640" y="1413000"/>
            <a:ext cx="424980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НТРОЛНИ ОБСЛЕДВА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установяват отклонението 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сновния показател – обща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годишна икономия на енергия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284720" y="3068640"/>
            <a:ext cx="4249800" cy="1511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НСТАТИВНИ ПРОТОКОЛ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отразяват резултатите от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равняването на основ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казател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250920" y="2781360"/>
            <a:ext cx="2736720" cy="20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КОНТРОЛ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ОБСЛЕДВАНИЯ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987640" y="2133360"/>
            <a:ext cx="1224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987640" y="378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4284720" y="4797360"/>
            <a:ext cx="4249800" cy="151128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КТОВЕ ЗА УСТАНОВЯВАНЕ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АДМИНИСТРАТИВНИ НАРУШЕНИЯ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при разлика в основ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казател повече от 10%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2987640" y="3789360"/>
            <a:ext cx="1297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2FD-5BC1-457B-8473-BAC6275EA3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КОНТРОЛНИ ОБСЛЕДВАНИЯ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ЩИ ПРЕПОРЪК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1187280" y="1844640"/>
            <a:ext cx="460872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А ВКЛЮЧВАТ ВСИЧКИ ЕТАПИ,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РАЗПИСАНИ В ЧЛ. 9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РЕДБА № РД-16-346/02.04.2009 г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979640" y="3860640"/>
            <a:ext cx="5688000" cy="180036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2. ДА ОБХВАЩАТ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ЕХНИЧЕСКИТЕ СРЕДСТВА,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СИСТЕМИ И ЕЛЕМЕНТ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ТЕРИТОРИЯТА НА ПС, СЪГЛАСНО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ЧЛ. 10 НА НАРЕДБА № РД-16-346/02.04.2009 г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81FB-A532-4357-B0CE-AF16E3862D0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80722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ХОДЯЩ КОНТРОЛ НА ПОСТЪПИЛА В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АЕЕ ДОКУМЕНТАЦИЯ ОТ ОБСЛЕДВАНИЯ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1640" y="2060640"/>
            <a:ext cx="4249800" cy="14414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НОТА НА КОМПЛЕК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резюме, протокол, декларация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4284720" y="4221000"/>
            <a:ext cx="4249800" cy="1511640"/>
          </a:xfrm>
          <a:prstGeom prst="flowChartAlternateProcess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ЕКТНОСТ НА ИНФОРМАЦИЯТ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(контрол на данните в резюметата)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250920" y="2781360"/>
            <a:ext cx="2736720" cy="20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КОНТРОЛ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Bookman Old Style"/>
              </a:rPr>
              <a:t>ДОКУМЕНТ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Line 6"/>
          <p:cNvSpPr/>
          <p:nvPr/>
        </p:nvSpPr>
        <p:spPr>
          <a:xfrm flipV="1">
            <a:off x="2987640" y="270792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2987640" y="378936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11D-C660-40A4-B51C-DB8D3C4C2B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ПРАВЛЕНИЕ НА ЕНЕРГИЙНАТА ЕФЕКТИВНОСТ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 ПРОМИШЛЕНИ СИСТЕМ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A28-CB78-4254-9483-7F5796F315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428760" y="1285920"/>
            <a:ext cx="8358120" cy="3714840"/>
            <a:chOff x="428760" y="1285920"/>
            <a:chExt cx="8358120" cy="3714840"/>
          </a:xfrm>
        </p:grpSpPr>
        <p:sp>
          <p:nvSpPr>
            <p:cNvPr id="103" name="Rectangle 4"/>
            <p:cNvSpPr/>
            <p:nvPr/>
          </p:nvSpPr>
          <p:spPr>
            <a:xfrm>
              <a:off x="714240" y="1285920"/>
              <a:ext cx="16430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Bookman Old Style"/>
                </a:rPr>
                <a:t>ОБСЛЕДВАНЕ</a:t>
              </a:r>
              <a:endParaRPr b="1" lang="en-US" sz="16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>
              <a:off x="2857680" y="1285920"/>
              <a:ext cx="16430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ЕСМ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000760" y="2400480"/>
              <a:ext cx="1643040" cy="1176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Мониторинг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Контрол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Анализ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7143840" y="2400480"/>
              <a:ext cx="1643040" cy="61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Реални 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резултати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2857680" y="3700800"/>
              <a:ext cx="20714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Bookman Old Style"/>
                </a:rPr>
                <a:t>Производство</a:t>
              </a:r>
              <a:endParaRPr b="1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6143760" y="4010040"/>
              <a:ext cx="1643040" cy="61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Готова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продукция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9" name="Right Arrow 10"/>
            <p:cNvSpPr/>
            <p:nvPr/>
          </p:nvSpPr>
          <p:spPr>
            <a:xfrm>
              <a:off x="2357280" y="1409760"/>
              <a:ext cx="571320" cy="371160"/>
            </a:xfrm>
            <a:prstGeom prst="rightArrow">
              <a:avLst>
                <a:gd name="adj1" fmla="val 50000"/>
                <a:gd name="adj2" fmla="val 57723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Bent-Up Arrow 12"/>
            <p:cNvSpPr/>
            <p:nvPr/>
          </p:nvSpPr>
          <p:spPr>
            <a:xfrm flipH="1" rot="10800000">
              <a:off x="4500720" y="1471320"/>
              <a:ext cx="1428480" cy="928440"/>
            </a:xfrm>
            <a:custGeom>
              <a:avLst/>
              <a:gdLst>
                <a:gd name="textAreaLeft" fmla="*/ 0 w 1428480"/>
                <a:gd name="textAreaRight" fmla="*/ 1294560 w 1428480"/>
                <a:gd name="textAreaTop" fmla="*/ 69660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1428760" h="1071569">
                  <a:moveTo>
                    <a:pt x="0" y="803677"/>
                  </a:moveTo>
                  <a:lnTo>
                    <a:pt x="1026922" y="803677"/>
                  </a:lnTo>
                  <a:lnTo>
                    <a:pt x="1026922" y="267892"/>
                  </a:lnTo>
                  <a:lnTo>
                    <a:pt x="892976" y="267892"/>
                  </a:lnTo>
                  <a:lnTo>
                    <a:pt x="1160868" y="0"/>
                  </a:lnTo>
                  <a:lnTo>
                    <a:pt x="1428760" y="267892"/>
                  </a:lnTo>
                  <a:lnTo>
                    <a:pt x="1294814" y="267892"/>
                  </a:lnTo>
                  <a:lnTo>
                    <a:pt x="1294814" y="1071569"/>
                  </a:lnTo>
                  <a:lnTo>
                    <a:pt x="0" y="1071569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Right Arrow 13"/>
            <p:cNvSpPr/>
            <p:nvPr/>
          </p:nvSpPr>
          <p:spPr>
            <a:xfrm>
              <a:off x="6643800" y="2400480"/>
              <a:ext cx="571320" cy="371160"/>
            </a:xfrm>
            <a:prstGeom prst="rightArrow">
              <a:avLst>
                <a:gd name="adj1" fmla="val 50000"/>
                <a:gd name="adj2" fmla="val 57723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2" name="Bent-Up Arrow 14"/>
            <p:cNvSpPr/>
            <p:nvPr/>
          </p:nvSpPr>
          <p:spPr>
            <a:xfrm flipH="1" flipV="1" rot="5400000">
              <a:off x="6638040" y="3147480"/>
              <a:ext cx="866520" cy="857160"/>
            </a:xfrm>
            <a:custGeom>
              <a:avLst/>
              <a:gdLst>
                <a:gd name="textAreaLeft" fmla="*/ -360 w 866520"/>
                <a:gd name="textAreaRight" fmla="*/ 773640 w 866520"/>
                <a:gd name="textAreaTop" fmla="*/ 642600 h 857160"/>
                <a:gd name="textAreaBottom" fmla="*/ 857160 h 857160"/>
              </a:gdLst>
              <a:ahLst/>
              <a:rect l="textAreaLeft" t="textAreaTop" r="textAreaRight" b="textAreaBottom"/>
              <a:pathLst>
                <a:path w="1000132" h="857256">
                  <a:moveTo>
                    <a:pt x="0" y="642942"/>
                  </a:moveTo>
                  <a:lnTo>
                    <a:pt x="678661" y="642942"/>
                  </a:lnTo>
                  <a:lnTo>
                    <a:pt x="678661" y="214314"/>
                  </a:lnTo>
                  <a:lnTo>
                    <a:pt x="571504" y="214314"/>
                  </a:lnTo>
                  <a:lnTo>
                    <a:pt x="785818" y="0"/>
                  </a:lnTo>
                  <a:lnTo>
                    <a:pt x="1000132" y="214314"/>
                  </a:lnTo>
                  <a:lnTo>
                    <a:pt x="892975" y="214314"/>
                  </a:lnTo>
                  <a:lnTo>
                    <a:pt x="892975" y="857256"/>
                  </a:lnTo>
                  <a:lnTo>
                    <a:pt x="0" y="857256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3" name="Bent-Up Arrow 15"/>
            <p:cNvSpPr/>
            <p:nvPr/>
          </p:nvSpPr>
          <p:spPr>
            <a:xfrm flipH="1" rot="5400000">
              <a:off x="4071960" y="2700360"/>
              <a:ext cx="928800" cy="1071360"/>
            </a:xfrm>
            <a:custGeom>
              <a:avLst/>
              <a:gdLst>
                <a:gd name="textAreaLeft" fmla="*/ 0 w 928800"/>
                <a:gd name="textAreaRight" fmla="*/ 812880 w 928800"/>
                <a:gd name="textAreaTop" fmla="*/ 80352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71571" h="1071570">
                  <a:moveTo>
                    <a:pt x="0" y="803678"/>
                  </a:moveTo>
                  <a:lnTo>
                    <a:pt x="669732" y="803678"/>
                  </a:lnTo>
                  <a:lnTo>
                    <a:pt x="669732" y="267893"/>
                  </a:lnTo>
                  <a:lnTo>
                    <a:pt x="535786" y="267893"/>
                  </a:lnTo>
                  <a:lnTo>
                    <a:pt x="803679" y="0"/>
                  </a:lnTo>
                  <a:lnTo>
                    <a:pt x="1071571" y="267893"/>
                  </a:lnTo>
                  <a:lnTo>
                    <a:pt x="937625" y="267893"/>
                  </a:lnTo>
                  <a:lnTo>
                    <a:pt x="937625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2857680" y="4381560"/>
              <a:ext cx="2071440" cy="619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Потребена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Bookman Old Style"/>
                </a:rPr>
                <a:t>енергия</a:t>
              </a:r>
              <a:endParaRPr b="1" lang="en-US" sz="2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Right Arrow 17"/>
            <p:cNvSpPr/>
            <p:nvPr/>
          </p:nvSpPr>
          <p:spPr>
            <a:xfrm>
              <a:off x="428760" y="3824640"/>
              <a:ext cx="2500200" cy="371160"/>
            </a:xfrm>
            <a:prstGeom prst="rightArrow">
              <a:avLst>
                <a:gd name="adj1" fmla="val 50000"/>
                <a:gd name="adj2" fmla="val 57725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МАТЕРИАЛ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СУРОВИН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6" name="Right Arrow 18"/>
            <p:cNvSpPr/>
            <p:nvPr/>
          </p:nvSpPr>
          <p:spPr>
            <a:xfrm>
              <a:off x="428760" y="4505400"/>
              <a:ext cx="2500200" cy="371160"/>
            </a:xfrm>
            <a:prstGeom prst="rightArrow">
              <a:avLst>
                <a:gd name="adj1" fmla="val 50000"/>
                <a:gd name="adj2" fmla="val 57725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ЕНЕРГО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400" spc="-1" strike="noStrike">
                  <a:solidFill>
                    <a:srgbClr val="000000"/>
                  </a:solidFill>
                  <a:latin typeface="Bookman Old Style"/>
                </a:rPr>
                <a:t>НОСИТЕЛИ</a:t>
              </a: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7" name="Right Arrow 11"/>
            <p:cNvSpPr/>
            <p:nvPr/>
          </p:nvSpPr>
          <p:spPr>
            <a:xfrm>
              <a:off x="4500720" y="4133880"/>
              <a:ext cx="1714320" cy="371520"/>
            </a:xfrm>
            <a:prstGeom prst="rightArrow">
              <a:avLst>
                <a:gd name="adj1" fmla="val 50000"/>
                <a:gd name="adj2" fmla="val 57679"/>
              </a:avLst>
            </a:prstGeom>
            <a:solidFill>
              <a:srgbClr val="c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8" name="TextBox 20"/>
          <p:cNvSpPr/>
          <p:nvPr/>
        </p:nvSpPr>
        <p:spPr>
          <a:xfrm>
            <a:off x="428760" y="50864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Постигане на ЕСМ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Съкращаване времето за постигане на целите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о – добро управление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3550-CE38-41C0-9950-67719E89A3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971640" y="3573360"/>
            <a:ext cx="345600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ЪВЕЖДАНЕ НА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АННИТЕ В НИССЕЕ.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КОМПЛЕКТОВ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ОСИЕТА НА ПС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826920" y="1557360"/>
            <a:ext cx="3600720" cy="136692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ЕН КОМПЛЕКТ,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КОРЕКТ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5003640" y="2997360"/>
            <a:ext cx="360072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ИЗПРАЩАНЕ Н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ИСМА С ПРЕДПИСА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ЗА ОТСТРАНЯВАНЕ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 НАРУШЕНИЯТА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32360" y="1557360"/>
            <a:ext cx="3635280" cy="129528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0066ff"/>
              </a:gs>
              <a:gs pos="50000">
                <a:srgbClr val="0000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УСТАНОВЕНИ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НАРУШЕН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92180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ХОДЯЩ КОНТРОЛ НА ДОКУМЕНТАЦИЯ -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СЛЕДВАЩИ ДЕЙСТВ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5076720" y="4508640"/>
            <a:ext cx="360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ОЛУЧАВАНЕ 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ПЪЛНА/КОРИГИРАНА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ДОКУМЕНТАЦИЯ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4500720" y="4869000"/>
            <a:ext cx="431640" cy="50472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РОМИШЛЕНИ СИСТЕМИ – ОБЛАСТ ПЛЕВЕН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ОБЩЕНИ ПОКАЗАТЕЛ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916280"/>
          <a:ext cx="7836120" cy="4001760"/>
        </p:xfrm>
        <a:graphic>
          <a:graphicData uri="http://schemas.openxmlformats.org/drawingml/2006/table">
            <a:tbl>
              <a:tblPr/>
              <a:tblGrid>
                <a:gridCol w="289080"/>
                <a:gridCol w="4319640"/>
                <a:gridCol w="1152360"/>
                <a:gridCol w="1366920"/>
                <a:gridCol w="70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160640"/>
                          <a:tab algn="l" pos="1247760"/>
                          <a:tab algn="l" pos="1871640"/>
                          <a:tab algn="l" pos="2495520"/>
                          <a:tab algn="l" pos="3119400"/>
                          <a:tab algn="l" pos="3743280"/>
                          <a:tab algn="l" pos="4367160"/>
                          <a:tab algn="l" pos="4991040"/>
                          <a:tab algn="l" pos="5614920"/>
                          <a:tab algn="l" pos="6238800"/>
                          <a:tab algn="l" pos="6862680"/>
                          <a:tab algn="l" pos="7486560"/>
                          <a:tab algn="l" pos="8110440"/>
                          <a:tab algn="l" pos="8734320"/>
                          <a:tab algn="l" pos="9358200"/>
                          <a:tab algn="l" pos="9982080"/>
                          <a:tab algn="l" pos="106059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085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ЪЛЖЕНИ ЗА ОБС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НЕ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РМИ ОДИТОРИ ЗА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ВАН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АКВАН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КОНОМИ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Wh/ye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И ИНВЕСТИЦИИ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лн. л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СЛЕДВАНИ ПС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9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НИ ИКОНОМ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h/year/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в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,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72"/>
          <p:cNvSpPr/>
          <p:nvPr/>
        </p:nvSpPr>
        <p:spPr>
          <a:xfrm>
            <a:off x="800784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E8DB-AF0B-4C36-9B7C-CBB8920D14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E1A-44FF-4E9F-A1FA-A28F294B0F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572000" y="3141720"/>
            <a:ext cx="42480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Венцислав Мирчев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Началник отдел КЕЕПС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.: 915 40 27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: VMirchev@SEEA.government.bg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1" lang="en-US" sz="15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230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231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>
                <a:gd name="textAreaLeft" fmla="*/ 0 w 4430520"/>
                <a:gd name="textAreaRight" fmla="*/ 4430880 w 443052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>
                <a:gd name="textAreaLeft" fmla="*/ 0 w 2689200"/>
                <a:gd name="textAreaRight" fmla="*/ 2689560 w 268920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>
                <a:gd name="textAreaLeft" fmla="*/ 0 w 2446560"/>
                <a:gd name="textAreaRight" fmla="*/ 2446920 w 24465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0" name="Freeform 25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1" name="Freeform 26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2" name="Freeform 27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3" name="Freeform 28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4" name="Freeform 29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5" name="Freeform 30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6" name="Freeform 31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8" name="Freeform 33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49" name="Freeform 34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>
                <a:gd name="textAreaLeft" fmla="*/ 0 w 1094040"/>
                <a:gd name="textAreaRight" fmla="*/ 1094400 w 1094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1" name="Freeform 36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2" name="Freeform 37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3" name="Freeform 38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>
                <a:gd name="textAreaLeft" fmla="*/ 0 w 1754280"/>
                <a:gd name="textAreaRight" fmla="*/ 1754640 w 175428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6" name="Freeform 41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7" name="Freeform 42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8" name="Freeform 43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59" name="Freeform 44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0" name="Freeform 45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1" name="Freeform 46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3" name="Freeform 48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4" name="Freeform 49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5" name="Freeform 50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7" name="Freeform 52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8" name="Freeform 53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69" name="Freeform 54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0" name="Freeform 55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1" name="Freeform 56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2" name="Freeform 57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3" name="Freeform 58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4" name="Freeform 59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5" name="Freeform 60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6" name="Freeform 61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7" name="Freeform 62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8" name="Freeform 63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80" name="Freeform 65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281" name="Freeform 66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45A-7C7D-4950-8DF5-CF8E25C553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ЕГЛАМЕНТИРАНЕ НА ПРОЦЕСА – ЗЕЕ, чл. 33, ал. 2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84360" y="2133720"/>
            <a:ext cx="374472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27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ЗАДЪЛЖИТЕЛНО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ОБСЛЕДВАНЕ ЗА ЕЕ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 ПС С ГОДИШНО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ПОТРЕБЛЕНИЕ 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 ЕНЕРГИЯ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3 000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Wh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ff"/>
                </a:solidFill>
                <a:latin typeface="Arial"/>
              </a:rPr>
              <a:t>ВЕДНЪЖ НА ВСЕКИ</a:t>
            </a: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00ff"/>
                </a:solidFill>
                <a:latin typeface="Arial"/>
              </a:rPr>
              <a:t>3 ГОДИНИ</a:t>
            </a: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AutoShape 4"/>
          <p:cNvSpPr/>
          <p:nvPr/>
        </p:nvSpPr>
        <p:spPr>
          <a:xfrm rot="16200000">
            <a:off x="3781440" y="3500280"/>
            <a:ext cx="2232000" cy="648000"/>
          </a:xfrm>
          <a:prstGeom prst="downArrow">
            <a:avLst>
              <a:gd name="adj1" fmla="val 76454"/>
              <a:gd name="adj2" fmla="val 42403"/>
            </a:avLst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81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Text Box 5"/>
          <p:cNvSpPr/>
          <p:nvPr/>
        </p:nvSpPr>
        <p:spPr>
          <a:xfrm rot="10800000">
            <a:off x="4645080" y="3357720"/>
            <a:ext cx="4546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ff"/>
                </a:solidFill>
                <a:latin typeface="Arial"/>
              </a:rPr>
              <a:t>Ц Е Л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133720"/>
            <a:ext cx="3168720" cy="3456000"/>
          </a:xfrm>
          <a:prstGeom prst="flowChartAlternateProcess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ОПРЕДЕЛЯ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СПЕЦИФИЧНИТ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ВЪЗМОЖНОСТИ З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МАЛЯВ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ЕНЕРГИЙНОТО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ТРЕБЛЕНИЕ И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РЕДЛАГАНЕ Н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ЕРКИ З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ОВИШАВАН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НА ЕЕ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026-1061-400B-8122-F3E915C747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 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ЧАСТНИЦИ В ПРОЦЕС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900000" y="13413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7b00"/>
              </a:gs>
              <a:gs pos="100000">
                <a:srgbClr val="e9a60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 ПО ЕНЕРГИЙНА ЕФЕКТИВНОСТ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ДЪРЖА ИНФОРМАЦИЯ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 ПРОЦЕСА В НИСС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ПРАЖНЯВА КОНТРОЛ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ПИСВА В ПР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971640" y="5084640"/>
            <a:ext cx="4895640" cy="127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5d14"/>
              </a:gs>
              <a:gs pos="100000">
                <a:srgbClr val="2a7d1c"/>
              </a:gs>
            </a:gsLst>
            <a:lin ang="16200000"/>
          </a:gradFill>
          <a:ln w="9360">
            <a:solidFill>
              <a:srgbClr val="32732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БСТВЕНИЦИ НА ПС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ДОСТАВЯТ ИНФОРМАЦИЯ НА А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ЪЗЛАГАТ ОБСЛЕДВАН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РШВАТ УПРАВЛЕНИЕ НА 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268360" y="3284640"/>
            <a:ext cx="3456000" cy="12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ИРМИ ОТ ПР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ЖДАТ ОБСЛЕДВАН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РАБОТВАТ МЕРКИ ПО Е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ОТВЯТ ДОКЛАД И РЕЗЮМ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300720" y="3284640"/>
            <a:ext cx="2349720" cy="1368360"/>
          </a:xfrm>
          <a:prstGeom prst="roundRect">
            <a:avLst>
              <a:gd name="adj" fmla="val 16667"/>
            </a:avLst>
          </a:prstGeom>
          <a:solidFill>
            <a:srgbClr val="e2caaa"/>
          </a:solidFill>
          <a:ln w="25560">
            <a:solidFill>
              <a:srgbClr val="a69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УЧАВАЩИ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РАБОТВАТ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ЕБНИ ПРОГРАМИ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ВЪРШВАТ 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1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AutoShape 10"/>
          <p:cNvSpPr/>
          <p:nvPr/>
        </p:nvSpPr>
        <p:spPr>
          <a:xfrm rot="10800000">
            <a:off x="3348000" y="2923920"/>
            <a:ext cx="432000" cy="291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AutoShape 10"/>
          <p:cNvSpPr/>
          <p:nvPr/>
        </p:nvSpPr>
        <p:spPr>
          <a:xfrm rot="5175600">
            <a:off x="5756040" y="3684240"/>
            <a:ext cx="514440" cy="292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AutoShape 8"/>
          <p:cNvSpPr/>
          <p:nvPr/>
        </p:nvSpPr>
        <p:spPr>
          <a:xfrm rot="15966600">
            <a:off x="3321000" y="4608360"/>
            <a:ext cx="34272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AutoShape 10"/>
          <p:cNvSpPr/>
          <p:nvPr/>
        </p:nvSpPr>
        <p:spPr>
          <a:xfrm rot="21480000">
            <a:off x="1547280" y="3152520"/>
            <a:ext cx="347760" cy="1790640"/>
          </a:xfrm>
          <a:prstGeom prst="downArrow">
            <a:avLst>
              <a:gd name="adj1" fmla="val 50000"/>
              <a:gd name="adj2" fmla="val 128727"/>
            </a:avLst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AutoShape 10"/>
          <p:cNvSpPr/>
          <p:nvPr/>
        </p:nvSpPr>
        <p:spPr>
          <a:xfrm rot="10800000">
            <a:off x="1044360" y="3206880"/>
            <a:ext cx="360360" cy="1790640"/>
          </a:xfrm>
          <a:prstGeom prst="downArrow">
            <a:avLst>
              <a:gd name="adj1" fmla="val 50000"/>
              <a:gd name="adj2" fmla="val 124226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4067280" y="2924280"/>
            <a:ext cx="431640" cy="291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A24A-75DD-4ECC-80FD-5AF883C34E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АКТИВНОСТ НА ФИРМИТЕ ОТ ПУБЛИЧНИЯ РЕГИСТЪ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7280" y="2781360"/>
          <a:ext cx="7488360" cy="3332160"/>
        </p:xfrm>
        <a:graphic>
          <a:graphicData uri="http://schemas.openxmlformats.org/drawingml/2006/table">
            <a:tbl>
              <a:tblPr/>
              <a:tblGrid>
                <a:gridCol w="5329440"/>
                <a:gridCol w="1295280"/>
                <a:gridCol w="8636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ЕДВАЩА ФИР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С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БЪЛГАРСКА ЕНЕРГЕТИЧНА КОМПАНИЯ" А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НЕРДЖИ ЕФЕКТ" Е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ДЖИ СЕЙВИНГ” Е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ЕС - ЕНЕРГИЙНО ЕФЕКТИВНИ СИСТЕМИ" 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ЕНЕРГЕТИКА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Д" О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ТЕХНИЧЕСКИ УНИВЕРСИТЕТ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ФИЯ"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РНО ЗА ШЕСТТЕ ФИР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187280" y="1341360"/>
          <a:ext cx="7499520" cy="1036800"/>
        </p:xfrm>
        <a:graphic>
          <a:graphicData uri="http://schemas.openxmlformats.org/drawingml/2006/table">
            <a:tbl>
              <a:tblPr/>
              <a:tblGrid>
                <a:gridCol w="4884840"/>
                <a:gridCol w="1306440"/>
                <a:gridCol w="130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РМИ В П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РМИ ОТ ПР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ОБСЛЕД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ТРЕБЛЕНИЕ НА ЕНЕРГИЯ ПО СЕКТОРИ 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/ye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785880" y="1736640"/>
            <a:ext cx="7900920" cy="4251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790704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F170-C53C-4103-99AF-3C336BDAA7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 –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 СЕКТОРИ/ПОД-СЕКТОРИ/БРАНШОВЕ – бр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85880" y="1709640"/>
            <a:ext cx="7900920" cy="4305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8051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ED6-351A-43F8-BAB1-EBEA32073C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533160"/>
            <a:ext cx="78213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ЧАКВАНИ ИКОНОМИИ НА ЕНЕРГИЯ ПО РИП –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/ye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823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8267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5859-BE7E-4901-BEEE-94E0EA423D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БСЛЕДВАНЕ НА ПРОМИШЛЕНИ СИСТЕМИ</a:t>
            </a:r>
            <a:br>
              <a:rPr sz="2000"/>
            </a:b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ЕОБХОДИМИ ИНВЕСТИЦИИ ПО РИП – в млн. лв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792000" y="1600200"/>
            <a:ext cx="788688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8051400" y="65451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C93-36BB-44D1-B8DB-63768194EA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V Mirchev</dc:creator>
  <dc:description/>
  <dc:language>en-US</dc:language>
  <cp:lastModifiedBy>knaydenov</cp:lastModifiedBy>
  <dcterms:modified xsi:type="dcterms:W3CDTF">2011-03-14T13:05:32Z</dcterms:modified>
  <cp:revision>379</cp:revision>
  <dc:subject/>
  <dc:title>Industry 2008</dc:title>
</cp:coreProperties>
</file>