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07B0-7CBC-4418-992E-243794838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4F75-10CE-409A-858D-515C5E63D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BBFA-71C6-4967-9347-CD14F058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Общини – 215 (26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проверени –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КОНСТАТАЦИ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Изпълнено задължение –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bg-BG" sz="1400" spc="-1" strike="noStrike">
                <a:solidFill>
                  <a:srgbClr val="000099"/>
                </a:solidFill>
                <a:latin typeface="Arial"/>
              </a:rPr>
              <a:t>Изпълнено задължение проформа -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Ведомства (министерства) – 7 (1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проверени –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Области – 10 (2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проверени –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C27-8510-4945-9D4E-457DFDC94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76280" y="4343040"/>
            <a:ext cx="59054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отоплителен сезон 2005-2006 г. реално стартира процесът на сертифициране на сгради в страната. До края на </a:t>
            </a:r>
            <a:r>
              <a:rPr b="1" lang="bg-BG" sz="1000" spc="-1" strike="noStrike">
                <a:solidFill>
                  <a:srgbClr val="ff3300"/>
                </a:solidFill>
                <a:latin typeface="Arial"/>
              </a:rPr>
              <a:t>2005 г</a:t>
            </a: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 детайлно обследване за енергийна ефективност е направено на 35 сгради, 31  от които са получили сертификат категория “А” и 4 са получили сертификат категория “Б”. Това са предимно нови частни сгради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оцесът на обследване и сертифициране на сгради в страната бележи сериозен напредък през </a:t>
            </a:r>
            <a:r>
              <a:rPr b="1" lang="bg-BG" sz="1000" spc="-1" strike="noStrike">
                <a:solidFill>
                  <a:srgbClr val="ff3300"/>
                </a:solidFill>
                <a:latin typeface="Arial"/>
              </a:rPr>
              <a:t>2006 г.</a:t>
            </a: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 Общия брой на детайлно обследваните през годината сгради е 521 бр., от които на 229 е издаден сертификат категория “А” и на 10 - сертификат категория “Б”.  За останалите сгради , в резултата на обследването за енергийна ефективност, е установено несъответствие с изискванията за енергийна ефективност и са предписани мерки за повишаване на енергийната ефективност – енергоспестяващи мерки (ЕСМ). Засилен е интереса на собствениците на частни сгради – офиси, хотели, търговски обекти към процеса на сертифициране. Те са строени през последните няколко години и проектирането и изграждането им е съобразено с изискванията на съвременната нормативна база, поради което, те обикновено получават сертификат без да се налага да изпълняват ЕСМ. Това е и причината делът на обследваните през 2006 г. частни сгради да е най-голям – 66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оведена бе Целева програма – 2006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</a:t>
            </a:r>
            <a:r>
              <a:rPr b="1" lang="bg-BG" sz="1000" spc="-1" strike="noStrike">
                <a:solidFill>
                  <a:srgbClr val="ff3300"/>
                </a:solidFill>
                <a:latin typeface="Arial"/>
              </a:rPr>
              <a:t>2007</a:t>
            </a: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 г. са обследвани най-много сгради със собствени средства 781 бр.,издадени са 653 бр. сертификати категория “А”, и 21 бр. категория “Б”, а на 107 са предписани ЕС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2007 г. държавата продължи да подкрепя процеса по обследване на публичния сграден фонд. Със средства от републиканския бюджет по Целева програма 2007 бяха обследвани 369 сгради. Те са вписани в базата данни през 2008 г., защото тогава са получени и анализир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2008 и 2009 г. продължава процеса на обследване на сгради за енергийна ефективност, като не забравяме и Целева програма – 2008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През 2010 г. в Базата данни са вписани 287 бр. обследвани сгради, със сертификат категория “А” – 42 бр., категория “Б” – 4 бр. и с предписани мерки за повишаване на енергийната ефективност 272 бр. Получаваме и сертификати без категория, както и обследвания на нови сгради преди да са изтекли три години от въвеждането им в експлоатация, на които не трябва  да им се издава сертифика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В Базата данни са вписани общо 3254 бр. обследвани сгради, с издадени сертификати категория “А” 1047 бр., и сертификати категория “Б” – 73 бр., а с предписани ЕСМ са 2143 б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ECF7-784C-461C-82B5-F9F606E6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76280" y="4343040"/>
            <a:ext cx="590544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000000"/>
                </a:solidFill>
                <a:latin typeface="Arial"/>
              </a:rPr>
              <a:t>Изготвени са протоколи, които са подписани на технически съве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AB7B-D6DF-4444-973B-AF2ED5B3C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5329-488F-4912-8B35-FE11DF4F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ЗЕ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6. Проверката за енергийна ефективност на водогрейни котли и климатични инсталации в сгради има за цел установяване нивото на ефективност при тяхната експлоатация и идентифициране на мерки за нейното повишаван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7. (1) На проверка по реда на този закон подлежат съществуващите и нововъведените в експлоатация водогрейни котл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на течно или твърдо гориво с номинална мощност от 20 до 100 kW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на течно или твърдо гориво с номинална мощност над 100 kW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3. на природен газ с номинална мощност над 100 k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Водогрейните котли подлежат на задължителна периодична проверка за енергийна ефективност веднъж на всек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три години - за котлите по ал. 1, т.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две години - за котлите по ал. 1, т. 2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3. четири години - за котлите по ал. 1, т. 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8. (1) На проверка по реда на този закон подлежат и климатичните инсталации с номинална мощност над 12 k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Климатичните инсталации подлежат на задължителна периодична проверка за енергийна ефективност веднъж на всеки 4 годин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9. (1) Агенцията по енергийна ефективност създава и поддържа база данни за състоянието н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водогрейните котли по чл. 27, ал.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климатичните инсталации по чл. 28,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(В сила от 15.11.2009 г.) В срок 6 месеца от датата на въвеждане в експлоатация на съоръженията по ал. 1 техните собственици подават в териториалните звена по чл. 6, ал. 2 декларация по образец, утвърден от изпълнителния директор на агенция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3) Информацията по ал. 2 служи за създаване и поддържане на базата данни по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30. (1) За котли със срок на експлоатация над 15 години проверката за енергийна ефективност включва и оценка на отоплителната инсталация и завършва с препоръки към собственика за подмяната на котлите, други модификации по отоплителната инсталация и/или други а(2) Оценката на отоплителната инсталация по ал. 1 се извършва еднократн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31. (1) Проверката за енергийна ефективност на котлите по чл. 27, ал. 1 и на климатичните инсталации по чл. 28, ал. 1 се извършва от лицата по чл. 23, ал. 1 и/или чл. 34,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Проверката по ал. 1 завършва с доклад, който се съставя при условията и по реда на наредбата по чл. 32.лтернативни реш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800" spc="-1" strike="noStrike">
                <a:solidFill>
                  <a:srgbClr val="000000"/>
                </a:solidFill>
                <a:latin typeface="Arial"/>
              </a:rPr>
              <a:t>НАРЕДБА № РД-16-932 ОТ 23 ОКТОМВРИ 2009 Г. ЗА УСЛОВИЯТА И РЕДА ЗА ИЗВЪРШВАНЕ НА ПРОВЕРКА ЗА ЕНЕРГИЙНА ЕФЕКТИВНОСТ НА ВОДОГРЕЙНИТЕ КОТЛИ И НА КЛИМАТИЧНИТЕ ИНСТАЛАЦИИ ПО ЧЛ. 27, АЛ. 1 И ЧЛ. 28, АЛ. 1 ОТ ЗАКОНА ЗА ЕНЕРГИЙНАТА ЕФЕКТИВНОСТ И ЗА СЪЗДАВАНЕ, ПОДДЪРЖАНЕ И ПОЛЗВАНЕ НА БАЗАТА ДАННИ ЗА ТЯ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F0F4-0318-4357-980E-E2D820F29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B8CD-B70A-4920-9B80-C41C29EA3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УПРАЖНЯВА СЕ </a:t>
            </a:r>
            <a:r>
              <a:rPr b="1" lang="bg-BG" sz="1400" spc="-1" strike="noStrike">
                <a:solidFill>
                  <a:srgbClr val="ff3300"/>
                </a:solidFill>
                <a:latin typeface="Arial"/>
              </a:rPr>
              <a:t>АДМИНИСТРАТИВНО - ТЕХНИЧЕСКИ КОНТРОЛ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 НА ДОКУМЕНТАЦИЯТА ОТ ИЗВЪРШЕНИ ОБСЛЕДВАНИЯ НА СГР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Извършени </a:t>
            </a:r>
            <a:r>
              <a:rPr b="1" lang="bg-BG" sz="1400" spc="-1" strike="noStrike">
                <a:solidFill>
                  <a:srgbClr val="0000cc"/>
                </a:solidFill>
                <a:latin typeface="Arial"/>
              </a:rPr>
              <a:t>са</a:t>
            </a:r>
            <a:r>
              <a:rPr b="1" lang="bg-BG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проверки за пълнота и коректност на входящи документи по общия ре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Съставени са  </a:t>
            </a:r>
            <a:r>
              <a:rPr b="1" lang="bg-BG" sz="1400" spc="-1" strike="noStrike">
                <a:solidFill>
                  <a:srgbClr val="ff3300"/>
                </a:solidFill>
                <a:latin typeface="Arial"/>
              </a:rPr>
              <a:t>констативни протоколи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99"/>
                </a:solidFill>
                <a:latin typeface="Arial"/>
              </a:rPr>
              <a:t>За допуснати пропуски в постъпилата документация са изпратени писма на собственици на сгради, които са изпълнили в законосъобразния срок изискванията /предписанията на Агенция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BB6F-40F9-4416-9EA4-60CBC812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20640" y="4343400"/>
            <a:ext cx="56167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08B2-764E-40BD-AC33-177D2BF32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Чл. 23. (1) Обследването за енергийна ефективност и сертифицирането на сгради се извършва от физически или юридически лица, кои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2. разполагат с необходимите технически средства, определени с наредбата по ал. 1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3. разполагат с необходимия персонал - физически лица, определени с наредбата по ал.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986A-6717-442E-B354-6BC43A6A2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4. (1) На проверка за енергийна ефективност подлежат всички водогрейн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котли в експлоатация в зависимост от вида на използваното гориво и номиналната и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мощност, както следв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на течно или твърдо гориво с номинална мощност от 20 до 100 kW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включително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на течно или твърдо гориво с номинална мощност над 100 kW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3. на природен газ с номинална мощност над 100 k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За водогрейни котли със срок на експлоатация над 15 години проверката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енергийна ефективност включва и еднократна оценка на отоплителната инсталац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29. (1) Агенцията по енергийна ефективност създава и поддържа база данни за състоянието на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водогрейните котли по чл. 27, ал. 1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климатичните инсталации по чл. 28,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(В сила от 15.11.2009 г.) В срок 6 месеца от датата на въвеждане в експлоатация на съоръженията по ал. 1 техните собственици подават в териториалните звена по чл. 6, ал. 2 декларация по образец, утвърден от изпълнителния директор на агенция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3) Информацията по ал. 2 служи за създаване и поддържане на базата данни по ал.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Първоначалната проверка на водогрейни котли по чл. 4, ал. 1 и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климатични инсталации по чл. 20 се извършва в срок до две години от датата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подаване на декларацията по чл. 29, но не по-късно от две години от изтичане на сро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за подаването 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Срокът за извършване на следваща проверка започва да тече от датата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извършване на проверката, посочена в доклада за извършената проверк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Чл. 31. (1) Задължителната периодична проверка за енергийна ефективност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водогрейни котли в експлоатация се извършва веднъж на всек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. три години - за котлите на течно или твърдо гориво с номинална мощност о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0 до 100 kW включително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2. две години - за котлите на течно или твърдо гориво с номинална мощност на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100 kW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3. четири години - за котлите на природен газ с номинална мощност над 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kW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(2) Задължителната периодична проверка за енергийна ефективност 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Arial"/>
              </a:rPr>
              <a:t>климатични инсталации в експлоатация се извършва веднъж на всеки 4 годин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EC8-2B84-40F9-A69C-459D5F84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78F-F4B0-4D37-8258-2C95723A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3CF-0BCE-47DE-991B-97358B1D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8C2-4013-44FF-9F38-855A46B7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E81D-4E75-4737-99F4-C55D7331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8156-14C8-40DE-8E6B-F424167B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7209-C193-47C3-8073-C236F616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091-97D2-49E4-96BB-8CFC2C10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3352-4F42-4B01-AC61-62A3DA8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30E8-1D47-49D5-9156-68870AD2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68B6-ABEE-4271-A858-06D9199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410-6596-4F67-8AE5-7701BB48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D80A-77AE-4A78-8BF5-8B4470F5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EE4F-F155-4CC9-977B-F377C5D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3A14-DBA1-493A-A0D8-A7529778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E05D-C4B2-458C-B80D-9FAFB89D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DB33-34EC-4871-8B88-49B26FB9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DF6-8C89-4E71-95AE-74DE71BA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308-02E9-4B95-81BA-4FC6D645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728-0E95-4530-B7EB-BBAC93AE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318-55F5-4A55-8248-2BF5DEDD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A5D-3A17-43C1-827A-97CD2262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5C0-9D8C-4220-A6A1-B520AFBC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BDA-1BF6-4744-AC1F-6DE44A05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7C5D-8B8B-4C6C-AF86-B6DE841DDCB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5"/>
          <p:cNvSpPr/>
          <p:nvPr/>
        </p:nvSpPr>
        <p:spPr>
          <a:xfrm>
            <a:off x="966960" y="442800"/>
            <a:ext cx="8165880" cy="695520"/>
          </a:xfrm>
          <a:custGeom>
            <a:avLst/>
            <a:gdLst>
              <a:gd name="textAreaLeft" fmla="*/ 0 w 8165880"/>
              <a:gd name="textAreaRight" fmla="*/ 8166240 w 81658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2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3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4"/>
          <p:cNvSpPr/>
          <p:nvPr/>
        </p:nvSpPr>
        <p:spPr>
          <a:xfrm rot="10800000">
            <a:off x="14040" y="6062400"/>
            <a:ext cx="8878680" cy="360360"/>
          </a:xfrm>
          <a:custGeom>
            <a:avLst/>
            <a:gdLst>
              <a:gd name="textAreaLeft" fmla="*/ 0 w 8878680"/>
              <a:gd name="textAreaRight" fmla="*/ 8879040 w 887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3132000" y="306864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49" name="Freeform 17"/>
          <p:cNvSpPr/>
          <p:nvPr/>
        </p:nvSpPr>
        <p:spPr>
          <a:xfrm rot="10800000">
            <a:off x="3131640" y="5308560"/>
            <a:ext cx="5759640" cy="9144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DAD6-E4FC-480F-8B81-729C0B8C24FF}" type="datetime3">
              <a:rPr b="0" lang="bg-BG" sz="1200" spc="-1" strike="noStrike">
                <a:solidFill>
                  <a:srgbClr val="000000"/>
                </a:solidFill>
                <a:latin typeface="Garamond"/>
              </a:rPr>
              <a:t>29 юли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543-79FF-4565-8857-1CAB8470EDB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16000" y="5516280"/>
            <a:ext cx="594036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916000" y="3213000"/>
            <a:ext cx="6227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99"/>
                </a:solidFill>
                <a:latin typeface="Arial"/>
              </a:rPr>
              <a:t>КОНТРОЛ ВЪРХУ ПРОЦЕС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99"/>
                </a:solidFill>
                <a:latin typeface="Arial"/>
              </a:rPr>
              <a:t> И РЕЗУЛТАТИТЕ ОТ ОБСЛЕДВАНИЯТА НА  СГРАД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421000"/>
            <a:ext cx="2916360" cy="220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9160007_2"/>
          <p:cNvPicPr/>
          <p:nvPr/>
        </p:nvPicPr>
        <p:blipFill>
          <a:blip r:embed="rId2"/>
          <a:stretch/>
        </p:blipFill>
        <p:spPr>
          <a:xfrm>
            <a:off x="0" y="4724280"/>
            <a:ext cx="291636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4984920" y="6329520"/>
            <a:ext cx="13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140360" y="63295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.03.2011 г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419640" y="5445000"/>
            <a:ext cx="540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ЛЕ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9E2F-BC8F-4794-A40E-48BC8916C1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ГОДИШНИ ОТЧЕТ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0438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обствениците на сгради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държавна /общинска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собственост с РЗП над 1000 кв. м. са длъжни да извършват управление на енергийната ефектив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обствениците  на сградите държавна /общинска собственост трябва да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представят в агенцията годишни отчети не по-късно от 31 март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на годината следваща. годината на изпълнение на съответните дейности и м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Постъпила документация - годишни отчети за управлението на енергийната ефективност  сгради за 2009 г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Общини –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215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(от 264) бр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Ведомства (министерства) –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(от 16) 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Области –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(от 28) 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8C9D-B5B7-4C0C-AE5B-D1365A00567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СЛЕДВАНИ И СЕРТИФИЦИРАНИ СГРАДИ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 ГОДИНИ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В БД И ИС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към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01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. 20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г.)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95280" y="1413000"/>
          <a:ext cx="8569440" cy="5070240"/>
        </p:xfrm>
        <a:graphic>
          <a:graphicData uri="http://schemas.openxmlformats.org/drawingml/2006/table">
            <a:tbl>
              <a:tblPr/>
              <a:tblGrid>
                <a:gridCol w="1440000"/>
                <a:gridCol w="1800000"/>
                <a:gridCol w="1800360"/>
                <a:gridCol w="1944720"/>
                <a:gridCol w="1584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следвани сгради - общ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ртификат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ртификат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 предписани Е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9a1f"/>
                        </a:gs>
                        <a:gs pos="50000">
                          <a:srgbClr val="66ff33"/>
                        </a:gs>
                        <a:gs pos="100000">
                          <a:srgbClr val="3e9a1f"/>
                        </a:gs>
                      </a:gsLst>
                      <a:lin ang="5400000"/>
                    </a:gra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47"/>
                        </a:gs>
                        <a:gs pos="50000">
                          <a:srgbClr val="ffff99"/>
                        </a:gs>
                        <a:gs pos="100000">
                          <a:srgbClr val="767647"/>
                        </a:gs>
                      </a:gsLst>
                      <a:lin ang="5400000"/>
                    </a:gradFill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2a282"/>
                        </a:gs>
                        <a:gs pos="50000">
                          <a:srgbClr val="ffffcc"/>
                        </a:gs>
                        <a:gs pos="100000">
                          <a:srgbClr val="a2a282"/>
                        </a:gs>
                      </a:gsLst>
                      <a:lin ang="5400000"/>
                    </a:gradFill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Щ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a8a53"/>
                        </a:gs>
                        <a:gs pos="50000">
                          <a:srgbClr val="ffff99"/>
                        </a:gs>
                        <a:gs pos="100000">
                          <a:srgbClr val="8a8a5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F850-5A74-425D-9D5E-82AE2055C7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8172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ОБЩЕНИ ДАННИ ЗА ОБСЛЕДВАНИ СГРАДИ ПО ЦЕЛЕВИТЕ ПРОГРАМ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Text Box 258"/>
          <p:cNvSpPr/>
          <p:nvPr/>
        </p:nvSpPr>
        <p:spPr>
          <a:xfrm>
            <a:off x="987480" y="1833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9"/>
          <p:cNvSpPr/>
          <p:nvPr/>
        </p:nvSpPr>
        <p:spPr>
          <a:xfrm>
            <a:off x="755640" y="2349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0"/>
          <p:cNvSpPr/>
          <p:nvPr/>
        </p:nvSpPr>
        <p:spPr>
          <a:xfrm>
            <a:off x="900000" y="184464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413000"/>
          <a:ext cx="8569080" cy="5276880"/>
        </p:xfrm>
        <a:graphic>
          <a:graphicData uri="http://schemas.openxmlformats.org/drawingml/2006/table">
            <a:tbl>
              <a:tblPr/>
              <a:tblGrid>
                <a:gridCol w="3073320"/>
                <a:gridCol w="1422360"/>
                <a:gridCol w="992160"/>
                <a:gridCol w="976320"/>
                <a:gridCol w="1044720"/>
                <a:gridCol w="10602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Я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СТОЙ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О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a00"/>
                        </a:gs>
                        <a:gs pos="50000">
                          <a:srgbClr val="00ff00"/>
                        </a:gs>
                        <a:gs pos="100000">
                          <a:srgbClr val="009a00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следвани сгра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б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а РЗП на обследваните сгра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лн.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,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1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,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а икономия на енергия след въвеждане на Е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Wh/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91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9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о спестени емисии след въвеждане на Е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Хил. т/г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2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0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22,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бщо необходими инвестиции за Е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лн.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1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06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08f52"/>
                        </a:gs>
                        <a:gs pos="50000">
                          <a:srgbClr val="fcf98f"/>
                        </a:gs>
                        <a:gs pos="100000">
                          <a:srgbClr val="908f5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6C09-FDE5-4CA4-9899-251499F2A1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6633"/>
                </a:solidFill>
                <a:latin typeface="Arial"/>
              </a:rPr>
              <a:t>СЕВЕРОЗАПАДЕН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РАЙОН ЗА ИКОНОМИЧЕСКО ПЛАНИРАНЕ</a:t>
            </a:r>
            <a:br>
              <a:rPr sz="2800"/>
            </a:b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3120" y="481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859280" y="2133720"/>
            <a:ext cx="42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Административни обла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ПЛЕВЕН –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 общини,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ЛОВЕЧ –        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8  общини,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ВРАЦА –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10 общини,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ВИДИН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–         11 общи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33"/>
                </a:solidFill>
                <a:latin typeface="Arial"/>
              </a:rPr>
              <a:t>МОНТАНА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-    </a:t>
            </a:r>
            <a:r>
              <a:rPr b="1" lang="bg-BG" sz="2400" spc="-1" strike="noStrike">
                <a:solidFill>
                  <a:srgbClr val="3333cc"/>
                </a:solidFill>
                <a:latin typeface="Arial"/>
              </a:rPr>
              <a:t>11 общ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63300"/>
                </a:solidFill>
                <a:latin typeface="Arial"/>
              </a:rPr>
              <a:t>(общо общини - 51 б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643640" cy="32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095C-9E92-4BC8-BDC5-06A6C2AE45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16000" y="333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Bookman Old Style"/>
              </a:rPr>
              <a:t>БАЗА ДАННИ</a:t>
            </a:r>
            <a:r>
              <a:rPr b="1" lang="bg-BG" sz="32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2800" spc="-1" strike="noStrike">
                <a:solidFill>
                  <a:srgbClr val="000099"/>
                </a:solidFill>
                <a:latin typeface="Bookman Old Style"/>
              </a:rPr>
              <a:t>СГРАДИ </a:t>
            </a:r>
            <a:r>
              <a:rPr b="1" lang="bg-BG" sz="2000" spc="-1" strike="noStrike">
                <a:solidFill>
                  <a:srgbClr val="000099"/>
                </a:solidFill>
                <a:latin typeface="Bookman Old Style"/>
              </a:rPr>
              <a:t>                                                           (СЕВЕРОЗАПАДЕН РАЙ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9640" y="6078600"/>
            <a:ext cx="288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ПЛЕВЕН : 25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492360" y="607860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ЛОВЕЧ: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ВРАЦА: </a:t>
            </a:r>
            <a:r>
              <a:rPr b="1" lang="bg-BG" sz="1800" spc="-1" strike="noStrike">
                <a:solidFill>
                  <a:srgbClr val="ffcc00"/>
                </a:solidFill>
                <a:latin typeface="Bookman Old Style"/>
              </a:rPr>
              <a:t> 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181</a:t>
            </a:r>
            <a:r>
              <a:rPr b="1" lang="bg-BG" sz="1800" spc="-1" strike="noStrike">
                <a:solidFill>
                  <a:srgbClr val="ffcc00"/>
                </a:solidFill>
                <a:latin typeface="Bookman Old Sty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72360" y="607860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ВИДИН: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Bookman Old Style"/>
              </a:rPr>
              <a:t>МОНТАНА: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5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56520" cy="488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0A83-D06C-402C-BC43-199A698FE27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ОБСЛЕДВАНИ СГРАДИ В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З РАЙОН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60" name="Object 13"/>
          <p:cNvGraphicFramePr/>
          <p:nvPr/>
        </p:nvGraphicFramePr>
        <p:xfrm>
          <a:off x="684360" y="1125360"/>
          <a:ext cx="8208720" cy="536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8208720" cy="53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15" descr=""/>
          <p:cNvPicPr/>
          <p:nvPr/>
        </p:nvPicPr>
        <p:blipFill>
          <a:blip r:embed="rId3"/>
          <a:stretch/>
        </p:blipFill>
        <p:spPr>
          <a:xfrm>
            <a:off x="900000" y="1197000"/>
            <a:ext cx="79200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4A9C-A833-4B8E-9BE9-339BCA5430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ОБСЛЕДВАНИ СГРАДИ В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З РАЙОН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5" name="Picture 16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80661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C1E0-E73A-4725-9CD5-B47A86DE51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6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ОБСЛЕДВАНИ СГРАДИ В СЗ РАЙОН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000"/>
            </a:b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(към 08.03.2011 г.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426520" cy="5245200"/>
        </p:xfrm>
        <a:graphic>
          <a:graphicData uri="http://schemas.openxmlformats.org/drawingml/2006/table">
            <a:tbl>
              <a:tblPr/>
              <a:tblGrid>
                <a:gridCol w="4105440"/>
                <a:gridCol w="2160360"/>
                <a:gridCol w="216072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200"/>
                        </a:gs>
                        <a:gs pos="50000">
                          <a:srgbClr val="00ff00"/>
                        </a:gs>
                        <a:gs pos="100000">
                          <a:srgbClr val="009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200"/>
                        </a:gs>
                        <a:gs pos="50000">
                          <a:srgbClr val="00ff00"/>
                        </a:gs>
                        <a:gs pos="100000">
                          <a:srgbClr val="009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ТОЙ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200"/>
                        </a:gs>
                        <a:gs pos="50000">
                          <a:srgbClr val="00ff00"/>
                        </a:gs>
                        <a:gs pos="100000">
                          <a:srgbClr val="009200"/>
                        </a:gs>
                      </a:gsLst>
                      <a:lin ang="5400000"/>
                    </a:gra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ЩО ОБСЛЕДВАНИ СГРА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РТИФИКАТ КАТ.  “А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РТИФИКАТ КАТ.  “Б</a:t>
                      </a: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ГРАДИ С ПРЕДПИСАНИ Е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ЧАКВАНА ГОД. ИКОНОМИИ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Wh/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ЧАКВАНА ГОД. ИКОНОМ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лн./л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ЕОБХОДИМИ ИНВЕСТ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лн./л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,5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ЧАКВАНИ РЕДУЦИРАНИ ЕМИСИИ СО</a:t>
                      </a:r>
                      <a:r>
                        <a:rPr b="1" lang="bg-BG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Хил.т./год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,8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A2A-907E-4995-9D9F-CBA87E6414B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33160"/>
            <a:ext cx="831708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ОБСЛЕДВАНИ СГРАДИ ПО ЦЕЛЕВИТЕ ПРОГРАМИ СЗ РАЙОН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1600200"/>
          <a:ext cx="8075520" cy="4525920"/>
        </p:xfrm>
        <a:graphic>
          <a:graphicData uri="http://schemas.openxmlformats.org/drawingml/2006/table">
            <a:tbl>
              <a:tblPr/>
              <a:tblGrid>
                <a:gridCol w="1944720"/>
                <a:gridCol w="1285920"/>
                <a:gridCol w="1614240"/>
                <a:gridCol w="1616040"/>
                <a:gridCol w="1614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ЩО</a:t>
                      </a:r>
                      <a:r>
                        <a:rPr b="0" lang="bg-BG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ЕВ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ОВЕ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РА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И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ОНТ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ОБЩ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3b812f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1AFE-16D3-447C-B564-A73CCB13A9F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360" y="476280"/>
            <a:ext cx="80722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ДЕКЛАРАЦИИ ЗА ВОДОГРЕЙНИ КОТЛИ И КЛИМАТИЧНИ ИНСТАЛАЦИИ В СЗ РАЙОН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4" name="Picture 444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993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D906-8A3A-4E24-A3FC-E40D204656D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8501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  <a:ea typeface="Arial"/>
              </a:rPr>
              <a:t>ДЕЙНОСТИ ЗА ПОВИШАВАНЕ НА </a:t>
            </a:r>
            <a:br>
              <a:rPr sz="2800"/>
            </a:br>
            <a:r>
              <a:rPr b="1" lang="bg-BG" sz="2800" spc="-1" strike="noStrike">
                <a:solidFill>
                  <a:srgbClr val="000099"/>
                </a:solidFill>
                <a:latin typeface="Arial"/>
                <a:ea typeface="Arial"/>
              </a:rPr>
              <a:t>ЕНЕРГИЙНАТА ЕФЕКТИВНОС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8930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1.ЕНЕРГИЙНО ПАСПОРТИЗИРАНЕ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3300"/>
                </a:solidFill>
                <a:latin typeface="Arial"/>
              </a:rPr>
              <a:t>2.ОБСЛЕДВАНЕ И СЕРТИФИЦИРАНЕ НА СГРАДИ – ВЪВЕДЕНИ В ЕКСПЛОАТАЦИЯ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1" lang="bg-BG" sz="2800" spc="-1" strike="noStrike">
                <a:solidFill>
                  <a:srgbClr val="3b812f"/>
                </a:solidFill>
                <a:latin typeface="Arial"/>
              </a:rPr>
              <a:t>. ПРОВЕРКА ЗА ЕНЕРГИЙНА ЕФЕКТИВНОСТ НА ВОДОГРЕЙНИ КОТЛИ И КЛИМАТИЧНИ ИНСТАЛАЦИИ В СГРАДИ</a:t>
            </a: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. УПРАВЛЕНИЕ ПО ЕНЕРГИЙНА ЕФЕКТИВНОС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ED8C-13DB-4C36-8CFA-0C17C8B56EE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59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ГОДИШНИ ОТЧЕТИ – СЗ РАЙОН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9218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7BD4-61BA-4709-A7E1-1CF553F8288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Време за въпроси и дискусия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427640" y="3789360"/>
            <a:ext cx="43923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Младенка Чернева – гл. експерт К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Телефон: 915 40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Имейл: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 MlCherneva@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Web: www.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67"/>
          <p:cNvGrpSpPr/>
          <p:nvPr/>
        </p:nvGrpSpPr>
        <p:grpSpPr>
          <a:xfrm>
            <a:off x="0" y="2060640"/>
            <a:ext cx="4390920" cy="4360680"/>
            <a:chOff x="0" y="2060640"/>
            <a:chExt cx="4390920" cy="4360680"/>
          </a:xfrm>
        </p:grpSpPr>
        <p:sp>
          <p:nvSpPr>
            <p:cNvPr id="183" name="AutoShape 15"/>
            <p:cNvSpPr/>
            <p:nvPr/>
          </p:nvSpPr>
          <p:spPr>
            <a:xfrm>
              <a:off x="0" y="2060640"/>
              <a:ext cx="4390920" cy="43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7"/>
            <p:cNvSpPr/>
            <p:nvPr/>
          </p:nvSpPr>
          <p:spPr>
            <a:xfrm>
              <a:off x="99000" y="2203560"/>
              <a:ext cx="4254840" cy="3968640"/>
            </a:xfrm>
            <a:custGeom>
              <a:avLst/>
              <a:gdLst>
                <a:gd name="textAreaLeft" fmla="*/ 0 w 4254840"/>
                <a:gd name="textAreaRight" fmla="*/ 4255200 w 4254840"/>
                <a:gd name="textAreaTop" fmla="*/ 0 h 3968640"/>
                <a:gd name="textAreaBottom" fmla="*/ 3969000 h 3968640"/>
              </a:gdLst>
              <a:ahLst/>
              <a:rect l="textAreaLeft" t="textAreaTop" r="textAreaRight" b="textAreaBottom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"/>
            <p:cNvSpPr/>
            <p:nvPr/>
          </p:nvSpPr>
          <p:spPr>
            <a:xfrm>
              <a:off x="1669320" y="3340080"/>
              <a:ext cx="2582640" cy="2773440"/>
            </a:xfrm>
            <a:custGeom>
              <a:avLst/>
              <a:gdLst>
                <a:gd name="textAreaLeft" fmla="*/ 0 w 2582640"/>
                <a:gd name="textAreaRight" fmla="*/ 2583000 w 2582640"/>
                <a:gd name="textAreaTop" fmla="*/ 0 h 2773440"/>
                <a:gd name="textAreaBottom" fmla="*/ 2773800 h 2773440"/>
              </a:gdLst>
              <a:ahLst/>
              <a:rect l="textAreaLeft" t="textAreaTop" r="textAreaRight" b="textAreaBottom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9"/>
            <p:cNvSpPr/>
            <p:nvPr/>
          </p:nvSpPr>
          <p:spPr>
            <a:xfrm>
              <a:off x="1724040" y="3473280"/>
              <a:ext cx="2349360" cy="2681280"/>
            </a:xfrm>
            <a:custGeom>
              <a:avLst/>
              <a:gdLst>
                <a:gd name="textAreaLeft" fmla="*/ 0 w 2349360"/>
                <a:gd name="textAreaRight" fmla="*/ 2349360 w 234936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>
              <a:off x="3113280" y="3452760"/>
              <a:ext cx="756000" cy="422280"/>
            </a:xfrm>
            <a:custGeom>
              <a:avLst/>
              <a:gdLst>
                <a:gd name="textAreaLeft" fmla="*/ 0 w 756000"/>
                <a:gd name="textAreaRight" fmla="*/ 756360 w 75600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>
              <a:off x="2287080" y="2098800"/>
              <a:ext cx="405360" cy="28872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579320" y="3559320"/>
              <a:ext cx="1498680" cy="269208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3229200" y="4095720"/>
              <a:ext cx="837000" cy="127944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4"/>
            <p:cNvSpPr/>
            <p:nvPr/>
          </p:nvSpPr>
          <p:spPr>
            <a:xfrm>
              <a:off x="2137320" y="2311560"/>
              <a:ext cx="907200" cy="1647720"/>
            </a:xfrm>
            <a:custGeom>
              <a:avLst/>
              <a:gdLst>
                <a:gd name="textAreaLeft" fmla="*/ 0 w 907200"/>
                <a:gd name="textAreaRight" fmla="*/ 907560 w 907200"/>
                <a:gd name="textAreaTop" fmla="*/ 0 h 1647720"/>
                <a:gd name="textAreaBottom" fmla="*/ 1648080 h 1647720"/>
              </a:gdLst>
              <a:ahLst/>
              <a:rect l="textAreaLeft" t="textAreaTop" r="textAreaRight" b="textAreaBottom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5"/>
            <p:cNvSpPr/>
            <p:nvPr/>
          </p:nvSpPr>
          <p:spPr>
            <a:xfrm>
              <a:off x="2123640" y="2467080"/>
              <a:ext cx="885600" cy="146520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1465200"/>
                <a:gd name="textAreaBottom" fmla="*/ 1465200 h 1465200"/>
              </a:gdLst>
              <a:ahLst/>
              <a:rect l="textAreaLeft" t="textAreaTop" r="textAreaRight" b="textAreaBottom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6"/>
            <p:cNvSpPr/>
            <p:nvPr/>
          </p:nvSpPr>
          <p:spPr>
            <a:xfrm>
              <a:off x="1890360" y="2114640"/>
              <a:ext cx="1082520" cy="992160"/>
            </a:xfrm>
            <a:custGeom>
              <a:avLst/>
              <a:gdLst>
                <a:gd name="textAreaLeft" fmla="*/ 0 w 1082520"/>
                <a:gd name="textAreaRight" fmla="*/ 1082880 w 108252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7"/>
            <p:cNvSpPr/>
            <p:nvPr/>
          </p:nvSpPr>
          <p:spPr>
            <a:xfrm>
              <a:off x="2225880" y="3146400"/>
              <a:ext cx="326160" cy="24912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8"/>
            <p:cNvSpPr/>
            <p:nvPr/>
          </p:nvSpPr>
          <p:spPr>
            <a:xfrm>
              <a:off x="2660400" y="3021120"/>
              <a:ext cx="226800" cy="2538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9"/>
            <p:cNvSpPr/>
            <p:nvPr/>
          </p:nvSpPr>
          <p:spPr>
            <a:xfrm>
              <a:off x="2300400" y="3181320"/>
              <a:ext cx="173880" cy="1429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0"/>
            <p:cNvSpPr/>
            <p:nvPr/>
          </p:nvSpPr>
          <p:spPr>
            <a:xfrm>
              <a:off x="2142000" y="2664000"/>
              <a:ext cx="818640" cy="738000"/>
            </a:xfrm>
            <a:custGeom>
              <a:avLst/>
              <a:gdLst>
                <a:gd name="textAreaLeft" fmla="*/ 0 w 818640"/>
                <a:gd name="textAreaRight" fmla="*/ 819000 w 818640"/>
                <a:gd name="textAreaTop" fmla="*/ 0 h 738000"/>
                <a:gd name="textAreaBottom" fmla="*/ 738360 h 738000"/>
              </a:gdLst>
              <a:ahLst/>
              <a:rect l="textAreaLeft" t="textAreaTop" r="textAreaRight" b="textAreaBottom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1"/>
            <p:cNvSpPr/>
            <p:nvPr/>
          </p:nvSpPr>
          <p:spPr>
            <a:xfrm>
              <a:off x="2421000" y="2208240"/>
              <a:ext cx="534600" cy="66024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2"/>
            <p:cNvSpPr/>
            <p:nvPr/>
          </p:nvSpPr>
          <p:spPr>
            <a:xfrm>
              <a:off x="1894680" y="2336760"/>
              <a:ext cx="275760" cy="38268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3"/>
            <p:cNvSpPr/>
            <p:nvPr/>
          </p:nvSpPr>
          <p:spPr>
            <a:xfrm>
              <a:off x="2198520" y="3021120"/>
              <a:ext cx="234720" cy="1206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4"/>
            <p:cNvSpPr/>
            <p:nvPr/>
          </p:nvSpPr>
          <p:spPr>
            <a:xfrm>
              <a:off x="1773000" y="5337000"/>
              <a:ext cx="1099080" cy="433440"/>
            </a:xfrm>
            <a:custGeom>
              <a:avLst/>
              <a:gdLst>
                <a:gd name="textAreaLeft" fmla="*/ 0 w 1099080"/>
                <a:gd name="textAreaRight" fmla="*/ 1099440 w 10990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5"/>
            <p:cNvSpPr/>
            <p:nvPr/>
          </p:nvSpPr>
          <p:spPr>
            <a:xfrm>
              <a:off x="1798560" y="5407200"/>
              <a:ext cx="1050480" cy="401400"/>
            </a:xfrm>
            <a:custGeom>
              <a:avLst/>
              <a:gdLst>
                <a:gd name="textAreaLeft" fmla="*/ 0 w 1050480"/>
                <a:gd name="textAreaRight" fmla="*/ 1050840 w 10504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6"/>
            <p:cNvSpPr/>
            <p:nvPr/>
          </p:nvSpPr>
          <p:spPr>
            <a:xfrm>
              <a:off x="0" y="3624120"/>
              <a:ext cx="1936080" cy="2759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2759040"/>
                <a:gd name="textAreaBottom" fmla="*/ 2759400 h 2759040"/>
              </a:gdLst>
              <a:ahLst/>
              <a:rect l="textAreaLeft" t="textAreaTop" r="textAreaRight" b="textAreaBottom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7"/>
            <p:cNvSpPr/>
            <p:nvPr/>
          </p:nvSpPr>
          <p:spPr>
            <a:xfrm>
              <a:off x="60840" y="4100400"/>
              <a:ext cx="788040" cy="99072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8"/>
            <p:cNvSpPr/>
            <p:nvPr/>
          </p:nvSpPr>
          <p:spPr>
            <a:xfrm>
              <a:off x="231480" y="5234040"/>
              <a:ext cx="1684800" cy="1139760"/>
            </a:xfrm>
            <a:custGeom>
              <a:avLst/>
              <a:gdLst>
                <a:gd name="textAreaLeft" fmla="*/ 0 w 1684800"/>
                <a:gd name="textAreaRight" fmla="*/ 1685160 w 1684800"/>
                <a:gd name="textAreaTop" fmla="*/ 0 h 1139760"/>
                <a:gd name="textAreaBottom" fmla="*/ 1139760 h 1139760"/>
              </a:gdLst>
              <a:ahLst/>
              <a:rect l="textAreaLeft" t="textAreaTop" r="textAreaRight" b="textAreaBottom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9"/>
            <p:cNvSpPr/>
            <p:nvPr/>
          </p:nvSpPr>
          <p:spPr>
            <a:xfrm>
              <a:off x="339840" y="3660840"/>
              <a:ext cx="992520" cy="939600"/>
            </a:xfrm>
            <a:custGeom>
              <a:avLst/>
              <a:gdLst>
                <a:gd name="textAreaLeft" fmla="*/ 0 w 992520"/>
                <a:gd name="textAreaRight" fmla="*/ 992880 w 9925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0"/>
            <p:cNvSpPr/>
            <p:nvPr/>
          </p:nvSpPr>
          <p:spPr>
            <a:xfrm>
              <a:off x="1038240" y="4121280"/>
              <a:ext cx="237600" cy="39204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1"/>
            <p:cNvSpPr/>
            <p:nvPr/>
          </p:nvSpPr>
          <p:spPr>
            <a:xfrm>
              <a:off x="608040" y="4295880"/>
              <a:ext cx="819000" cy="122688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2"/>
            <p:cNvSpPr/>
            <p:nvPr/>
          </p:nvSpPr>
          <p:spPr>
            <a:xfrm>
              <a:off x="2679840" y="4013280"/>
              <a:ext cx="472320" cy="1703160"/>
            </a:xfrm>
            <a:custGeom>
              <a:avLst/>
              <a:gdLst>
                <a:gd name="textAreaLeft" fmla="*/ 0 w 472320"/>
                <a:gd name="textAreaRight" fmla="*/ 472680 w 472320"/>
                <a:gd name="textAreaTop" fmla="*/ 0 h 1703160"/>
                <a:gd name="textAreaBottom" fmla="*/ 1703520 h 1703160"/>
              </a:gdLst>
              <a:ahLst/>
              <a:rect l="textAreaLeft" t="textAreaTop" r="textAreaRight" b="textAreaBottom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3"/>
            <p:cNvSpPr/>
            <p:nvPr/>
          </p:nvSpPr>
          <p:spPr>
            <a:xfrm>
              <a:off x="2806560" y="4238640"/>
              <a:ext cx="146520" cy="46836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4"/>
            <p:cNvSpPr/>
            <p:nvPr/>
          </p:nvSpPr>
          <p:spPr>
            <a:xfrm>
              <a:off x="2431800" y="5616720"/>
              <a:ext cx="807840" cy="72216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5"/>
            <p:cNvSpPr/>
            <p:nvPr/>
          </p:nvSpPr>
          <p:spPr>
            <a:xfrm>
              <a:off x="2769840" y="5664240"/>
              <a:ext cx="497160" cy="62064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6"/>
            <p:cNvSpPr/>
            <p:nvPr/>
          </p:nvSpPr>
          <p:spPr>
            <a:xfrm>
              <a:off x="2421000" y="5862600"/>
              <a:ext cx="382320" cy="4240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7"/>
            <p:cNvSpPr/>
            <p:nvPr/>
          </p:nvSpPr>
          <p:spPr>
            <a:xfrm>
              <a:off x="2966760" y="5329080"/>
              <a:ext cx="103680" cy="1954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8"/>
            <p:cNvSpPr/>
            <p:nvPr/>
          </p:nvSpPr>
          <p:spPr>
            <a:xfrm>
              <a:off x="3043080" y="5241960"/>
              <a:ext cx="292320" cy="347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9"/>
            <p:cNvSpPr/>
            <p:nvPr/>
          </p:nvSpPr>
          <p:spPr>
            <a:xfrm>
              <a:off x="3020400" y="4713120"/>
              <a:ext cx="97200" cy="8827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0"/>
            <p:cNvSpPr/>
            <p:nvPr/>
          </p:nvSpPr>
          <p:spPr>
            <a:xfrm>
              <a:off x="3024720" y="4740120"/>
              <a:ext cx="94320" cy="8431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1"/>
            <p:cNvSpPr/>
            <p:nvPr/>
          </p:nvSpPr>
          <p:spPr>
            <a:xfrm>
              <a:off x="3084120" y="5041800"/>
              <a:ext cx="548640" cy="459000"/>
            </a:xfrm>
            <a:custGeom>
              <a:avLst/>
              <a:gdLst>
                <a:gd name="textAreaLeft" fmla="*/ 0 w 548640"/>
                <a:gd name="textAreaRight" fmla="*/ 548640 w 5486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2"/>
            <p:cNvSpPr/>
            <p:nvPr/>
          </p:nvSpPr>
          <p:spPr>
            <a:xfrm>
              <a:off x="2821680" y="5122800"/>
              <a:ext cx="1431720" cy="87012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3"/>
            <p:cNvSpPr/>
            <p:nvPr/>
          </p:nvSpPr>
          <p:spPr>
            <a:xfrm>
              <a:off x="2806560" y="5345280"/>
              <a:ext cx="1300680" cy="660240"/>
            </a:xfrm>
            <a:custGeom>
              <a:avLst/>
              <a:gdLst>
                <a:gd name="textAreaLeft" fmla="*/ 0 w 1300680"/>
                <a:gd name="textAreaRight" fmla="*/ 1301040 w 13006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4"/>
            <p:cNvSpPr/>
            <p:nvPr/>
          </p:nvSpPr>
          <p:spPr>
            <a:xfrm>
              <a:off x="2837160" y="5730840"/>
              <a:ext cx="224280" cy="18108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5"/>
            <p:cNvSpPr/>
            <p:nvPr/>
          </p:nvSpPr>
          <p:spPr>
            <a:xfrm>
              <a:off x="2795760" y="5873760"/>
              <a:ext cx="190800" cy="1396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6"/>
            <p:cNvSpPr/>
            <p:nvPr/>
          </p:nvSpPr>
          <p:spPr>
            <a:xfrm>
              <a:off x="3072240" y="5160960"/>
              <a:ext cx="1181160" cy="708120"/>
            </a:xfrm>
            <a:custGeom>
              <a:avLst/>
              <a:gdLst>
                <a:gd name="textAreaLeft" fmla="*/ 0 w 1181160"/>
                <a:gd name="textAreaRight" fmla="*/ 1181160 w 118116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7"/>
            <p:cNvSpPr/>
            <p:nvPr/>
          </p:nvSpPr>
          <p:spPr>
            <a:xfrm>
              <a:off x="752760" y="2549520"/>
              <a:ext cx="1038240" cy="158580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1585800"/>
                <a:gd name="textAreaBottom" fmla="*/ 1586160 h 1585800"/>
              </a:gdLst>
              <a:ahLst/>
              <a:rect l="textAreaLeft" t="textAreaTop" r="textAreaRight" b="textAreaBottom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8"/>
            <p:cNvSpPr/>
            <p:nvPr/>
          </p:nvSpPr>
          <p:spPr>
            <a:xfrm>
              <a:off x="781920" y="2546280"/>
              <a:ext cx="862920" cy="150336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1503360"/>
                <a:gd name="textAreaBottom" fmla="*/ 1503720 h 1503360"/>
              </a:gdLst>
              <a:ahLst/>
              <a:rect l="textAreaLeft" t="textAreaTop" r="textAreaRight" b="textAreaBottom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9"/>
            <p:cNvSpPr/>
            <p:nvPr/>
          </p:nvSpPr>
          <p:spPr>
            <a:xfrm>
              <a:off x="457200" y="2311560"/>
              <a:ext cx="1292400" cy="13204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320480"/>
                <a:gd name="textAreaBottom" fmla="*/ 1320840 h 1320480"/>
              </a:gdLst>
              <a:ahLst/>
              <a:rect l="textAreaLeft" t="textAreaTop" r="textAreaRight" b="textAreaBottom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0"/>
            <p:cNvSpPr/>
            <p:nvPr/>
          </p:nvSpPr>
          <p:spPr>
            <a:xfrm>
              <a:off x="518040" y="2575080"/>
              <a:ext cx="208800" cy="89676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1"/>
            <p:cNvSpPr/>
            <p:nvPr/>
          </p:nvSpPr>
          <p:spPr>
            <a:xfrm>
              <a:off x="733320" y="2408400"/>
              <a:ext cx="837000" cy="84924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2"/>
            <p:cNvSpPr/>
            <p:nvPr/>
          </p:nvSpPr>
          <p:spPr>
            <a:xfrm>
              <a:off x="595800" y="2400480"/>
              <a:ext cx="361080" cy="37296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3"/>
            <p:cNvSpPr/>
            <p:nvPr/>
          </p:nvSpPr>
          <p:spPr>
            <a:xfrm>
              <a:off x="789480" y="3346560"/>
              <a:ext cx="210240" cy="2300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64"/>
            <p:cNvSpPr/>
            <p:nvPr/>
          </p:nvSpPr>
          <p:spPr>
            <a:xfrm>
              <a:off x="952560" y="3351240"/>
              <a:ext cx="52920" cy="187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65"/>
            <p:cNvSpPr/>
            <p:nvPr/>
          </p:nvSpPr>
          <p:spPr>
            <a:xfrm>
              <a:off x="803160" y="3365640"/>
              <a:ext cx="56160" cy="1728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6"/>
            <p:cNvSpPr/>
            <p:nvPr/>
          </p:nvSpPr>
          <p:spPr>
            <a:xfrm>
              <a:off x="1404000" y="3481560"/>
              <a:ext cx="178200" cy="12528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68"/>
          <p:cNvSpPr/>
          <p:nvPr/>
        </p:nvSpPr>
        <p:spPr>
          <a:xfrm>
            <a:off x="4056120" y="2276640"/>
            <a:ext cx="508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за вниманието 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22FC-B09F-4FFB-89D7-D324F6DCFFB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4995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МЕРКИ ЗА Е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82080" y="1341360"/>
            <a:ext cx="4515480" cy="585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364000" y="2349360"/>
            <a:ext cx="3996000" cy="28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3399ff"/>
              </a:gs>
              <a:gs pos="100000">
                <a:srgbClr val="99cc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ПОДЛЕЖ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ЗАДЪЛЖИТЕЛ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ЕРТИФИЦИР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(чл. 19, ал. 2 от З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всеки </a:t>
            </a: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обект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държавна или общ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bg-BG" sz="2000" spc="-1" strike="noStrike">
                <a:solidFill>
                  <a:srgbClr val="00ff00"/>
                </a:solidFill>
                <a:latin typeface="Arial"/>
              </a:rPr>
              <a:t>собственост в експлоатация </a:t>
            </a: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с РЗ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00"/>
                </a:solidFill>
                <a:latin typeface="Arial"/>
              </a:rPr>
              <a:t>над </a:t>
            </a:r>
            <a:r>
              <a:rPr b="1" lang="bg-BG" sz="2000" spc="-1" strike="noStrike">
                <a:solidFill>
                  <a:srgbClr val="ff3399"/>
                </a:solidFill>
                <a:latin typeface="Arial"/>
              </a:rPr>
              <a:t>1 000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</a:t>
            </a:r>
            <a:r>
              <a:rPr b="1" lang="bg-BG" sz="20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0" y="4076640"/>
            <a:ext cx="305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677D-9BAD-431C-A675-EA03605DA2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7836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300" spc="-1" strike="noStrike">
                <a:solidFill>
                  <a:srgbClr val="000099"/>
                </a:solidFill>
                <a:latin typeface="Arial"/>
              </a:rPr>
              <a:t>ПРЕДОСТАВЯНЕ НА ДОКУМЕНТАЦИЯТА ОТ </a:t>
            </a:r>
            <a:br>
              <a:rPr sz="2300"/>
            </a:br>
            <a:r>
              <a:rPr b="1" lang="bg-BG" sz="2300" spc="-1" strike="noStrike">
                <a:solidFill>
                  <a:srgbClr val="000099"/>
                </a:solidFill>
                <a:latin typeface="Arial"/>
              </a:rPr>
              <a:t>ОБСЛЕДВАНЕ И СЕРТИФИЦИРАНЕ НА СГРАДИ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РЕЗУЛТАТИТЕ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ОТ ОБСЛЕДВАНЕТО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СЕ ОТРАЗЯВАТ В ДОКЛАД И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РЕЗЮМЕ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, КОИТО СЕ ПРЕДОСТАВЯТ НА СОБСТВЕНИКА НА СГРАДАТА/СГРАДИТЕ ЗА ПРИЕМАНЕ. ИЗГОТВЯ СЕ ПРОТОКОЛ ЗА ПРИЕМАНЕ НА РЕЗУЛТАТИТЕ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bg-BG" sz="1800" spc="-1" strike="noStrike">
                <a:solidFill>
                  <a:srgbClr val="990099"/>
                </a:solidFill>
                <a:latin typeface="Arial"/>
              </a:rPr>
              <a:t>НАРЕДБА № РД №-16-1057/10.12.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1. В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14-ДНЕВЕН СРОК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ОТ ДАТАТА НА ПРИЕМАНЕ НА ДОКЛАДА СОБСТВЕНИКЪТ,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ПРЕДОСТАВЯ НА АЕЕ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6633"/>
                </a:solidFill>
                <a:latin typeface="Arial"/>
              </a:rPr>
              <a:t>КОПИЕ НА РЕЗЮМЕ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(ИЗГОТВЯ СЕ ПО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ОБРАЗЕЦ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– ПРИЛОЖЕНИЕ № 1 ОТ НАРЕДБА № РД №-16-1057) НА ПРИЕТИЯ ОТ СОБСТВЕНИКА ДОКЛАД  - НА ХАРТИЕН И МАГНИТЕН НОСИТЕЛ, КАКТО И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КОПИЕ НА ПРОТОКОЛА ЗА ПРИЕМАНЕ НА ДОКЛАДА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СЪС ЗАВЕРКА “Вярно с оригинал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2. В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14-ДНЕВЕН СРОК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ОТ ДАТАТА НА ИЗДАВАНЕ НА СЕРТИФИКАТА ЗА ЕНЕРГИЙНИТЕ ХАРАКТЕРИСТИКИ НА СГРАДА (ИЗГОТВЯ ПО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ОБРАЗЕЦ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– ПРИЛОЖЕНИЕ № 2 ОТ НАРЕДБА № РД №-16-1057), СОБСТВЕНИКЪТ ПРЕДСТАВЯ </a:t>
            </a:r>
            <a:r>
              <a:rPr b="1" lang="bg-BG" sz="1800" spc="-1" strike="noStrike">
                <a:solidFill>
                  <a:srgbClr val="006633"/>
                </a:solidFill>
                <a:latin typeface="Arial"/>
              </a:rPr>
              <a:t>КОПИЕ ОТ СЕРТИФИКАТА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СЪС ЗАВЕРКА “Вярно с оригинала” В АЕЕ И КОМПЕТЕНТНИТЕ ОРГАНИ ПО НАР.  №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3. ИЗДАДЕНИЯТ СЕРТИФИКАТ СЕ ПРИДРУЖАВА С </a:t>
            </a:r>
            <a:r>
              <a:rPr b="1" lang="bg-BG" sz="1800" spc="-1" strike="noStrike">
                <a:solidFill>
                  <a:srgbClr val="006633"/>
                </a:solidFill>
                <a:latin typeface="Arial"/>
              </a:rPr>
              <a:t>ДЕКЛАРАЦИЯ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 ЗА ЛИПСА НА ОБСТОЯТЕЛСТВАТА ПО ЧЛ.23, АЛ.2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, ИЗДАДЕНА ОТ ЛИЦЕТО ИЗДАЛО СЕРТИФИК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4. ЗАВЕРЕНО КОПИЕ НА ДОКЛАДА ПО ЧЛ. 18, АЛ. 2 (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КОТЕЛ / КЛИМАТИЧНА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ИНСТАЛАЦИЯ) НА ХАРТИЕН И НА МАТНИТЕН НОСИ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8F7-D85E-45A7-90EB-59813FDC131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85880" y="1600200"/>
            <a:ext cx="387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332000" y="476280"/>
            <a:ext cx="749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КОНТРОЛ ОТ ОТДЕЛ “КЕЕ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1197000"/>
          <a:ext cx="8785440" cy="5289480"/>
        </p:xfrm>
        <a:graphic>
          <a:graphicData uri="http://schemas.openxmlformats.org/drawingml/2006/table">
            <a:tbl>
              <a:tblPr/>
              <a:tblGrid>
                <a:gridCol w="6769080"/>
                <a:gridCol w="1079640"/>
                <a:gridCol w="93672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Й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10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  УПРАЖНЯВА СЕ </a:t>
                      </a: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ДМИНИСТРАТИВНО -                       ТЕХНИЧЕСКИ КОНТРОЛ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НА ДОКУМЕНТАЦИЯТА ОТ         ИЗВЪРШЕНИ ОБСЛЕДВАНИЯ НА СГРАД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94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 ИЗВЪРШЕНИ </a:t>
                      </a: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НТРОЛНИ ПРОВЕРКИ НА 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ОБЕКТА НА МЯСТО, ОТНОСНО ИЗПЪЛНЕНИЕ НА ЗАДЪЛЖЕНИЕТО ПО </a:t>
                      </a: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ЧЛ. 19, АЛ.3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ОТ ЗЕЕ ЗА ИЗПЪЛНЕНИЕ НА ПРЕДПИСАНИ МЕРКИ ЗА ПОВИШАВАНЕ НА ЕЕ ОТ ИЗВЪРШЕНО ЕНЕРГИЙНО  ОБСЛЕДВАНЕ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ПО ГРАФИК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 ИЗВЪРШЕНИ СА </a:t>
                      </a:r>
                      <a:r>
                        <a:rPr b="1" lang="bg-BG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НТРОЛНИ ОБСЛЕДВАНИЯ ПО ЧЛ. 79 ЗЕЕ</a:t>
                      </a: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НА ОБЕКТА ЗА ПРОВЕРКА НА РЕЗУЛТАТИТЕ ОТ ПРЕДХОДНО ОБСЛЕДВАНЕ ЗА ЕЕ, ПО УТВЪРДЕН ГРАФИК, ИЗБРАНИ НА СЛУЧАЕН ПРИНЦИП (ПО ГРАФИК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C540-9789-4D87-B408-971157FA1A9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360" y="475920"/>
            <a:ext cx="807228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КОНТРОЛ ВЪРХУ КАЧЕСТВОТО НА ИЗВЪРШЕНИТЕ ОБСЛЕДВАНИЯ ОТ ЛИЦАТА В </a:t>
            </a:r>
            <a:br>
              <a:rPr sz="2600"/>
            </a:b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ПУБЛИЧНИЯ РЕГИСТЪР – СГРАДИ</a:t>
            </a:r>
            <a:br>
              <a:rPr sz="2600"/>
            </a:b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" name="Object 29"/>
          <p:cNvGraphicFramePr/>
          <p:nvPr/>
        </p:nvGraphicFramePr>
        <p:xfrm>
          <a:off x="0" y="1989000"/>
          <a:ext cx="4788000" cy="36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4788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36" descr=""/>
          <p:cNvPicPr/>
          <p:nvPr/>
        </p:nvPicPr>
        <p:blipFill>
          <a:blip r:embed="rId3"/>
          <a:stretch/>
        </p:blipFill>
        <p:spPr>
          <a:xfrm>
            <a:off x="4643280" y="2924280"/>
            <a:ext cx="4500720" cy="334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F65E-2D17-4494-A04B-B3374239C6C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41264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ИЗВЪРШЕНИ СА 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КОНТРОЛНИ ПРОВЕРКИ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ЗА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ИЗПЪЛНЕНИЕ НА ЗАДЪЛЖЕНИЕТО ПО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  <a:ea typeface="Arial"/>
              </a:rPr>
              <a:t>§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  <a:ea typeface="Arial"/>
              </a:rPr>
              <a:t> 11, АЛ. 1 ОТ ПЗР НА ЗЕЕ –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  <a:ea typeface="Arial"/>
              </a:rPr>
              <a:t>издаване на сертифик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Извършени </a:t>
            </a: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а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 контролни проверки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на фирми определени на случаен принцип  на мяст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ъставени са 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констативни протоколи,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които се предоставят на проверяваното лице – 3 бр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ъставени са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актове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за установяване на административно нарушение – 3 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332000" y="476280"/>
            <a:ext cx="749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КОНТРОЛ ОТ ОТДЕЛ “КЕЕ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9114-8315-4D32-A5A9-F86A563CB75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ИЗВЪРШЕНИ СА 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КОНТРОЛНИ ПРОВЕРКИ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ЗА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2600" spc="-1" strike="noStrike">
                <a:solidFill>
                  <a:srgbClr val="000099"/>
                </a:solidFill>
                <a:latin typeface="Arial"/>
              </a:rPr>
              <a:t>ИЗПЪЛНЕНИЕ НА ЗАДЪЛЖЕНИЕТО ПО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2600" spc="-1" strike="noStrike">
                <a:solidFill>
                  <a:srgbClr val="ff3300"/>
                </a:solidFill>
                <a:latin typeface="Arial"/>
                <a:ea typeface="Arial"/>
              </a:rPr>
              <a:t>ЧЛ.23, АЛ. 1 Т. 2 И Т. 3 ОТ ЗЕЕ НА ЛИЦАТА ВПИСАНИ В ПУБЛИЧНИЯ РЕГИСТЪР НА АЕЕ ПО ЧЛ. 23, АЛ. 4 ОТ ЗЕЕ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Извършени </a:t>
            </a:r>
            <a:r>
              <a:rPr b="1" lang="bg-BG" sz="2400" spc="-1" strike="noStrike">
                <a:solidFill>
                  <a:srgbClr val="0000cc"/>
                </a:solidFill>
                <a:latin typeface="Arial"/>
              </a:rPr>
              <a:t>са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 контролни проверки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 на фирми определени на случаен принцип  на място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Съставени са 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констативни протоколи, </a:t>
            </a:r>
            <a:r>
              <a:rPr b="1" lang="bg-BG" sz="2400" spc="-1" strike="noStrike">
                <a:solidFill>
                  <a:srgbClr val="000099"/>
                </a:solidFill>
                <a:latin typeface="Arial"/>
              </a:rPr>
              <a:t>които се предоставят на проверяваното лице – 3 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32000" y="549360"/>
            <a:ext cx="7499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Arial"/>
              </a:rPr>
              <a:t>КОНТРОЛ ОТ ОТДЕЛ “КЕЕ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5A0B-CB16-48CA-8B2A-55E1C074729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677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06633"/>
                </a:solidFill>
                <a:latin typeface="Arial"/>
              </a:rPr>
              <a:t>ПРОВЕРКА ЗА ЕЕ НА ВОДОГРЕЙНИ КОТЛИ </a:t>
            </a:r>
            <a:br>
              <a:rPr sz="2800"/>
            </a:br>
            <a:r>
              <a:rPr b="1" lang="bg-BG" sz="2800" spc="-1" strike="noStrike">
                <a:solidFill>
                  <a:srgbClr val="006633"/>
                </a:solidFill>
                <a:latin typeface="Arial"/>
              </a:rPr>
              <a:t>И КЛИМАТИЧНИ ИНСТАЛАЦИИ В СГРАД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1. СОБСТВЕНИЦИТЕ НА ВОДОГРЕЙНИ КОТЛИ НАД 20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W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И  НА КЛИМАТИЧНИ ИНСТАЛАЦИИ (над 12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W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) ПОДАВАТ В АЕЕ ДЕКЛАРАЦИЯ ПО ОБРАЗЕЦ, КОЯТО СЕ ПОДАВА ЕДНОКРАТНО В СРОК ОТ 6 МЕСЕЦА ОТ ДАТАТА НА ВЪВЕЖДАНЕ В ЕКСПЛОАТАЦИЯ НА СЪОРЪЖЕНИЕТО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2. СОБСТВЕНИЦИТЕ НА ВОДОГРЕЙНИ КОТЛИ И/ИЛИ  НА КЛИМАТИЧНИ ИНСТАЛАЦИИ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ВЪЗЛАГАТ С ДОГОВОР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ИЗВЪРШВАНЕТО НА ПРОВЕРКА ЗА ЕНЕРГИЙНА ЕФЕКТИВНОСТ НА ЛИЦАТА ПО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ЧЛ.23 И/ИЛИ ЧЛ. 34 ОТ ЗЕЕ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РЕЗУЛТАТИТЕ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Т ОБСЛЕДВАНЕТО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СЕ ОТРАЗЯВАТ В ДОКЛАД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, КОИТО СЕ ПРЕДОСТАВЯТ НА СОБСТВЕНИКА И СЕ ПРИЕМА С ПРОТОКОЛ ОТ НЕГО ИЛИ  УПЪЛНОМОЩЕНО ЛИЦЕ В СРОК ОТ 30 ДНИ ОТ ДЕПОЗИРАНЕТО 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4. В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14-ДНЕВЕН СРОК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ОТ ДАТАТА НА ПРИЕМАНЕ НА ДОКЛАДА СОБСТВЕНИКЪТ,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ПРЕДОСТАВЯ НА АЕЕ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ЗАВЕРЕНО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КОПИЕ НА ДОКЛАДА НА ХАРТИЕН И МАГНИТЕН /ОПТИЧЕН НОСИТЕЛ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ЗГОТВЯ СЕ ПО </a:t>
            </a:r>
            <a:r>
              <a:rPr b="1" lang="bg-BG" sz="1800" spc="-1" strike="noStrike">
                <a:solidFill>
                  <a:srgbClr val="ff3300"/>
                </a:solidFill>
                <a:latin typeface="Arial"/>
              </a:rPr>
              <a:t>ОБРАЗЕЦ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 – ПРИЛОЖ. № 3 И/ИЛИ ПРИЛОЖ. № 4 ОТ НАРЕДБА № РД №-16-932/23.10.2009 Г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.) И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</a:rPr>
              <a:t>КОПИЕ НА ПРОТОКОЛА ЗА ПРИЕМАНЕ НА ДОКЛАДА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 СЪС ЗАВЕРКА “Вярно с оригинала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Utilities11</dc:creator>
  <dc:description/>
  <dc:language>en-US</dc:language>
  <cp:lastModifiedBy>knaydenov</cp:lastModifiedBy>
  <dcterms:modified xsi:type="dcterms:W3CDTF">2011-03-14T13:15:36Z</dcterms:modified>
  <cp:revision>244</cp:revision>
  <dc:subject/>
  <dc:title>Slide 1</dc:title>
</cp:coreProperties>
</file>