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D64D-4DC8-45BD-B2DD-13DA883DEEDB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329C-CD44-4502-8AC4-F54770615D96}" type="slidenum">
              <a:rPr b="0" lang="bg-BG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5476-C694-4849-8637-2544F24ADE3C}" type="slidenum">
              <a:rPr b="0" lang="bg-BG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5564-E76A-4538-8A60-06C27A223634}" type="slidenum">
              <a:rPr b="0" lang="bg-BG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AA0B-0F66-4E7E-980E-3DB938FCBD8A}" type="slidenum">
              <a:rPr b="0" lang="bg-BG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A110-5320-4C28-B12C-53FC9AB7B7EC}" type="slidenum">
              <a:rPr b="0" lang="bg-BG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0E4B-3588-4416-A85A-1FF5B8A2F7A1}" type="slidenum">
              <a:rPr b="0" lang="bg-BG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6CF7-ADED-40A4-A4B0-E25429AD155F}" type="slidenum">
              <a:rPr b="0" lang="bg-BG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4BC8-5FC7-4D12-AEF8-51E7C94EF60C}" type="slidenum">
              <a:rPr b="0" lang="bg-BG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8D40-95CB-4518-B0B2-465B180F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E317-4297-4486-9C8B-F33CD8E3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691C-350C-46E3-A6FD-192B4122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BE65-D94B-4859-8D16-5B749722C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4A46-E6C2-47FF-8686-43504190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0220-98DE-42B5-87ED-0657D723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F2F4-0F27-4C72-BB8F-AB26DAD1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8E5F-9A09-4D9B-9BC7-23CD7E94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FB78-377C-4AD8-B728-2C1C654D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C709-17BC-4FDD-A4E5-B13FCCD1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2B33-DF6A-43A4-96C3-FE3203FD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A36F-20E7-4C00-BA68-56052841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1142-998E-4780-BE16-FE51BCB1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806E-1A60-457D-8888-7D9D6DCA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AC16-7D1A-46E9-BCB3-54B83F19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E6E8-3059-44C2-84E5-7B35BA02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E1AC-6ED1-499C-BFDC-BAD2E394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C8E5-6860-40A6-A344-4519266D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BD5D-E11C-4235-809A-20597EA9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39BF-DF02-4D06-9ECB-85505E2A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FCE7-0A00-4C8F-A0C7-AAF66461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6818-4247-4977-AC64-19D345AC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996B-DF0D-4901-AAC4-05647DE9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589F-963C-4E23-90AC-79DC929C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60F8-0C7D-4CE7-A23B-A1F03A4F1C16}" type="datetime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D803-67AC-4C00-A0D8-27E8182D2877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B7E4-2131-49B5-9638-CE6DF4C3B856}" type="datetime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8B50-76B8-418F-99D5-9A43C166737C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71280" y="2852640"/>
            <a:ext cx="75610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66"/>
                </a:solidFill>
                <a:latin typeface="Verdana"/>
              </a:rPr>
              <a:t>КОНФЕРЕНЦИЯ “ОКОЛНА СРЕДА, ЗДРАВОСЛОВНИ И БЕЗОПАСНИ УСЛОВИЯ НА ТРУД 2014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366"/>
                </a:solidFill>
                <a:latin typeface="Verdana"/>
              </a:rPr>
              <a:t>СЕСИЯ </a:t>
            </a:r>
            <a:r>
              <a:rPr b="0" lang="en-US" sz="1600" spc="-1" strike="noStrike">
                <a:solidFill>
                  <a:srgbClr val="003366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366"/>
                </a:solidFill>
                <a:latin typeface="Verdana"/>
              </a:rPr>
              <a:t>Тема: </a:t>
            </a:r>
            <a:r>
              <a:rPr b="0" lang="bg-BG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bg-BG" sz="1600" spc="-1" strike="noStrike">
                <a:solidFill>
                  <a:srgbClr val="003366"/>
                </a:solidFill>
                <a:latin typeface="Verdana"/>
              </a:rPr>
              <a:t>ЕВРОПЕЙСКИ ДИРЕКТИВИ И НОРМИ В ОБЛАСТТА НА </a:t>
            </a:r>
            <a:r>
              <a:rPr b="1" lang="bg-BG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bg-BG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bg-BG" sz="1600" spc="-1" strike="noStrike">
                <a:solidFill>
                  <a:srgbClr val="003366"/>
                </a:solidFill>
                <a:latin typeface="Verdana"/>
              </a:rPr>
              <a:t>БЕЗОПАСНОСТТА И ЗДРАВЕТО ПРИ РАБОТ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366"/>
                </a:solidFill>
                <a:latin typeface="Verdana"/>
              </a:rPr>
              <a:t>16 октомври 2014 г., гр. София, Шератон Хотел Балкан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5" descr="4"/>
          <p:cNvPicPr/>
          <p:nvPr/>
        </p:nvPicPr>
        <p:blipFill>
          <a:blip r:embed="rId2"/>
          <a:stretch/>
        </p:blipFill>
        <p:spPr>
          <a:xfrm>
            <a:off x="539640" y="476280"/>
            <a:ext cx="3527640" cy="912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3C0F-FA43-447B-A0EB-C9292408C2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Verdana"/>
              </a:rPr>
              <a:t>Общи изисквания за безопасност и здраве при рабо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Verdana"/>
              </a:rPr>
              <a:t>Задължения на работодателит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2060"/>
                </a:solidFill>
                <a:latin typeface="Verdana"/>
              </a:rPr>
              <a:t>Осигуряване на инструктаж и обучение по БЗР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2060"/>
                </a:solidFill>
                <a:latin typeface="Verdana"/>
              </a:rPr>
              <a:t>Определяне на едно или повече длъжностни лица с подходящо образование и квалификация или създаване на специализирана служба за защитата и профилактиката на професионалните рискове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2060"/>
                </a:solidFill>
                <a:latin typeface="Verdana"/>
              </a:rPr>
              <a:t>Осигуряване на обслужване от служба по трудова медицина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2060"/>
                </a:solidFill>
                <a:latin typeface="Verdana"/>
              </a:rPr>
              <a:t>Изграждане на Комитети и Групи по условия на труд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2060"/>
                </a:solidFill>
                <a:latin typeface="Verdana"/>
              </a:rPr>
              <a:t>Информиране на работещите и техните представители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5C55-47B9-4608-BF30-A9ACD5DD19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Verdana"/>
              </a:rPr>
              <a:t>Общи изисквания за безопасност и здраве при рабо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Verdana"/>
              </a:rPr>
              <a:t>Задължения на работодателит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2060"/>
                </a:solidFill>
                <a:latin typeface="Verdana"/>
              </a:rPr>
              <a:t>Консултиране с работещите и осигуряване на тяхното участие в обсъждането на всички въпроси, свързани с безопасността и здравето при работа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2060"/>
                </a:solidFill>
                <a:latin typeface="Verdana"/>
              </a:rPr>
              <a:t>Осигуряване на мерки в случаи на извънредни обстоятелства (аварии) и предотвратяването на аварии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2060"/>
                </a:solidFill>
                <a:latin typeface="Verdana"/>
              </a:rPr>
              <a:t>Установяване, разследване и регистриране на трудови злополуки и професионални болести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2060"/>
                </a:solidFill>
                <a:latin typeface="Verdana"/>
              </a:rPr>
              <a:t>Задължително осигуряване за трудова злополука и професионална болест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2060"/>
                </a:solidFill>
                <a:latin typeface="Verdana"/>
              </a:rPr>
              <a:t>Задължително застраховане на работещите за риска “трудова злополука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3042-DBA7-4937-8A13-1B41C565CA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0070c0"/>
                </a:solidFill>
                <a:latin typeface="Verdana"/>
              </a:rPr>
              <a:t>Директиви на Европейския парламент и на Съвета в областта на БЗР и въвеждащите ги Национални нормативни актов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39640" y="1755720"/>
          <a:ext cx="8028000" cy="4278240"/>
        </p:xfrm>
        <a:graphic>
          <a:graphicData uri="http://schemas.openxmlformats.org/drawingml/2006/table">
            <a:tbl>
              <a:tblPr/>
              <a:tblGrid>
                <a:gridCol w="4043520"/>
                <a:gridCol w="3984480"/>
              </a:tblGrid>
              <a:tr h="1311480">
                <a:tc>
                  <a:txBody>
                    <a:bodyPr lIns="59400" rIns="59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Рамкова Директива 89/391/ЕИО</a:t>
                      </a:r>
                      <a:r>
                        <a:rPr b="1" lang="bg-BG" sz="1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Съвета от 12 юни 1989 г. за въвеждане на мерки за насърчаване подобряването на безопасността и здравето на работещите при работа, изменена с Директива 2007/30/Е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Закон за здравословни и безопасни условия на труд (ЗЗБУТ), Кодекс на труда, Наредба № 7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за минималните изисквания за здравословни и безопасни условия на труд на работните места и при използване на работното оборудване (ДВ, бр. 88 от 1999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1230120">
                <a:tc>
                  <a:txBody>
                    <a:bodyPr lIns="59400" rIns="59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89/654/ЕИО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Съвета от 30 ноември 1989 г. относно минималните изисквания за безопасност и здраве на </a:t>
                      </a:r>
                      <a:r>
                        <a:rPr b="1" i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работното място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– 1-ва специална директива по смисъла на член 16, параграф 1 от Директива 89/391/ЕИ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аредба № 7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от 1999 г.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на МТСП и МЗ за минималните изисквания за здравословни и безопасни условия на труд на работните места и при използване на работното оборудване (ДВ, бр. 88 от 1999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1736640">
                <a:tc>
                  <a:txBody>
                    <a:bodyPr lIns="59400" rIns="59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2009/104/ЕО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Европейския парламент и на Съвета от 16 септември 2009 г. относно минималните изисквания за безопасността и здравето на работещите при използване на </a:t>
                      </a:r>
                      <a:r>
                        <a:rPr b="1" i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работното оборудване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при работа - 2-ра специална директива по смисъла на чл. 16, параграф 1 от Директива 89/391/ЕИО – кодифициране на директива 89/655/ЕИО, изменена с директиви 95/63/ЕО и 2001/45/Е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аредба № 7 от 1999 г.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на МТСП и МЗ от 1999 г. за минималните изисквания за здравословни и безопасни условия на труд на работните места и при използване на работното оборудване (ДВ, бр. 88 от 1999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9400" marR="59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6CEC-E551-4CE8-AA7C-8C72F87378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0070c0"/>
                </a:solidFill>
                <a:latin typeface="Verdana"/>
              </a:rPr>
              <a:t>Директиви на Европейския парламент и на Съвета в областта на БЗР и въвеждащите ги Национални нормативни актов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39640" y="1773360"/>
          <a:ext cx="8028000" cy="4235400"/>
        </p:xfrm>
        <a:graphic>
          <a:graphicData uri="http://schemas.openxmlformats.org/drawingml/2006/table">
            <a:tbl>
              <a:tblPr/>
              <a:tblGrid>
                <a:gridCol w="4043520"/>
                <a:gridCol w="3984480"/>
              </a:tblGrid>
              <a:tr h="14317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89/656/ЕИО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Съвета от 30 ноември 1989 г.  относно минималните изисквания за безопасността и здравето на работещите при използването на </a:t>
                      </a:r>
                      <a:r>
                        <a:rPr b="1" i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лични предпазни средства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на работното място - 3 – та специална директива по смисъла на чл. 16, параграф 1 от Директива 89/391/ЕИ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аредба № 3 от 2001 г.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МТСП и МЗ  за минималните изисквания за защита на здравето и безопасността на работещите при използване на лични предпазни средства на работното място (ДВ, бр. 46 от 2001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1584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90/269/ЕИО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на Съвета от 29 май 1990 г. относно минималните изисквания за здравословни и безопасни условия на труд при </a:t>
                      </a:r>
                      <a:r>
                        <a:rPr b="1" i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ръчна обработка на товари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, когато съществува опасност конкретно от нараняване на гърба на работниците – 4-та специална директива по смисъла на чл. 16, параграф 1 от Директива 89/391/ЕИ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аредба № 16 от 1999 г.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а физиологични норми и правила за ръчна работа с тежести (ДВ, бр. 54 от 1999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1219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90/270/ЕИО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на Съвета от 29 май 1990 г. относно минималните изисквания за безопасност и здраве при </a:t>
                      </a:r>
                      <a:r>
                        <a:rPr b="1" i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работа с екранно оборудване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– 5-та специална директива по смисъла на чл. 16, параграф 1 от Директива 89/391/ЕИ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аредба № 7 от</a:t>
                      </a: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2005 г.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а минималните изисквания за осигуряване на здравословни и безопасни условия на труд при работа с видеодисплеи (ДВ, бр. 70 от 26.08.2005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78E8-0CC3-4CC7-A79D-DB3286BDF8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0070c0"/>
                </a:solidFill>
                <a:latin typeface="Verdana"/>
              </a:rPr>
              <a:t>Директиви на Европейския парламент и на Съвета в областта на БЗР и въвеждащите ги Национални нормативни актов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39640" y="1773360"/>
          <a:ext cx="8028000" cy="4236840"/>
        </p:xfrm>
        <a:graphic>
          <a:graphicData uri="http://schemas.openxmlformats.org/drawingml/2006/table">
            <a:tbl>
              <a:tblPr/>
              <a:tblGrid>
                <a:gridCol w="4043520"/>
                <a:gridCol w="3984480"/>
              </a:tblGrid>
              <a:tr h="14317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2004/37/ЕО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Европейския парламент и на Съвета от 29 април 2004 г. относно защитата на работниците от рискове, свързани с експозицията на </a:t>
                      </a:r>
                      <a:r>
                        <a:rPr b="1" i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канцерогени и мутагени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при работа – 6-та специална директива по смисъла на чл. 16, параграф 1 от Директива 89/391/ЕИО – Кодификация на Директива 90/394/ЕИ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аредба № 10 от 2003 г.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а защита на работещите от рискове, свързани с експозиция на канцерогени и мутагени при работа  (ДВ, бр. 94 от 2003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14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2000/54/ЕО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на Европейски парламент и на Съвета от 18 септември 2000 г. относно защита на работниците от рисковете, свързани с експозицията на </a:t>
                      </a:r>
                      <a:r>
                        <a:rPr b="1" i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биологични агенти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при работа – 7-ма специална директива по смисъла на чл. 16, параграф 1 от Директива 89/391/ЕИО - Кодификация на Директива 90/679/ЕИ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аредба № 4 от 2002 г.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за защита на работещите от рискове, свързани с експозиция на биологични агенти при работа  (ДВ, бр. 105 от 8.11.2002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13716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92/57/ЕИО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на Съвета от 24 юни 1992 г. за прилагане на минимални изисквания за безопасност и здраве на </a:t>
                      </a:r>
                      <a:r>
                        <a:rPr b="1" i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временни или подвижни строителни площадки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– 8-ма специална директива по смисъла на чл. 16, параграф 1 от Директива 89/391/ЕИ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аредба № 2 от 2004 г.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МТСП и МРРБ за минималните изисквания за здравословни и безопасни условия на труд при извършване на строителни и монтажни работи  (ДВ, бр. 37 от 2004 г.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3931-B997-4011-9CC0-360DA61B4E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0070c0"/>
                </a:solidFill>
                <a:latin typeface="Verdana"/>
              </a:rPr>
              <a:t>Директиви на Европейския парламент и на Съвета в областта на БЗР и въвеждащите ги Национални нормативни актов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39640" y="1773360"/>
          <a:ext cx="8028000" cy="4248000"/>
        </p:xfrm>
        <a:graphic>
          <a:graphicData uri="http://schemas.openxmlformats.org/drawingml/2006/table">
            <a:tbl>
              <a:tblPr/>
              <a:tblGrid>
                <a:gridCol w="4043520"/>
                <a:gridCol w="3984480"/>
              </a:tblGrid>
              <a:tr h="14000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92/58/ЕИО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Съвета от 24 юни 1992 г. относно минималните изисквания за осигуряване на </a:t>
                      </a:r>
                      <a:r>
                        <a:rPr b="1" i="1" lang="bg-BG" sz="10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знаци за безопасност и/или здраве при работа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– 9-та специална директива по смисъла на чл. 16, параграф 1 от Директива 89/391/ЕИ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аредба № РД-07/8 от</a:t>
                      </a: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2008 г.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а минималните изисквания за знаци и сигнали за безопасност и/или здраве при работа (ДВ, бр. 3 от 2009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14018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92/85/ЕИО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на Съвета от 19 октомври 1992 г. за въвеждане на мерки за насърчаване подобряването на безопасността и здравето при </a:t>
                      </a:r>
                      <a:r>
                        <a:rPr b="1" i="1" lang="bg-BG" sz="10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работа на бременни работнички и на работнички-родилки или кърмачки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– 10-та специална директива по смисъла на чл. 16, параграф 1 от Директива 89/391/ЕИ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Кодекс на труда; Закон за защита срещу дискриминация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1446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92/91/ЕИО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Съвета от 3 ноември 1992 г. за минималните изисквания за подобряване на безопасността и здравето на работниците при </a:t>
                      </a:r>
                      <a:r>
                        <a:rPr b="1" i="1" lang="bg-BG" sz="10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обив на минерални суровини чрез сондиране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– </a:t>
                      </a:r>
                      <a:r>
                        <a:rPr b="1" i="1" lang="bg-BG" sz="10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11-та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специална директива по смисъла на чл. 16, параграф 1 от Директива 89/391/ЕИ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аредба № 9 от 2003 г.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а минималните изисквания за осигуряване на безопасността и здравето на работещите при добиване на подземни богатства чрез сондиране (ДВ, бр. 79 от 2003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04CB-E544-47C7-84C4-7720D35B05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0070c0"/>
                </a:solidFill>
                <a:latin typeface="Verdana"/>
              </a:rPr>
              <a:t>Директиви на Европейския парламент и на Съвета в областта на БЗР и въвеждащите ги Национални нормативни актов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39640" y="1773360"/>
          <a:ext cx="8028000" cy="4370400"/>
        </p:xfrm>
        <a:graphic>
          <a:graphicData uri="http://schemas.openxmlformats.org/drawingml/2006/table">
            <a:tbl>
              <a:tblPr/>
              <a:tblGrid>
                <a:gridCol w="4043520"/>
                <a:gridCol w="3984480"/>
              </a:tblGrid>
              <a:tr h="14634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92/104/ЕИО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Съвета от 3 декември 1992 г. относно минималните изисквания за подобряване безопасността и здравето на работниците в отрасли, свързани с </a:t>
                      </a:r>
                      <a:r>
                        <a:rPr b="1" i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подземния добив на минерали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- 12-та специална директива по смисъла на чл. 16, параграф 1 от Директива 89/391/ЕИ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аредба № 9 от 1997 г.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на МТСП за общи правила за управление на дейността по осигуряване на безопасността и опазване здравето на работещите в мините (ДВ, бр. 123 от 1997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13096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93/103/ЕИО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Съвета от 23 ноември 1993 г.  относно минималните изисквания за безопасност и здраве при </a:t>
                      </a:r>
                      <a:r>
                        <a:rPr b="1" i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работа на борда на риболовни кораби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- 13 специална директива по смисъла на чл. 16, параграф 1 от Директива 89/391/ЕИ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аредба за трудовите и непосредствено свързани с тях отношения между членовете на екипажа на кораба и корабопритежателя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(Приета с ПМС № 226 от 14.10.2003 г., обн., ДВ, бр. 93 от 2003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1597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98/24/ЕИО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Съвета от 7 април 1998 г.  за защита на здравето и безопасността на работниците от рискове, свързани с експозиция на </a:t>
                      </a:r>
                      <a:r>
                        <a:rPr b="1" i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химични агенти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при работа – 14-та специална директива по смисъла на чл. 16, параграф 1 от Директива 89/391/ЕИ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аредба № 13 от 2003 г.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МТСП и МЗ за защита на работещите от рискове, свързани с експозиция на химични агенти при работа (ДВ, бр. 8 от 2004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51C1-4A30-43BA-A22E-0B34614D20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0070c0"/>
                </a:solidFill>
                <a:latin typeface="Verdana"/>
              </a:rPr>
              <a:t>Директиви на Европейския парламент и на Съвета в областта на БЗР и въвеждащите ги Национални нормативни актов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39640" y="1735200"/>
          <a:ext cx="8028000" cy="4357800"/>
        </p:xfrm>
        <a:graphic>
          <a:graphicData uri="http://schemas.openxmlformats.org/drawingml/2006/table">
            <a:tbl>
              <a:tblPr/>
              <a:tblGrid>
                <a:gridCol w="4043520"/>
                <a:gridCol w="3984480"/>
              </a:tblGrid>
              <a:tr h="14018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1999/92/ЕО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Европейския парламент и Съвета от 16 декември 1999 г. относно минималните изисквания за подобряване защитата на здравето и безопасността на работниците при потенциален </a:t>
                      </a:r>
                      <a:r>
                        <a:rPr b="1" i="1" lang="bg-BG" sz="10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риск от експлозивни атмосфери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– 15-та специална директива по смисъла на чл. 16, параграф 1 от Директива 89/391/ЕИ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аредба № 11 от 2004 г.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МТСП за минималните изисквания за осигуряване на безопасността и здравето на работещите при потенциален риск от експлозивна атмосфера (ДВ. бр.6 от 2005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1554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2002/44/EО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Европейския парламент и Съвета от 25 юни 2002 г.  относно минималните изисквания за осигуряване на здравето и безопасността на работещите при рискове, свързани с експозиция на </a:t>
                      </a:r>
                      <a:r>
                        <a:rPr b="1" i="1" lang="bg-BG" sz="10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физични агенти (вибрации)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– 16-та специална директива по смисъла на чл. 16, параграф 1 от Директива 89/391/ЕИ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аредба №</a:t>
                      </a: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3 от 2005 г.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на МТСП и МЗ за минималните  изисквания за осигуряване на здравето и безопасността на работещите при рискове, свързани с експозиция на вибрации (ДВ, бр. 40 от 12.05.2005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14018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2003/10/EО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Европейския парламент и Съвета от 6 февруари 2003 г.  относно минималните изисквания за защита на здравето и безопасността на работещите при рискове, свързани с експозиция на </a:t>
                      </a:r>
                      <a:r>
                        <a:rPr b="1" i="1" lang="bg-BG" sz="10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физични агенти (шум)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– 17-та специална директива по смисъла на чл. 16, параграф 1 от Директива 89/391/ЕИ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аредба № 6 от 2005 г.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а минималните изисквания за осигуряване на здравето и безопасността на работещите при рискове, свързани с експозиция на шум (ДВ, бр. 70 от 26.08.2005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8D33-3376-47E2-9F2B-F1B45771FA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0070c0"/>
                </a:solidFill>
                <a:latin typeface="Verdana"/>
              </a:rPr>
              <a:t>Директиви на Европейския парламент и на Съвета в областта на БЗР и въвеждащите ги Национални нормативни актов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39640" y="2205000"/>
          <a:ext cx="7956720" cy="3565440"/>
        </p:xfrm>
        <a:graphic>
          <a:graphicData uri="http://schemas.openxmlformats.org/drawingml/2006/table">
            <a:tbl>
              <a:tblPr/>
              <a:tblGrid>
                <a:gridCol w="4006800"/>
                <a:gridCol w="3949920"/>
              </a:tblGrid>
              <a:tr h="1736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2006/25/ЕО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на Европейския парламент и Съвета от 5 април 2006 г. относно минималните изисквания за здраве и безопасност, свързани с експозицията на работниците на рисковете от </a:t>
                      </a:r>
                      <a:r>
                        <a:rPr b="1" i="1" lang="bg-BG" sz="10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физически агенти (изкуствени оптични лъчения)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– 19-та специална директива по смисъла на член 16, параграф 1 от Директива 89/391/ЕИ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аредба № 5 от 2010 г.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а минималните изисквания за осигуряване на здравето и безопасността на работещите при рискове, свързани с експозиция на изкуствени оптични лъчения (ДВ. бр.49 от 2010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2009/148/EО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Европейския парламент и Съвета от 30 ноември 2009 г. относно защитата на работещите от рискове, свързани с експозиция на </a:t>
                      </a:r>
                      <a:r>
                        <a:rPr b="1" i="1" lang="bg-BG" sz="10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азбест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при работа - Кодификация на Директива 83/477/ЕИО, изменена с директиви 91/382/ЕИО и 2003/18/ЕО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Закон за изменение и допълнение на Закона за здравето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ДВ, бр. 59 от 21 юли 2006 г.) 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аредба №9 от 4 август 2006 г.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МТСП и МЗ за защита на работещите от рискове, свързани с експозиция на азбест при работа (ДВ, бр. 71 от 1 септември 2006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9D94-A366-4CAC-89B7-2218F641B9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0070c0"/>
                </a:solidFill>
                <a:latin typeface="Verdana"/>
              </a:rPr>
              <a:t>Директиви на Европейския парламент и на Съвета в областта на БЗР и въвеждащите ги Национални нормативни актов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39640" y="1773360"/>
          <a:ext cx="8028000" cy="4176720"/>
        </p:xfrm>
        <a:graphic>
          <a:graphicData uri="http://schemas.openxmlformats.org/drawingml/2006/table">
            <a:tbl>
              <a:tblPr/>
              <a:tblGrid>
                <a:gridCol w="4043520"/>
                <a:gridCol w="3984480"/>
              </a:tblGrid>
              <a:tr h="14000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91/383/ЕИО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на Съвета от 25 юни 1991 г. за допълнение на мерките за насърчаване подобряването на безопасността и здравето при работа на работниците на </a:t>
                      </a:r>
                      <a:r>
                        <a:rPr b="1" i="1" lang="bg-BG" sz="10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срочно трудово правоотношение или временно трудово правоотноше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аредба № 5 от 2006 г.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МТСП за осигуряване на здравословни и безопасни условия на труд на работниците по срочно трудово правоотношение или временно трудово правоотношение (ДВ. бр.43 от 26 Май 2006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14079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92/29/ЕИО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Съвета от 31 март 1992 г. относно минималните изисквания за безопасност и здраве за подобряване на </a:t>
                      </a:r>
                      <a:r>
                        <a:rPr b="1" i="1" lang="bg-BG" sz="10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медицинското обслужване на борда на плавателните съдов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аредба № 9 от 2003 г.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а медицинското обслужване на корабите, издадена от министъра на транспорта и съобщенията и министъра на здравеопазването (ДВ, бр. 17 от 2003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13687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Директива 94/33/ЕО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Съвета от 22 юни 1994 г. за </a:t>
                      </a:r>
                      <a:r>
                        <a:rPr b="1" i="1" lang="bg-BG" sz="10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закрила на младите хора при работа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Наредба № 6 от 2006 г.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 МТСП за условията и реда за даване на разрешения за работа на лица, ненавършили 18 години ( ДВ. бр.64 от 8 Август 2006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7059-4D29-4C2A-8CD5-8F79AA45C0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Verdana"/>
              </a:rPr>
              <a:t>Политика на Република България в областта на безопасността и здравето при работа (БЗР</a:t>
            </a:r>
            <a:r>
              <a:rPr b="1" lang="en-US" sz="2000" spc="-1" strike="noStrike">
                <a:solidFill>
                  <a:srgbClr val="0070c0"/>
                </a:solidFill>
                <a:latin typeface="Verdana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Verdana"/>
              </a:rPr>
              <a:t>Политиката на Р България за здравословни и безопасни условия на труд е съобразена със стратегическите документи на Европейския съюз и на Международната организация на труд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Verdana"/>
              </a:rPr>
              <a:t>Стратегия Европа 2020 за интелигентен, устойчив и приобщаващ растеж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Verdana"/>
              </a:rPr>
              <a:t>Стратегическата рамка на ЕС за безопасност и здраве при работа 2014—2020 годин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Verdana"/>
              </a:rPr>
              <a:t>Глобалната стратегия на МОТ за БЗ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11A4-65DB-4B39-ABD4-148AAE6FB7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70c0"/>
                </a:solidFill>
                <a:latin typeface="Verdana"/>
              </a:rPr>
              <a:t>Предстои въвеждането в националното законодателство на две нови Европейски директиви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366"/>
                </a:solidFill>
                <a:latin typeface="Verdana"/>
              </a:rPr>
              <a:t>Директива 2013/35/ЕС</a:t>
            </a:r>
            <a:r>
              <a:rPr b="0" lang="bg-BG" sz="1600" spc="-1" strike="noStrike">
                <a:solidFill>
                  <a:srgbClr val="003366"/>
                </a:solidFill>
                <a:latin typeface="Verdana"/>
              </a:rPr>
              <a:t> на Европейския парламент и на Съвета от 26 юни 2013 година относно минималните изисквания за здраве и безопасност, свързани с експозицията на работниците на рискове, дължащи се на </a:t>
            </a:r>
            <a:r>
              <a:rPr b="0" i="1" lang="bg-BG" sz="1600" spc="-1" strike="noStrike">
                <a:solidFill>
                  <a:srgbClr val="003366"/>
                </a:solidFill>
                <a:latin typeface="Verdana"/>
              </a:rPr>
              <a:t>физически агенти (електромагнитни полета)</a:t>
            </a:r>
            <a:r>
              <a:rPr b="0" lang="bg-BG" sz="1600" spc="-1" strike="noStrike">
                <a:solidFill>
                  <a:srgbClr val="003366"/>
                </a:solidFill>
                <a:latin typeface="Verdana"/>
              </a:rPr>
              <a:t> (Двадесета специална директива по смисъла на член 16, параграф 1 от Директива 89/391/ЕИО) и за отмяна на Директива 2004/40/ЕО – </a:t>
            </a:r>
            <a:r>
              <a:rPr b="0" lang="bg-BG" sz="1600" spc="-1" strike="noStrike">
                <a:solidFill>
                  <a:srgbClr val="ff0000"/>
                </a:solidFill>
                <a:latin typeface="Verdana"/>
              </a:rPr>
              <a:t>срок за въвеждане от държавите-членки – 1 юли 2016 г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366"/>
                </a:solidFill>
                <a:latin typeface="Verdana"/>
              </a:rPr>
              <a:t>Директива 2014/27/EС </a:t>
            </a:r>
            <a:r>
              <a:rPr b="0" lang="bg-BG" sz="1600" spc="-1" strike="noStrike">
                <a:solidFill>
                  <a:srgbClr val="003366"/>
                </a:solidFill>
                <a:latin typeface="Verdana"/>
              </a:rPr>
              <a:t>на Европейския парламент и на Съвета от 26 февруари 2014 година за изменение на директиви 92/58/ЕИО, 92/85/ЕИО, 94/33/ЕО, 98/24/ЕО на Съвета и на Директива 2004/37/ЕО на Европейския парламент и на Съвета, за да се приведат в съответствие с Регламент (ЕО) № 1272/2008 относно класифицирането, етикетирането и опаковането на вещества и смеси - </a:t>
            </a:r>
            <a:r>
              <a:rPr b="0" lang="bg-BG" sz="1600" spc="-1" strike="noStrike">
                <a:solidFill>
                  <a:srgbClr val="ff0000"/>
                </a:solidFill>
                <a:latin typeface="Verdana"/>
              </a:rPr>
              <a:t>срок за въвеждане от държавите-членки – 1 юни 2015 г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DD19-D3DB-4377-97AD-7FE5BAF3FF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Verdana"/>
              </a:rPr>
              <a:t>Стратегическа рамка на ЕС за безопасност и здраве при работа за периода 2014—2020 годин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Verdana"/>
              </a:rPr>
              <a:t>Три основни предизвикателств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Verdana"/>
              </a:rPr>
              <a:t>Подобряване на прилагането в държавите членки, по-специално чрез подобряване на капацитета на микропредприятията и малките предприятия да въвеждат ефективни и ефикасни мерки за предотвратяване на риск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Verdana"/>
              </a:rPr>
              <a:t>Подобряване на превенцията на свързаните с труда заболявания чрез преодоляване на съществуващи, нови и възникващи рисков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Verdana"/>
              </a:rPr>
              <a:t>Справяне с демографската промяна в Е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D48D-F27A-4D7C-8FDD-19AB729EBD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Verdana"/>
              </a:rPr>
              <a:t>Стратегическа рамка на ЕС за безопасност и здраве при работа за периода 2014—2020 годин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2060"/>
                </a:solidFill>
                <a:latin typeface="Verdana"/>
              </a:rPr>
              <a:t>Седем стратегически цел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374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2060"/>
                </a:solidFill>
                <a:latin typeface="Verdana"/>
              </a:rPr>
              <a:t>Допълнително </a:t>
            </a:r>
            <a:r>
              <a:rPr b="0" i="1" lang="bg-BG" sz="1500" spc="-1" strike="noStrike">
                <a:solidFill>
                  <a:srgbClr val="ff0000"/>
                </a:solidFill>
                <a:latin typeface="Verdana"/>
              </a:rPr>
              <a:t>консолидиране</a:t>
            </a:r>
            <a:r>
              <a:rPr b="0" lang="bg-BG" sz="1500" spc="-1" strike="noStrike">
                <a:solidFill>
                  <a:srgbClr val="002060"/>
                </a:solidFill>
                <a:latin typeface="Verdana"/>
              </a:rPr>
              <a:t> на националните стратеги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374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500" spc="-1" strike="noStrike">
                <a:solidFill>
                  <a:srgbClr val="ff0000"/>
                </a:solidFill>
                <a:latin typeface="Verdana"/>
              </a:rPr>
              <a:t>Улесняване на спазването </a:t>
            </a:r>
            <a:r>
              <a:rPr b="0" lang="bg-BG" sz="1500" spc="-1" strike="noStrike">
                <a:solidFill>
                  <a:srgbClr val="002060"/>
                </a:solidFill>
                <a:latin typeface="Verdana"/>
              </a:rPr>
              <a:t>на законодателството в областта на БЗР, по-специално </a:t>
            </a:r>
            <a:r>
              <a:rPr b="0" i="1" lang="bg-BG" sz="1500" spc="-1" strike="noStrike">
                <a:solidFill>
                  <a:srgbClr val="ff0000"/>
                </a:solidFill>
                <a:latin typeface="Verdana"/>
              </a:rPr>
              <a:t>от микропредприятията и малките предприятия</a:t>
            </a:r>
            <a:r>
              <a:rPr b="0" lang="bg-BG" sz="1500" spc="-1" strike="noStrike">
                <a:solidFill>
                  <a:srgbClr val="002060"/>
                </a:solidFill>
                <a:latin typeface="Verdana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374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500" spc="-1" strike="noStrike">
                <a:solidFill>
                  <a:srgbClr val="ff0000"/>
                </a:solidFill>
                <a:latin typeface="Verdana"/>
              </a:rPr>
              <a:t>По-добро прилагане на законодателството </a:t>
            </a:r>
            <a:r>
              <a:rPr b="0" lang="bg-BG" sz="1500" spc="-1" strike="noStrike">
                <a:solidFill>
                  <a:srgbClr val="002060"/>
                </a:solidFill>
                <a:latin typeface="Verdana"/>
              </a:rPr>
              <a:t>в областта на БЗР от държавите членк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374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500" spc="-1" strike="noStrike">
                <a:solidFill>
                  <a:srgbClr val="ff0000"/>
                </a:solidFill>
                <a:latin typeface="Verdana"/>
              </a:rPr>
              <a:t>Опростяване (рационализиране) </a:t>
            </a:r>
            <a:r>
              <a:rPr b="0" lang="bg-BG" sz="1500" spc="-1" strike="noStrike">
                <a:solidFill>
                  <a:srgbClr val="002060"/>
                </a:solidFill>
                <a:latin typeface="Verdana"/>
              </a:rPr>
              <a:t>на съществуващото законодателство</a:t>
            </a:r>
            <a:r>
              <a:rPr b="0" lang="bg-BG" sz="1500" spc="-1" strike="noStrike">
                <a:solidFill>
                  <a:srgbClr val="002060"/>
                </a:solidFill>
                <a:latin typeface="Arial"/>
              </a:rPr>
              <a:t>; (</a:t>
            </a:r>
            <a:r>
              <a:rPr b="0" lang="bg-BG" sz="1500" spc="-1" strike="noStrike">
                <a:solidFill>
                  <a:srgbClr val="002060"/>
                </a:solidFill>
                <a:latin typeface="Verdana"/>
              </a:rPr>
              <a:t>Програмата на ЕК за пригодност и резултатност на регулаторната рамка REFI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374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500" spc="-1" strike="noStrike">
                <a:solidFill>
                  <a:srgbClr val="ff0000"/>
                </a:solidFill>
                <a:latin typeface="Verdana"/>
              </a:rPr>
              <a:t>Преодоляване на проблемите</a:t>
            </a:r>
            <a:r>
              <a:rPr b="0" lang="bg-BG" sz="1500" spc="-1" strike="noStrike">
                <a:solidFill>
                  <a:srgbClr val="002060"/>
                </a:solidFill>
                <a:latin typeface="Verdana"/>
              </a:rPr>
              <a:t>, свързани със </a:t>
            </a:r>
            <a:r>
              <a:rPr b="0" i="1" lang="bg-BG" sz="1500" spc="-1" strike="noStrike">
                <a:solidFill>
                  <a:srgbClr val="ff0000"/>
                </a:solidFill>
                <a:latin typeface="Verdana"/>
              </a:rPr>
              <a:t>застаряването на работната сила, възникващите нови рискове, превенция на свързаните с работата и професионални заболявания</a:t>
            </a:r>
            <a:r>
              <a:rPr b="0" lang="bg-BG" sz="1500" spc="-1" strike="noStrike">
                <a:solidFill>
                  <a:srgbClr val="002060"/>
                </a:solidFill>
                <a:latin typeface="Verdana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374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500" spc="-1" strike="noStrike">
                <a:solidFill>
                  <a:srgbClr val="ff0000"/>
                </a:solidFill>
                <a:latin typeface="Verdana"/>
              </a:rPr>
              <a:t>Подобряване</a:t>
            </a:r>
            <a:r>
              <a:rPr b="0" lang="bg-BG" sz="1500" spc="-1" strike="noStrike">
                <a:solidFill>
                  <a:srgbClr val="002060"/>
                </a:solidFill>
                <a:latin typeface="Verdana"/>
              </a:rPr>
              <a:t> на събирането на </a:t>
            </a:r>
            <a:r>
              <a:rPr b="0" i="1" lang="bg-BG" sz="1500" spc="-1" strike="noStrike">
                <a:solidFill>
                  <a:srgbClr val="ff0000"/>
                </a:solidFill>
                <a:latin typeface="Verdana"/>
              </a:rPr>
              <a:t>статистическите данни и разработване на информационна база</a:t>
            </a:r>
            <a:r>
              <a:rPr b="0" lang="bg-BG" sz="1500" spc="-1" strike="noStrike">
                <a:solidFill>
                  <a:srgbClr val="002060"/>
                </a:solidFill>
                <a:latin typeface="Verdana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374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2060"/>
                </a:solidFill>
                <a:latin typeface="Verdana"/>
              </a:rPr>
              <a:t>Подобрено </a:t>
            </a:r>
            <a:r>
              <a:rPr b="0" i="1" lang="bg-BG" sz="1500" spc="-1" strike="noStrike">
                <a:solidFill>
                  <a:srgbClr val="ff0000"/>
                </a:solidFill>
                <a:latin typeface="Verdana"/>
              </a:rPr>
              <a:t>координиране на усилията на ЕС и международните усилия </a:t>
            </a:r>
            <a:r>
              <a:rPr b="0" lang="bg-BG" sz="1500" spc="-1" strike="noStrike">
                <a:solidFill>
                  <a:srgbClr val="002060"/>
                </a:solidFill>
                <a:latin typeface="Verdana"/>
              </a:rPr>
              <a:t>за преодоляване на проблемите, свързани с БЗР и ангажиране на международни организаци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3266-F62D-4AAA-A325-8AFA49CD0A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Verdana"/>
              </a:rPr>
              <a:t>Стратегическа рамка на ЕС за безопасност и здраве при работа за периода 2014—2020 годин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2060"/>
                </a:solidFill>
                <a:latin typeface="Verdana"/>
              </a:rPr>
              <a:t>Инструменти на ЕС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Verdana"/>
              </a:rPr>
              <a:t>Законодателств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Verdana"/>
              </a:rPr>
              <a:t>Фондове на ЕС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Verdana"/>
              </a:rPr>
              <a:t>Социален диалог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Verdana"/>
              </a:rPr>
              <a:t>Комуникации и информац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Verdana"/>
              </a:rPr>
              <a:t>Съгласуваност с други области на политиката:</a:t>
            </a:r>
            <a:r>
              <a:rPr b="0" i="1" lang="bg-BG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bg-BG" sz="1800" spc="-1" strike="noStrike">
                <a:solidFill>
                  <a:srgbClr val="002060"/>
                </a:solidFill>
                <a:latin typeface="Verdana"/>
              </a:rPr>
              <a:t>образование; научни изследвания; обществено здравеопазване; околна среда; индустриална политика; равенств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9761-2763-49CD-958E-3B79497EBE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Verdana"/>
              </a:rPr>
              <a:t>Национална програма по безопасност и здраве при работа – 2014 година</a:t>
            </a:r>
            <a:r>
              <a:rPr b="1" lang="en-US" sz="20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(</a:t>
            </a:r>
            <a:r>
              <a:rPr b="1" lang="bg-BG" sz="2000" spc="-1" strike="noStrike">
                <a:solidFill>
                  <a:srgbClr val="0070c0"/>
                </a:solidFill>
                <a:latin typeface="Verdana"/>
              </a:rPr>
              <a:t>НПБЗР – 2014 г.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Verdana"/>
              </a:rPr>
              <a:t>НПБЗР – 2014 г. включва и доразвива основните </a:t>
            </a:r>
            <a:r>
              <a:rPr b="0" i="1" lang="bg-BG" sz="1800" spc="-1" strike="noStrike">
                <a:solidFill>
                  <a:srgbClr val="002060"/>
                </a:solidFill>
                <a:latin typeface="Verdana"/>
              </a:rPr>
              <a:t>приоритети</a:t>
            </a:r>
            <a:r>
              <a:rPr b="0" lang="bg-BG" sz="1800" spc="-1" strike="noStrike">
                <a:solidFill>
                  <a:srgbClr val="002060"/>
                </a:solidFill>
                <a:latin typeface="Verdana"/>
              </a:rPr>
              <a:t> от Стратегията по безопасност и здраве при работа 2008-2012 г., като следва и новите насоки за развитие на политиката на Европейския съюз, очертани от Европейската комисия в приоритетите на Стратегия Европа 2020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2060"/>
                </a:solidFill>
                <a:latin typeface="Verdana"/>
              </a:rPr>
              <a:t>Основна цел</a:t>
            </a:r>
            <a:r>
              <a:rPr b="0" lang="bg-BG" sz="1800" spc="-1" strike="noStrike">
                <a:solidFill>
                  <a:srgbClr val="002060"/>
                </a:solidFill>
                <a:latin typeface="Verdana"/>
              </a:rPr>
              <a:t> на НПБЗР – 2014 г. е превенция на свързаните с работата заболявания, професионални болести и трудови злополуки. Цялостната концепция на програмата е насочена към превенция преди рехабилитацията и рехабилитация преди преждевременното напускане на пазара на тру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5057-146B-4212-B4C1-BD5826E84A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Verdana"/>
              </a:rPr>
              <a:t>Политика на Р</a:t>
            </a:r>
            <a:r>
              <a:rPr b="1" lang="en-US" sz="20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Verdana"/>
              </a:rPr>
              <a:t>България в областта на безопасността и здравето при работ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2060"/>
                </a:solidFill>
                <a:latin typeface="Verdana"/>
              </a:rPr>
              <a:t>Устойчива правна рамка, определяща задължителни минимални изисквания за всички участници в трудовия процес и ефективно правоприлагане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2060"/>
                </a:solidFill>
                <a:latin typeface="Verdana"/>
              </a:rPr>
              <a:t>Участие на социалните партньори на всички нива чрез тристранния и двустранния социален диалог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2060"/>
                </a:solidFill>
                <a:latin typeface="Verdana"/>
              </a:rPr>
              <a:t>Насърчаване на културата на превенция</a:t>
            </a:r>
            <a:r>
              <a:rPr b="0" lang="ru-RU" sz="1700" spc="-1" strike="noStrike">
                <a:solidFill>
                  <a:srgbClr val="002060"/>
                </a:solidFill>
                <a:latin typeface="Verdana"/>
              </a:rPr>
              <a:t> на професионалните и здравни рискове</a:t>
            </a:r>
            <a:r>
              <a:rPr b="0" lang="bg-BG" sz="1700" spc="-1" strike="noStrike">
                <a:solidFill>
                  <a:srgbClr val="002060"/>
                </a:solidFill>
                <a:latin typeface="Verdan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6067-A74A-4003-A7B8-F16BA972B0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Verdana"/>
              </a:rPr>
              <a:t>Законодателство в областта на БЗ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Verdana"/>
              </a:rPr>
              <a:t>Кодекс на труд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Verdana"/>
              </a:rPr>
              <a:t>Закон за здравословни и безопасни условия на труд (ЗЗБУТ) - въвежда Рамкова Директива 89/391/ЕИО за прилагане на мерки за насърчаване подобряването на безопасните и здравословни условия на труд на работещит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Verdana"/>
              </a:rPr>
              <a:t>Подзаконови нормативни актове - въвеждат в националното законодателство специалните директиви по смисъла на чл.16 ал.1 от Рамкова Директива 89/391/ЕИ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BC20-CC8B-4E9B-ADDD-092E422AB7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Verdana"/>
              </a:rPr>
              <a:t>Общи изисквания за безопасност и здраве при рабо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Verdana"/>
              </a:rPr>
              <a:t>Задължения на работодателит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2060"/>
                </a:solidFill>
                <a:latin typeface="Verdana"/>
              </a:rPr>
              <a:t>Общи задълж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3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2060"/>
                </a:solidFill>
                <a:latin typeface="Verdana"/>
              </a:rPr>
              <a:t>превенция на професионалните рискове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3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2060"/>
                </a:solidFill>
                <a:latin typeface="Verdana"/>
              </a:rPr>
              <a:t>предоставяне на информация и обучение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3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2060"/>
                </a:solidFill>
                <a:latin typeface="Verdana"/>
              </a:rPr>
              <a:t>осигуряване на необходимата организация и средства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2060"/>
                </a:solidFill>
                <a:latin typeface="Verdana"/>
              </a:rPr>
              <a:t>Създаване на условия за здравословни и безопасни условия на труд на работното място и при използване на работното оборудване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2060"/>
                </a:solidFill>
                <a:latin typeface="Verdana"/>
              </a:rPr>
              <a:t>Извършване на оценка на риска за здравето и безопасността и предоставяне на информация за рисковете </a:t>
            </a:r>
            <a:r>
              <a:rPr b="0" lang="bg-BG" sz="1400" spc="-1" strike="noStrike">
                <a:solidFill>
                  <a:srgbClr val="002060"/>
                </a:solidFill>
                <a:latin typeface="Verdana"/>
              </a:rPr>
              <a:t>(оценката на риска обхваща работните процеси и работното оборудване, помещенията, работните места, организацията на труда, използването на суровините и материалите, и други фактори на работната среда)</a:t>
            </a:r>
            <a:r>
              <a:rPr b="0" lang="bg-BG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A0F4-5BAE-4D2A-9853-DF9008EC74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05:30:16Z</dcterms:created>
  <dc:creator>Daiga Dimdiņa</dc:creator>
  <dc:description/>
  <dc:language>en-US</dc:language>
  <cp:lastModifiedBy>safety11</cp:lastModifiedBy>
  <dcterms:modified xsi:type="dcterms:W3CDTF">2014-10-15T11:02:03Z</dcterms:modified>
  <cp:revision>67</cp:revision>
  <dc:subject/>
  <dc:title>Workshop 1 Better Implementation of Community legislation on OSH</dc:title>
</cp:coreProperties>
</file>