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761E-4334-49D2-B8D4-DB5E5124F02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30EE-6723-4629-8117-358A3165AA54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0E33-B505-458F-A654-9379799FB68A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1609-0428-45F4-84B7-BAF817E581A5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D9CB-BC31-4F73-A0DA-69D8EF340042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61E8-75C5-4F2F-8D7E-09E184E289B5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850E-9CD9-4FB7-B9B8-CD67B2756351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1971-7A51-4A28-BC8C-2E1F6259CE32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FB9D-4DB8-444F-AA59-47D9B6AC7376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E15-C27E-46F9-81C5-04A95B60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B2D-2E72-4CFF-A9CA-8063DF6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4B9-DEAE-4DAA-BB42-0C9EA882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B4F-A448-462B-8116-51643D6E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723C-1415-435A-A81E-33BCA5F0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DEC7-0650-4E84-82CB-6C0F2627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83A9-4CDD-4C0E-9088-9D9C6B6E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EBCB-F1EF-453C-8D01-23AF103E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6532-4CB4-4549-A860-2AAAB772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1DEF-08D1-41C4-B169-36D1FC5A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1BD-401A-40F5-AA9C-951E575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C72-EC98-43C5-A9B1-EC72C0CF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7636-B296-491F-9FCA-CCF26A5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70F1-4D2E-4104-A700-417E7B20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5ADC-0393-4AC0-B0C5-9C5EFD02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DF4C-0B83-4E00-9B32-6AAD9B7E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AB40-4DCA-4AD5-8D22-55E09835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E8A-AF2D-4634-A6BA-8F187EAC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8B3-F789-432A-A173-0B26CAF9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461-771B-442F-9F7A-7A037641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64E-A5B3-4DFE-8C3E-A0B35826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04E-7870-450C-8926-2B372609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EDE-732C-4CA9-BCA5-3C4340C7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DF8-6B6B-46C2-9347-9B4DEAE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4D50-9CE3-4D63-8C79-0A39446BA7A6}" type="datetime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BC80-B569-4DCB-8F13-C70070278BD3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CD93-7DD7-4644-B166-4ECE50A9A350}" type="datetime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E5DD-68F4-4297-808D-C0EC93B4381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2852640"/>
            <a:ext cx="7561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Verdana"/>
              </a:rPr>
              <a:t>КОНФЕРЕНЦИЯ “ОКОЛНА СРЕДА, ЗДРАВОСЛОВНИ И БЕЗОПАСНИ УСЛОВИЯ НА ТРУД 2014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СЕСИЯ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Тема: </a:t>
            </a: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ЕВРОПЕЙСКИ ДИРЕКТИВИ И НОРМИ В ОБЛАСТТА НА </a:t>
            </a: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БЕЗОПАСНОСТТА И ЗДРАВЕТО ПРИ РАБО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16 октомври 2014 г., гр. София, Шератон Хотел Балк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4"/>
          <p:cNvPicPr/>
          <p:nvPr/>
        </p:nvPicPr>
        <p:blipFill>
          <a:blip r:embed="rId2"/>
          <a:stretch/>
        </p:blipFill>
        <p:spPr>
          <a:xfrm>
            <a:off x="539640" y="476280"/>
            <a:ext cx="3527640" cy="91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AEF4-BE42-4E66-A32E-646E2491F5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Общи изисквания за безопасност и здраве при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Задължения на работодатели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сигуряване на инструктаж и обучение по БЗР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пределяне на едно или повече длъжностни лица с подходящо образование и квалификация или създаване на специализирана служба за защитата и профилактиката на професионалните рисков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сигуряване на обслужване от служба по трудова медицин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Изграждане на Комитети и Групи по условия на труд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Информиране на работещите и техните представител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780-37C4-4D05-AB89-085BB349D5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Общи изисквания за безопасност и здраве при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Задължения на работодатели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Консултиране с работещите и осигуряване на тяхното участие в обсъждането на всички въпроси, свързани с безопасността и здравето при работ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сигуряване на мерки в случаи на извънредни обстоятелства (аварии) и предотвратяването на авар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Установяване, разследване и регистриране на трудови злополуки и професионални болес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Задължително осигуряване за трудова злополука и професионална болест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Задължително застраховане на работещите за риска “трудова злополука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F88-D383-425E-855D-8A22C23A29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755720"/>
          <a:ext cx="8028000" cy="427824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311480"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мкова Директива 89/391/ЕИО</a:t>
                      </a: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12 юни 1989 г. за въвеждане на мерки за насърчаване подобряването на безопасността и здравето на работещите при работа, изменена с Директива 2007/30/Е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Закон за здравословни и безопасни условия на труд (ЗЗБУТ), Кодекс на труда, Наредба № 7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за минималните изисквания за здравословни и безопасни условия на труд на работните места и при използване на работното оборудване (ДВ, бр. 88 от 199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230120"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89/654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0 ноември 1989 г. относно минималните изисквания за безопасност и здраве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ното мяст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-ва специална директива по смисъла на член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7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от 1999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МТСП и МЗ за минималните изисквания за здравословни и безопасни условия на труд на работните места и при използване на работното оборудване (ДВ, бр. 88 от 199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736640"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9/104/Е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на Съвета от 16 септември 2009 г. относно минималните изисквания за безопасността и здравето на работещите при използване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ното оборудване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- 2-ра специална директива по смисъла на чл. 16, параграф 1 от Директива 89/391/ЕИО – кодифициране на директива 89/655/ЕИО, изменена с директиви 95/63/ЕО и 2001/45/Е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7 от 1999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МТСП и МЗ от 1999 г. за минималните изисквания за здравословни и безопасни условия на труд на работните места и при използване на работното оборудване (ДВ, бр. 88 от 199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E7B-9061-4C82-AEF7-C27561823F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1773360"/>
          <a:ext cx="8028000" cy="423540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31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89/656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0 ноември 1989 г.  относно минималните изисквания за безопасността и здравето на работещите при използването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лични предпазни средства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работното място - 3 – 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3 от 2001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и МЗ  за минималните изисквания за защита на здравето и безопасността на работещите при използване на лични предпазни средства на работното място (ДВ, бр. 46 от 2001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584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0/269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29 май 1990 г. относно минималните изисквания за здравословни и безопасни условия на труд при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ъчна обработка на товар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когато съществува опасност конкретно от нараняване на гърба на работниците – 4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16 от 1999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физиологични норми и правила за ръчна работа с тежести (ДВ, бр. 54 от 199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219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0/270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29 май 1990 г. относно минималните изисквания за безопасност и здраве при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а с екранно оборудване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5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7 от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2005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осигуряване на здравословни и безопасни условия на труд при работа с видеодисплеи (ДВ, бр. 70 от 26.08.2005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A7D-7EC4-40BD-B3ED-57AF569BC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1773360"/>
          <a:ext cx="8028000" cy="423684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31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4/37/Е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на Съвета от 29 април 2004 г. относно защитата на работниците от рискове, свързани с експозицията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канцерогени и мутаген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– 6-та специална директива по смисъла на чл. 16, параграф 1 от Директива 89/391/ЕИО – Кодификация на Директива 90/394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10 от 2003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защита на работещите от рискове, свързани с експозиция на канцерогени и мутагени при работа  (ДВ, бр. 94 от 2003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0/54/Е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Европейски парламент и на Съвета от 18 септември 2000 г. относно защита на работниците от рисковете, свързани с експозицията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биологични агент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– 7-ма специална директива по смисъла на чл. 16, параграф 1 от Директива 89/391/ЕИО - Кодификация на Директива 90/679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4 от 2002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за защита на работещите от рискове, свързани с експозиция на биологични агенти при работа  (ДВ, бр. 105 от 8.11.2002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57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24 юни 1992 г. за прилагане на минимални изисквания за безопасност и здраве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временни или подвижни строителни площадк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8-м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2 от 2004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и МРРБ за минималните изисквания за здравословни и безопасни условия на труд при извършване на строителни и монтажни работи  (ДВ, бр. 37 от 2004 г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471-BE52-4AD1-97C7-DEB0A634D0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773360"/>
          <a:ext cx="8028000" cy="424800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00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58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24 юни 1992 г. относно минималните изисквания за осигуряване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знаци за безопасност и/или здраве при работа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9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РД-07/8 от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2008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знаци и сигнали за безопасност и/или здраве при работа (ДВ, бр. 3 от 200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01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85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19 октомври 1992 г. за въвеждане на мерки за насърчаване подобряването на безопасността и здравето при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а на бременни работнички и на работнички-родилки или кърмачк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0-та специална директива по смисъла на чл.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Кодекс на труда; Закон за защита срещу дискриминация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4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91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 ноември 1992 г. за минималните изисквания за подобряване на безопасността и здравето на работниците при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обив на минерални суровини чрез сондиране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11-та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специална директива по смисъла на чл.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9 от 2003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осигуряване на безопасността и здравето на работещите при добиване на подземни богатства чрез сондиране (ДВ, бр. 79 от 2003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F8A-D452-4EC7-B6E8-41A4AD32E7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1773360"/>
          <a:ext cx="8028000" cy="437040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63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104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 декември 1992 г. относно минималните изисквания за подобряване безопасността и здравето на работниците в отрасли, свързани с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одземния добив на минерал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- 12-та специална директива по смисъла на чл.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9 от 1997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МТСП за общи правила за управление на дейността по осигуряване на безопасността и опазване здравето на работещите в мините (ДВ, бр. 123 от 1997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309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3/103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23 ноември 1993 г.  относно минималните изисквания за безопасност и здраве при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а на борда на риболовни кораб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- 13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за трудовите и непосредствено свързани с тях отношения между членовете на екипажа на кораба и корабопритежателя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(Приета с ПМС № 226 от 14.10.2003 г., обн., ДВ, бр. 93 от 2003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597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8/24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7 април 1998 г.  за защита на здравето и безопасността на работниците от рискове, свързани с експозиция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химични агент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– 14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13 от 2003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и МЗ за защита на работещите от рискове, свързани с експозиция на химични агенти при работа (ДВ, бр. 8 от 2004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427-258D-48D4-A5BA-B93B991543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9640" y="1735200"/>
          <a:ext cx="8028000" cy="435780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01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1999/92/Е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Съвета от 16 декември 1999 г. относно минималните изисквания за подобряване защитата на здравето и безопасността на работниците при потенциален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иск от експлозивни атмосфер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5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11 от 2004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за минималните изисквания за осигуряване на безопасността и здравето на работещите при потенциален риск от експлозивна атмосфера (ДВ. бр.6 от 2005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554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2/44/E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Съвета от 25 юни 2002 г.  относно минималните изисквания за осигуряване на здравето и безопасността на работещите при рискове, свързани с експозиция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физични агенти (вибрации)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6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 от 2005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МТСП и МЗ за минималните  изисквания за осигуряване на здравето и безопасността на работещите при рискове, свързани с експозиция на вибрации (ДВ, бр. 40 от 12.05.2005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01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3/10/E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Съвета от 6 февруари 2003 г.  относно минималните изисквания за защита на здравето и безопасността на работещите при рискове, свързани с експозиция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физични агенти (шум)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7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6 от 2005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осигуряване на здравето и безопасността на работещите при рискове, свързани с експозиция на шум (ДВ, бр. 70 от 26.08.2005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543-9048-4997-B593-D7FE941FC4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9640" y="2205000"/>
          <a:ext cx="7956720" cy="3565440"/>
        </p:xfrm>
        <a:graphic>
          <a:graphicData uri="http://schemas.openxmlformats.org/drawingml/2006/table">
            <a:tbl>
              <a:tblPr/>
              <a:tblGrid>
                <a:gridCol w="4006800"/>
                <a:gridCol w="3949920"/>
              </a:tblGrid>
              <a:tr h="173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6/25/Е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Европейския парламент и Съвета от 5 април 2006 г. относно минималните изисквания за здраве и безопасност, свързани с експозицията на работниците на рисковете от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физически агенти (изкуствени оптични лъчения)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9-та специална директива по смисъла на член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5 от 2010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осигуряване на здравето и безопасността на работещите при рискове, свързани с експозиция на изкуствени оптични лъчения (ДВ. бр.49 от 2010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9/148/E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Съвета от 30 ноември 2009 г. относно защитата на работещите от рискове, свързани с експозиция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азбест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- Кодификация на Директива 83/477/ЕИО, изменена с директиви 91/382/ЕИО и 2003/18/ЕО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Закон за изменение и допълнение на Закона за здравет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ДВ, бр. 59 от 21 юли 2006 г.)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9 от 4 август 2006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и МЗ за защита на работещите от рискове, свързани с експозиция на азбест при работа (ДВ, бр. 71 от 1 септември 2006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3F6-3E38-4FEA-B513-7AD48160E3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1773360"/>
          <a:ext cx="8028000" cy="417672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00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1/383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25 юни 1991 г. за допълнение на мерките за насърчаване подобряването на безопасността и здравето при работа на работниците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срочно трудово правоотношение или временно трудово правоотнош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5 от 2006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за осигуряване на здравословни и безопасни условия на труд на работниците по срочно трудово правоотношение или временно трудово правоотношение (ДВ. бр.43 от 26 Май 2006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07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29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1 март 1992 г. относно минималните изисквания за безопасност и здраве за подобряване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медицинското обслужване на борда на плавателните съдов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9 от 2003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едицинското обслужване на корабите, издадена от министъра на транспорта и съобщенията и министъра на здравеопазването (ДВ, бр. 17 от 2003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368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4/33/Е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22 юни 1994 г. з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закрила на младите хора при работа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6 от 2006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за условията и реда за даване на разрешения за работа на лица, ненавършили 18 години ( ДВ. бр.64 от 8 Август 2006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A93-9DA1-4A95-94A8-7D75D345B8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Политика на Република България в областта на безопасността и здравето при работа (БЗР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Политиката на Р България за здравословни и безопасни условия на труд е съобразена със стратегическите документи на Европейския съюз и на Международната организация на труд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тратегия Европа 2020 за интелигентен, устойчив и приобщаващ растеж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тратегическата рамка на ЕС за безопасност и здраве при работа 2014—2020 годи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Глобалната стратегия на МОТ за БЗ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9B6-6875-4DD0-AFC6-D7B8D93DA3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Предстои въвеждането в националното законодателство на две нови Европейски директив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Директива 2013/35/ЕС</a:t>
            </a: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 на Европейския парламент и на Съвета от 26 юни 2013 година относно минималните изисквания за здраве и безопасност, свързани с експозицията на работниците на рискове, дължащи се на </a:t>
            </a:r>
            <a:r>
              <a:rPr b="0" i="1" lang="bg-BG" sz="1600" spc="-1" strike="noStrike">
                <a:solidFill>
                  <a:srgbClr val="003366"/>
                </a:solidFill>
                <a:latin typeface="Verdana"/>
              </a:rPr>
              <a:t>физически агенти (електромагнитни полета)</a:t>
            </a: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 (Двадесета специална директива по смисъла на член 16, параграф 1 от Директива 89/391/ЕИО) и за отмяна на Директива 2004/40/ЕО – </a:t>
            </a:r>
            <a:r>
              <a:rPr b="0" lang="bg-BG" sz="1600" spc="-1" strike="noStrike">
                <a:solidFill>
                  <a:srgbClr val="ff0000"/>
                </a:solidFill>
                <a:latin typeface="Verdana"/>
              </a:rPr>
              <a:t>срок за въвеждане от държавите-членки – 1 юли 2016 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Директива 2014/27/EС </a:t>
            </a: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на Европейския парламент и на Съвета от 26 февруари 2014 година за изменение на директиви 92/58/ЕИО, 92/85/ЕИО, 94/33/ЕО, 98/24/ЕО на Съвета и на Директива 2004/37/ЕО на Европейския парламент и на Съвета, за да се приведат в съответствие с Регламент (ЕО) № 1272/2008 относно класифицирането, етикетирането и опаковането на вещества и смеси - </a:t>
            </a:r>
            <a:r>
              <a:rPr b="0" lang="bg-BG" sz="1600" spc="-1" strike="noStrike">
                <a:solidFill>
                  <a:srgbClr val="ff0000"/>
                </a:solidFill>
                <a:latin typeface="Verdana"/>
              </a:rPr>
              <a:t>срок за въвеждане от държавите-членки – 1 юни 2015 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F54-0C46-40F7-8879-851CF29966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Стратегическа рамка на ЕС за безопасност и здраве при работа за периода 2014—2020 год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Три основни предизвикателств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Подобряване на прилагането в държавите членки, по-специално чрез подобряване на капацитета на микропредприятията и малките предприятия да въвеждат ефективни и ефикасни мерки за предотвратяване на рис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Подобряване на превенцията на свързаните с труда заболявания чрез преодоляване на съществуващи, нови и възникващи рисков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правяне с демографската промяна в Е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48F-1043-4C2A-B9FB-B8DBB04411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Стратегическа рамка на ЕС за безопасност и здраве при работа за периода 2014—2020 год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Verdana"/>
              </a:rPr>
              <a:t>Седем стратегически цел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Допълнително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консолидиране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 на националните стратег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Улесняване на спазването 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на законодателството в областта на БЗР, по-специално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от микропредприятията и малките предприятия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По-добро прилагане на законодателството 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в областта на БЗР от държавите членк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Опростяване (рационализиране) 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на съществуващото законодателство</a:t>
            </a:r>
            <a:r>
              <a:rPr b="0" lang="bg-BG" sz="1500" spc="-1" strike="noStrike">
                <a:solidFill>
                  <a:srgbClr val="002060"/>
                </a:solidFill>
                <a:latin typeface="Arial"/>
              </a:rPr>
              <a:t>; (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Програмата на ЕК за пригодност и резултатност на регулаторната рамка REFI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Преодоляване на проблемите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, свързани със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застаряването на работната сила, възникващите нови рискове, превенция на свързаните с работата и професионални заболявания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Подобряване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 на събирането на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статистическите данни и разработване на информационна база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Подобрено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координиране на усилията на ЕС и международните усилия 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за преодоляване на проблемите, свързани с БЗР и ангажиране на международни организаци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DB6-6F69-49F5-9664-A11D54F88F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Стратегическа рамка на ЕС за безопасност и здраве при работа за периода 2014—2020 год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Verdana"/>
              </a:rPr>
              <a:t>Инструменти на ЕС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Законодателств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Фондове на ЕС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оциален диало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Комуникации и информа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ъгласуваност с други области на политиката:</a:t>
            </a:r>
            <a:r>
              <a:rPr b="0" i="1" lang="bg-BG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образование; научни изследвания; обществено здравеопазване; околна среда; индустриална политика; равенст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B53-6E9D-4705-849F-269341AD91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Национална програма по безопасност и здраве при работа – 2014 година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НПБЗР – 2014 г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НПБЗР – 2014 г. включва и доразвива основните </a:t>
            </a:r>
            <a:r>
              <a:rPr b="0" i="1" lang="bg-BG" sz="1800" spc="-1" strike="noStrike">
                <a:solidFill>
                  <a:srgbClr val="002060"/>
                </a:solidFill>
                <a:latin typeface="Verdana"/>
              </a:rPr>
              <a:t>приоритети</a:t>
            </a: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 от Стратегията по безопасност и здраве при работа 2008-2012 г., като следва и новите насоки за развитие на политиката на Европейския съюз, очертани от Европейската комисия в приоритетите на Стратегия Европа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Verdana"/>
              </a:rPr>
              <a:t>Основна цел</a:t>
            </a: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 на НПБЗР – 2014 г. е превенция на свързаните с работата заболявания, професионални болести и трудови злополуки. Цялостната концепция на програмата е насочена към превенция преди рехабилитацията и рехабилитация преди преждевременното напускане на пазара на тру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397-079E-4D8D-A2BB-D30E29AD55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Политика на Р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България в областта на безопасността и здравето при рабо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Verdana"/>
              </a:rPr>
              <a:t>Устойчива правна рамка, определяща задължителни минимални изисквания за всички участници в трудовия процес и ефективно правоприлаган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Verdana"/>
              </a:rPr>
              <a:t>Участие на социалните партньори на всички нива чрез тристранния и двустранния социален диалог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Verdana"/>
              </a:rPr>
              <a:t>Насърчаване на културата на превенция</a:t>
            </a:r>
            <a:r>
              <a:rPr b="0" lang="ru-RU" sz="1700" spc="-1" strike="noStrike">
                <a:solidFill>
                  <a:srgbClr val="002060"/>
                </a:solidFill>
                <a:latin typeface="Verdana"/>
              </a:rPr>
              <a:t> на професионалните и здравни рискове</a:t>
            </a:r>
            <a:r>
              <a:rPr b="0" lang="bg-BG" sz="17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5E4-177B-41F4-A800-FF20DE0A6E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Законодателство в областта на БЗ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Кодекс на труд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Закон за здравословни и безопасни условия на труд (ЗЗБУТ) - въвежда Рамкова Директива 89/391/ЕИО за прилагане на мерки за насърчаване подобряването на безопасните и здравословни условия на труд на работещит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Подзаконови нормативни актове - въвеждат в националното законодателство специалните директиви по смисъла на чл.16 ал.1 от Рамкова Директива 89/391/ЕИ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C19-F7BC-4755-BBC1-96C0CD6123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Общи изисквания за безопасност и здраве при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Задължения на работодатели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бщи задъл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060"/>
                </a:solidFill>
                <a:latin typeface="Verdana"/>
              </a:rPr>
              <a:t>превенция на професионалните рисков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060"/>
                </a:solidFill>
                <a:latin typeface="Verdana"/>
              </a:rPr>
              <a:t>предоставяне на информация и обуч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060"/>
                </a:solidFill>
                <a:latin typeface="Verdana"/>
              </a:rPr>
              <a:t>осигуряване на необходимата организация и средств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Създаване на условия за здравословни и безопасни условия на труд на работното място и при използване на работното оборудван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Извършване на оценка на риска за здравето и безопасността и предоставяне на информация за рисковете </a:t>
            </a:r>
            <a:r>
              <a:rPr b="0" lang="bg-BG" sz="1400" spc="-1" strike="noStrike">
                <a:solidFill>
                  <a:srgbClr val="002060"/>
                </a:solidFill>
                <a:latin typeface="Verdana"/>
              </a:rPr>
              <a:t>(оценката на риска обхваща работните процеси и работното оборудване, помещенията, работните места, организацията на труда, използването на суровините и материалите, и други фактори на работната среда)</a:t>
            </a: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4C2-0273-4CD4-860B-1E33C88920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5:30:16Z</dcterms:created>
  <dc:creator>Daiga Dimdiņa</dc:creator>
  <dc:description/>
  <dc:language>en-US</dc:language>
  <cp:lastModifiedBy>safety11</cp:lastModifiedBy>
  <dcterms:modified xsi:type="dcterms:W3CDTF">2014-10-15T11:02:03Z</dcterms:modified>
  <cp:revision>67</cp:revision>
  <dc:subject/>
  <dc:title>Workshop 1 Better Implementation of Community legislation on OSH</dc:title>
</cp:coreProperties>
</file>