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1A1A-CA08-42AD-A28D-710FD4F13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звършва се пропорционално на дяловете на съответния вид енергия в общото КЕП през последната календарна година за която има статистически данни – в случая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Дяловете на националната индикативна цел по видове енергия за базовата 2007 г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ъглища – 8,6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рироден газ – 11,4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ефтопродукти – 39,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Биомаси и други ВЕИ (малко геотермална енергия) – 7,5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Електроенергия – 24,6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оплоенергия (топлофикация) – 8,7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звършва се пропорционално на дяловете на съответния сектор, в който има задължени лица, от общото КЕП през последната календарна година за която има статистически данни – в случая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Дяловете на секторите в които има задължени лица от общата национална индикативна це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ндустрия – 37,9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ранспорт – 28,1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Услуги – 9,4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Общо – 75,4 % от КЕ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F40-D8DF-4729-8D86-3E79951B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027-0403-4905-ABE4-E445B0B9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8C9-12B7-4886-A378-085FBF19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51E-0667-4213-BF9F-7631BDDE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59B-670B-439C-87B9-33599D3F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F2F-913E-4C6D-9B7A-4308428E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29BA-5910-444A-BD9B-45FAC3E5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77FF-5F7A-4ED9-BEFE-FE74264B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3EB1-9F91-4BB2-982E-D13CF54C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B811-45F4-499D-BC61-1A6FD3B8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D4FE-68E2-4940-ACA3-D1638478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524-DF7A-4071-A956-2EAEE5D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E7C5-EDDB-4A1E-99D0-6EEA271F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387E-DBB9-485F-969C-41C5F90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91EB-4B15-45F4-B3E5-DA7DCA83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69A9-19BC-48B9-A3E7-B540E474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1651-0987-4EDF-8442-F05DCC76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0B1-DF14-4EAE-B71C-7FF0C3F9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B54-3A3E-4299-A61B-C5DFB34F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4A6-2F08-4BE2-889F-1C70614A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C0D-C117-4C68-87AE-1CC8E9F9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975-C2C7-472C-94A7-63FD3730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611-7C50-4D68-B316-11D09793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A1D-DE41-421F-8D80-937C90C4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5E67-25FA-4514-B752-DD002FD4C06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6960" y="442800"/>
            <a:ext cx="8165880" cy="695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14040" y="6062400"/>
            <a:ext cx="8878680" cy="360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3640" y="3141720"/>
            <a:ext cx="5689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48DB-F8FF-4C26-98DA-A2F19C451F3F}" type="datetime3">
              <a:rPr b="0" lang="bg-BG" sz="1200" spc="-1" strike="noStrike">
                <a:solidFill>
                  <a:srgbClr val="000000"/>
                </a:solidFill>
                <a:latin typeface="Garamond"/>
              </a:rPr>
              <a:t>29 юли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0610-189E-498C-AFDD-D4E7B9C765F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3068640"/>
            <a:ext cx="57596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0800000">
            <a:off x="3131640" y="5308560"/>
            <a:ext cx="57596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34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3141720"/>
            <a:ext cx="568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ндивидуални цели за енергийните спестявания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131640" y="4724280"/>
            <a:ext cx="568980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Дирекц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Планове, програми и международно сътрудничество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208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В обекти на крайните потребители на енергия – сгради и промишлени систе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чрез обследване за енергийна ефективност преди и след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зпълнението на мерк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чрез оценка по специализираните методики преди и след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зпълнението на мерк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В отделни съоръжения на крайните потребители на енергия се извършва оценка по специализираните методики, преди и след изпълнението на мерките за повишаване на енергийнат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твърждаване на енергийните спестявани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ABB-5169-4AA6-9AB5-031DAAD493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F254A-3E09-426A-9352-FB1C825F905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08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Удостоверенията се издават от изпълнителния директор на АЕЕ и се използват за потвърждаване изпълнението на определените индивидуални цели от задължените ли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Удостоверенията съдърж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Вид и наименование на задълженото лиц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Наименование и адрес на обекта и име на собстве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Изпълнени мерки и съответно постигнатите с всяка мярка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йни спестя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Размер на вложените инвестиции за изпълнение на мерките и лицето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което ги е осигури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Когато във финансирането и/или изпълнението на мярка за повишаване и на необходимите обследвания за енергийна ефективност участват едновременно две задължени лица – търговец на енергия и краен потребител, удостоверения се издават и на двете лиц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достоверения за енергийните спестявани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988-B31B-44F1-8562-8B9AB7CD691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F0724-8612-4C94-BDB5-D1C0B44BEA2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642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ндивидуални цели на енергийни спестяван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720" y="1844640"/>
            <a:ext cx="745164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ндивидуалната цел за енергийни спестявания до 2016 г. не означава намаляване на потреблението, а доказване, че ако не бяха предприетите мерки за повишаване на енергийната ефективност, потреблението на енергия щеше да бъде пове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Всички реализирани мерки за повишаване на енергийната ефективност, в сградите след 1991 г., а за останалите мерки след 1995 г., се признават в съответствие със срока им на действие при отчитане на изпълнението на индивидуалната ц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2CB-9997-487F-B03F-BC45B725A96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EC692-1061-49F0-94F7-96E7F8E4F16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реме за въпроси и дискус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2098800"/>
            <a:ext cx="4533840" cy="4284360"/>
            <a:chOff x="0" y="2098800"/>
            <a:chExt cx="4533840" cy="4284360"/>
          </a:xfrm>
        </p:grpSpPr>
        <p:sp>
          <p:nvSpPr>
            <p:cNvPr id="131" name=""/>
            <p:cNvSpPr/>
            <p:nvPr/>
          </p:nvSpPr>
          <p:spPr>
            <a:xfrm>
              <a:off x="103320" y="2203560"/>
              <a:ext cx="4430520" cy="3968640"/>
            </a:xfrm>
            <a:custGeom>
              <a:avLst/>
              <a:gdLst/>
              <a:ahLst/>
              <a:rect l="l" t="t" r="r" b="b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38440" y="3340080"/>
              <a:ext cx="2689200" cy="2773440"/>
            </a:xfrm>
            <a:custGeom>
              <a:avLst/>
              <a:gdLst/>
              <a:ahLst/>
              <a:rect l="l" t="t" r="r" b="b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5320" y="3473280"/>
              <a:ext cx="2446560" cy="2681280"/>
            </a:xfrm>
            <a:custGeom>
              <a:avLst/>
              <a:gdLst/>
              <a:ahLst/>
              <a:rect l="l" t="t" r="r" b="b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41800" y="3452760"/>
              <a:ext cx="787320" cy="422280"/>
            </a:xfrm>
            <a:custGeom>
              <a:avLst/>
              <a:gdLst/>
              <a:ahLst/>
              <a:rect l="l" t="t" r="r" b="b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1400" y="2098800"/>
              <a:ext cx="422280" cy="28872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44480" y="3559320"/>
              <a:ext cx="1560600" cy="2692080"/>
            </a:xfrm>
            <a:custGeom>
              <a:avLst/>
              <a:gdLst/>
              <a:ahLst/>
              <a:rect l="l" t="t" r="r" b="b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400" y="4095720"/>
              <a:ext cx="871560" cy="1279440"/>
            </a:xfrm>
            <a:custGeom>
              <a:avLst/>
              <a:gdLst/>
              <a:ahLst/>
              <a:rect l="l" t="t" r="r" b="b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25520" y="2311560"/>
              <a:ext cx="944640" cy="1647720"/>
            </a:xfrm>
            <a:custGeom>
              <a:avLst/>
              <a:gdLst/>
              <a:ahLst/>
              <a:rect l="l" t="t" r="r" b="b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1480" y="2467080"/>
              <a:ext cx="922320" cy="1465200"/>
            </a:xfrm>
            <a:custGeom>
              <a:avLst/>
              <a:gdLst/>
              <a:ahLst/>
              <a:rect l="l" t="t" r="r" b="b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8480" y="2114640"/>
              <a:ext cx="1127160" cy="992160"/>
            </a:xfrm>
            <a:custGeom>
              <a:avLst/>
              <a:gdLst/>
              <a:ahLst/>
              <a:rect l="l" t="t" r="r" b="b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7680" y="3146400"/>
              <a:ext cx="339840" cy="249120"/>
            </a:xfrm>
            <a:custGeom>
              <a:avLst/>
              <a:gdLst/>
              <a:ahLst/>
              <a:rect l="l" t="t" r="r" b="b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70200" y="3021120"/>
              <a:ext cx="236520" cy="253800"/>
            </a:xfrm>
            <a:custGeom>
              <a:avLst/>
              <a:gdLst/>
              <a:ahLst/>
              <a:rect l="l" t="t" r="r" b="b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95440" y="3181320"/>
              <a:ext cx="18108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30560" y="2664000"/>
              <a:ext cx="852480" cy="738000"/>
            </a:xfrm>
            <a:custGeom>
              <a:avLst/>
              <a:gdLst/>
              <a:ahLst/>
              <a:rect l="l" t="t" r="r" b="b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21080" y="2208240"/>
              <a:ext cx="556920" cy="660240"/>
            </a:xfrm>
            <a:custGeom>
              <a:avLst/>
              <a:gdLst/>
              <a:ahLst/>
              <a:rect l="l" t="t" r="r" b="b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73160" y="2336760"/>
              <a:ext cx="287280" cy="38268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9240" y="3021120"/>
              <a:ext cx="244440" cy="120600"/>
            </a:xfrm>
            <a:custGeom>
              <a:avLst/>
              <a:gdLst/>
              <a:ahLst/>
              <a:rect l="l" t="t" r="r" b="b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46440" y="5337000"/>
              <a:ext cx="1144440" cy="433440"/>
            </a:xfrm>
            <a:custGeom>
              <a:avLst/>
              <a:gdLst/>
              <a:ahLst/>
              <a:rect l="l" t="t" r="r" b="b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3080" y="5407200"/>
              <a:ext cx="1094040" cy="401400"/>
            </a:xfrm>
            <a:custGeom>
              <a:avLst/>
              <a:gdLst/>
              <a:ahLst/>
              <a:rect l="l" t="t" r="r" b="b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3624120"/>
              <a:ext cx="2016000" cy="2759040"/>
            </a:xfrm>
            <a:custGeom>
              <a:avLst/>
              <a:gdLst/>
              <a:ahLst/>
              <a:rect l="l" t="t" r="r" b="b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360" y="4100400"/>
              <a:ext cx="820800" cy="990720"/>
            </a:xfrm>
            <a:custGeom>
              <a:avLst/>
              <a:gdLst/>
              <a:ahLst/>
              <a:rect l="l" t="t" r="r" b="b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1200" y="5234040"/>
              <a:ext cx="1754280" cy="1139760"/>
            </a:xfrm>
            <a:custGeom>
              <a:avLst/>
              <a:gdLst/>
              <a:ahLst/>
              <a:rect l="l" t="t" r="r" b="b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3880" y="3660840"/>
              <a:ext cx="1033560" cy="939600"/>
            </a:xfrm>
            <a:custGeom>
              <a:avLst/>
              <a:gdLst/>
              <a:ahLst/>
              <a:rect l="l" t="t" r="r" b="b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81080" y="4121280"/>
              <a:ext cx="247680" cy="392040"/>
            </a:xfrm>
            <a:custGeom>
              <a:avLst/>
              <a:gdLst/>
              <a:ahLst/>
              <a:rect l="l" t="t" r="r" b="b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3240" y="4295880"/>
              <a:ext cx="852840" cy="1226880"/>
            </a:xfrm>
            <a:custGeom>
              <a:avLst/>
              <a:gdLst/>
              <a:ahLst/>
              <a:rect l="l" t="t" r="r" b="b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90720" y="4013280"/>
              <a:ext cx="492120" cy="1703160"/>
            </a:xfrm>
            <a:custGeom>
              <a:avLst/>
              <a:gdLst/>
              <a:ahLst/>
              <a:rect l="l" t="t" r="r" b="b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22480" y="4238640"/>
              <a:ext cx="152640" cy="468360"/>
            </a:xfrm>
            <a:custGeom>
              <a:avLst/>
              <a:gdLst/>
              <a:ahLst/>
              <a:rect l="l" t="t" r="r" b="b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2240" y="5616720"/>
              <a:ext cx="841320" cy="722160"/>
            </a:xfrm>
            <a:custGeom>
              <a:avLst/>
              <a:gdLst/>
              <a:ahLst/>
              <a:rect l="l" t="t" r="r" b="b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4320" y="5664240"/>
              <a:ext cx="517680" cy="620640"/>
            </a:xfrm>
            <a:custGeom>
              <a:avLst/>
              <a:gdLst/>
              <a:ahLst/>
              <a:rect l="l" t="t" r="r" b="b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21080" y="5862600"/>
              <a:ext cx="398160" cy="424080"/>
            </a:xfrm>
            <a:custGeom>
              <a:avLst/>
              <a:gdLst/>
              <a:ahLst/>
              <a:rect l="l" t="t" r="r" b="b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89160" y="5329080"/>
              <a:ext cx="108000" cy="19548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68720" y="5241960"/>
              <a:ext cx="304560" cy="347760"/>
            </a:xfrm>
            <a:custGeom>
              <a:avLst/>
              <a:gdLst/>
              <a:ahLst/>
              <a:rect l="l" t="t" r="r" b="b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44960" y="4713120"/>
              <a:ext cx="101520" cy="882720"/>
            </a:xfrm>
            <a:custGeom>
              <a:avLst/>
              <a:gdLst/>
              <a:ahLst/>
              <a:rect l="l" t="t" r="r" b="b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9640" y="4740120"/>
              <a:ext cx="98280" cy="843120"/>
            </a:xfrm>
            <a:custGeom>
              <a:avLst/>
              <a:gdLst/>
              <a:ahLst/>
              <a:rect l="l" t="t" r="r" b="b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11560" y="5041800"/>
              <a:ext cx="571320" cy="459000"/>
            </a:xfrm>
            <a:custGeom>
              <a:avLst/>
              <a:gdLst/>
              <a:ahLst/>
              <a:rect l="l" t="t" r="r" b="b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38320" y="5122800"/>
              <a:ext cx="1490760" cy="870120"/>
            </a:xfrm>
            <a:custGeom>
              <a:avLst/>
              <a:gdLst/>
              <a:ahLst/>
              <a:rect l="l" t="t" r="r" b="b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22480" y="5345280"/>
              <a:ext cx="1354320" cy="660240"/>
            </a:xfrm>
            <a:custGeom>
              <a:avLst/>
              <a:gdLst/>
              <a:ahLst/>
              <a:rect l="l" t="t" r="r" b="b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54160" y="5730840"/>
              <a:ext cx="233640" cy="181080"/>
            </a:xfrm>
            <a:custGeom>
              <a:avLst/>
              <a:gdLst/>
              <a:ahLst/>
              <a:rect l="l" t="t" r="r" b="b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11320" y="5873760"/>
              <a:ext cx="198720" cy="13968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8960" y="5160960"/>
              <a:ext cx="1230120" cy="708120"/>
            </a:xfrm>
            <a:custGeom>
              <a:avLst/>
              <a:gdLst/>
              <a:ahLst/>
              <a:rect l="l" t="t" r="r" b="b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4080" y="2549520"/>
              <a:ext cx="1081080" cy="1585800"/>
            </a:xfrm>
            <a:custGeom>
              <a:avLst/>
              <a:gdLst/>
              <a:ahLst/>
              <a:rect l="l" t="t" r="r" b="b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4320" y="2546280"/>
              <a:ext cx="898560" cy="1503360"/>
            </a:xfrm>
            <a:custGeom>
              <a:avLst/>
              <a:gdLst/>
              <a:ahLst/>
              <a:rect l="l" t="t" r="r" b="b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6280" y="2311560"/>
              <a:ext cx="1346040" cy="1320480"/>
            </a:xfrm>
            <a:custGeom>
              <a:avLst/>
              <a:gdLst/>
              <a:ahLst/>
              <a:rect l="l" t="t" r="r" b="b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2575080"/>
              <a:ext cx="217440" cy="896760"/>
            </a:xfrm>
            <a:custGeom>
              <a:avLst/>
              <a:gdLst/>
              <a:ahLst/>
              <a:rect l="l" t="t" r="r" b="b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3560" y="2408400"/>
              <a:ext cx="871560" cy="849240"/>
            </a:xfrm>
            <a:custGeom>
              <a:avLst/>
              <a:gdLst/>
              <a:ahLst/>
              <a:rect l="l" t="t" r="r" b="b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640" y="2400480"/>
              <a:ext cx="376200" cy="372960"/>
            </a:xfrm>
            <a:custGeom>
              <a:avLst/>
              <a:gdLst/>
              <a:ahLst/>
              <a:rect l="l" t="t" r="r" b="b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2240" y="3346560"/>
              <a:ext cx="219240" cy="230040"/>
            </a:xfrm>
            <a:custGeom>
              <a:avLst/>
              <a:gdLst/>
              <a:ahLst/>
              <a:rect l="l" t="t" r="r" b="b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2160" y="3351240"/>
              <a:ext cx="55440" cy="187200"/>
            </a:xfrm>
            <a:custGeom>
              <a:avLst/>
              <a:gdLst/>
              <a:ahLst/>
              <a:rect l="l" t="t" r="r" b="b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6640" y="3365640"/>
              <a:ext cx="58680" cy="172800"/>
            </a:xfrm>
            <a:custGeom>
              <a:avLst/>
              <a:gdLst/>
              <a:ahLst/>
              <a:rect l="l" t="t" r="r" b="b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1960" y="3481560"/>
              <a:ext cx="185760" cy="12528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16000" y="2314800"/>
            <a:ext cx="4533840" cy="4284360"/>
            <a:chOff x="216000" y="2314800"/>
            <a:chExt cx="4533840" cy="4284360"/>
          </a:xfrm>
        </p:grpSpPr>
        <p:sp>
          <p:nvSpPr>
            <p:cNvPr id="182" name=""/>
            <p:cNvSpPr/>
            <p:nvPr/>
          </p:nvSpPr>
          <p:spPr>
            <a:xfrm>
              <a:off x="319320" y="2419560"/>
              <a:ext cx="4430520" cy="3968640"/>
            </a:xfrm>
            <a:custGeom>
              <a:avLst/>
              <a:gdLst/>
              <a:ahLst/>
              <a:rect l="l" t="t" r="r" b="b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54440" y="3556080"/>
              <a:ext cx="2689200" cy="2773440"/>
            </a:xfrm>
            <a:custGeom>
              <a:avLst/>
              <a:gdLst/>
              <a:ahLst/>
              <a:rect l="l" t="t" r="r" b="b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1320" y="3689280"/>
              <a:ext cx="2446560" cy="2681280"/>
            </a:xfrm>
            <a:custGeom>
              <a:avLst/>
              <a:gdLst/>
              <a:ahLst/>
              <a:rect l="l" t="t" r="r" b="b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7800" y="3668760"/>
              <a:ext cx="787320" cy="422280"/>
            </a:xfrm>
            <a:custGeom>
              <a:avLst/>
              <a:gdLst/>
              <a:ahLst/>
              <a:rect l="l" t="t" r="r" b="b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7400" y="2314800"/>
              <a:ext cx="422280" cy="28872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60480" y="3775320"/>
              <a:ext cx="1560600" cy="2692080"/>
            </a:xfrm>
            <a:custGeom>
              <a:avLst/>
              <a:gdLst/>
              <a:ahLst/>
              <a:rect l="l" t="t" r="r" b="b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78400" y="4311720"/>
              <a:ext cx="871560" cy="1279440"/>
            </a:xfrm>
            <a:custGeom>
              <a:avLst/>
              <a:gdLst/>
              <a:ahLst/>
              <a:rect l="l" t="t" r="r" b="b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41520" y="2527560"/>
              <a:ext cx="944640" cy="1647720"/>
            </a:xfrm>
            <a:custGeom>
              <a:avLst/>
              <a:gdLst/>
              <a:ahLst/>
              <a:rect l="l" t="t" r="r" b="b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27480" y="2683080"/>
              <a:ext cx="922320" cy="1465200"/>
            </a:xfrm>
            <a:custGeom>
              <a:avLst/>
              <a:gdLst/>
              <a:ahLst/>
              <a:rect l="l" t="t" r="r" b="b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84480" y="2330640"/>
              <a:ext cx="1127160" cy="992160"/>
            </a:xfrm>
            <a:custGeom>
              <a:avLst/>
              <a:gdLst/>
              <a:ahLst/>
              <a:rect l="l" t="t" r="r" b="b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33680" y="3362400"/>
              <a:ext cx="339840" cy="249120"/>
            </a:xfrm>
            <a:custGeom>
              <a:avLst/>
              <a:gdLst/>
              <a:ahLst/>
              <a:rect l="l" t="t" r="r" b="b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6200" y="3237120"/>
              <a:ext cx="236520" cy="253800"/>
            </a:xfrm>
            <a:custGeom>
              <a:avLst/>
              <a:gdLst/>
              <a:ahLst/>
              <a:rect l="l" t="t" r="r" b="b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1440" y="3397320"/>
              <a:ext cx="18108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46560" y="2880000"/>
              <a:ext cx="852480" cy="738000"/>
            </a:xfrm>
            <a:custGeom>
              <a:avLst/>
              <a:gdLst/>
              <a:ahLst/>
              <a:rect l="l" t="t" r="r" b="b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37080" y="2424240"/>
              <a:ext cx="556920" cy="660240"/>
            </a:xfrm>
            <a:custGeom>
              <a:avLst/>
              <a:gdLst/>
              <a:ahLst/>
              <a:rect l="l" t="t" r="r" b="b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9160" y="2552760"/>
              <a:ext cx="287280" cy="38268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3237120"/>
              <a:ext cx="244440" cy="120600"/>
            </a:xfrm>
            <a:custGeom>
              <a:avLst/>
              <a:gdLst/>
              <a:ahLst/>
              <a:rect l="l" t="t" r="r" b="b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62440" y="5553000"/>
              <a:ext cx="1144440" cy="433440"/>
            </a:xfrm>
            <a:custGeom>
              <a:avLst/>
              <a:gdLst/>
              <a:ahLst/>
              <a:rect l="l" t="t" r="r" b="b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89080" y="5623200"/>
              <a:ext cx="1094040" cy="401400"/>
            </a:xfrm>
            <a:custGeom>
              <a:avLst/>
              <a:gdLst/>
              <a:ahLst/>
              <a:rect l="l" t="t" r="r" b="b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6000" y="3840120"/>
              <a:ext cx="2016000" cy="2759040"/>
            </a:xfrm>
            <a:custGeom>
              <a:avLst/>
              <a:gdLst/>
              <a:ahLst/>
              <a:rect l="l" t="t" r="r" b="b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9360" y="4316400"/>
              <a:ext cx="820800" cy="990720"/>
            </a:xfrm>
            <a:custGeom>
              <a:avLst/>
              <a:gdLst/>
              <a:ahLst/>
              <a:rect l="l" t="t" r="r" b="b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5450040"/>
              <a:ext cx="1754280" cy="1139760"/>
            </a:xfrm>
            <a:custGeom>
              <a:avLst/>
              <a:gdLst/>
              <a:ahLst/>
              <a:rect l="l" t="t" r="r" b="b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9880" y="3876840"/>
              <a:ext cx="1033560" cy="939600"/>
            </a:xfrm>
            <a:custGeom>
              <a:avLst/>
              <a:gdLst/>
              <a:ahLst/>
              <a:rect l="l" t="t" r="r" b="b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7080" y="4337280"/>
              <a:ext cx="247680" cy="392040"/>
            </a:xfrm>
            <a:custGeom>
              <a:avLst/>
              <a:gdLst/>
              <a:ahLst/>
              <a:rect l="l" t="t" r="r" b="b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9240" y="4511880"/>
              <a:ext cx="852840" cy="1226880"/>
            </a:xfrm>
            <a:custGeom>
              <a:avLst/>
              <a:gdLst/>
              <a:ahLst/>
              <a:rect l="l" t="t" r="r" b="b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6720" y="4229280"/>
              <a:ext cx="492120" cy="1703160"/>
            </a:xfrm>
            <a:custGeom>
              <a:avLst/>
              <a:gdLst/>
              <a:ahLst/>
              <a:rect l="l" t="t" r="r" b="b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38480" y="4454640"/>
              <a:ext cx="152640" cy="468360"/>
            </a:xfrm>
            <a:custGeom>
              <a:avLst/>
              <a:gdLst/>
              <a:ahLst/>
              <a:rect l="l" t="t" r="r" b="b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8240" y="5832720"/>
              <a:ext cx="841320" cy="722160"/>
            </a:xfrm>
            <a:custGeom>
              <a:avLst/>
              <a:gdLst/>
              <a:ahLst/>
              <a:rect l="l" t="t" r="r" b="b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00320" y="5880240"/>
              <a:ext cx="517680" cy="620640"/>
            </a:xfrm>
            <a:custGeom>
              <a:avLst/>
              <a:gdLst/>
              <a:ahLst/>
              <a:rect l="l" t="t" r="r" b="b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7080" y="6078600"/>
              <a:ext cx="398160" cy="424080"/>
            </a:xfrm>
            <a:custGeom>
              <a:avLst/>
              <a:gdLst/>
              <a:ahLst/>
              <a:rect l="l" t="t" r="r" b="b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05160" y="5545080"/>
              <a:ext cx="108000" cy="19548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84720" y="5457960"/>
              <a:ext cx="304560" cy="347760"/>
            </a:xfrm>
            <a:custGeom>
              <a:avLst/>
              <a:gdLst/>
              <a:ahLst/>
              <a:rect l="l" t="t" r="r" b="b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0960" y="4929120"/>
              <a:ext cx="101520" cy="882720"/>
            </a:xfrm>
            <a:custGeom>
              <a:avLst/>
              <a:gdLst/>
              <a:ahLst/>
              <a:rect l="l" t="t" r="r" b="b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5640" y="4956120"/>
              <a:ext cx="98280" cy="843120"/>
            </a:xfrm>
            <a:custGeom>
              <a:avLst/>
              <a:gdLst/>
              <a:ahLst/>
              <a:rect l="l" t="t" r="r" b="b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7560" y="5257800"/>
              <a:ext cx="571320" cy="459000"/>
            </a:xfrm>
            <a:custGeom>
              <a:avLst/>
              <a:gdLst/>
              <a:ahLst/>
              <a:rect l="l" t="t" r="r" b="b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54320" y="5338800"/>
              <a:ext cx="1490760" cy="870120"/>
            </a:xfrm>
            <a:custGeom>
              <a:avLst/>
              <a:gdLst/>
              <a:ahLst/>
              <a:rect l="l" t="t" r="r" b="b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8480" y="5561280"/>
              <a:ext cx="1354320" cy="660240"/>
            </a:xfrm>
            <a:custGeom>
              <a:avLst/>
              <a:gdLst/>
              <a:ahLst/>
              <a:rect l="l" t="t" r="r" b="b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70160" y="5946840"/>
              <a:ext cx="233640" cy="181080"/>
            </a:xfrm>
            <a:custGeom>
              <a:avLst/>
              <a:gdLst/>
              <a:ahLst/>
              <a:rect l="l" t="t" r="r" b="b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7320" y="6089760"/>
              <a:ext cx="198720" cy="13968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14960" y="5376960"/>
              <a:ext cx="1230120" cy="708120"/>
            </a:xfrm>
            <a:custGeom>
              <a:avLst/>
              <a:gdLst/>
              <a:ahLst/>
              <a:rect l="l" t="t" r="r" b="b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00080" y="2765520"/>
              <a:ext cx="1081080" cy="1585800"/>
            </a:xfrm>
            <a:custGeom>
              <a:avLst/>
              <a:gdLst/>
              <a:ahLst/>
              <a:rect l="l" t="t" r="r" b="b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30320" y="2762280"/>
              <a:ext cx="898560" cy="1503360"/>
            </a:xfrm>
            <a:custGeom>
              <a:avLst/>
              <a:gdLst/>
              <a:ahLst/>
              <a:rect l="l" t="t" r="r" b="b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2280" y="2527560"/>
              <a:ext cx="1346040" cy="1320480"/>
            </a:xfrm>
            <a:custGeom>
              <a:avLst/>
              <a:gdLst/>
              <a:ahLst/>
              <a:rect l="l" t="t" r="r" b="b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5640" y="2791080"/>
              <a:ext cx="217440" cy="896760"/>
            </a:xfrm>
            <a:custGeom>
              <a:avLst/>
              <a:gdLst/>
              <a:ahLst/>
              <a:rect l="l" t="t" r="r" b="b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79560" y="2624400"/>
              <a:ext cx="871560" cy="849240"/>
            </a:xfrm>
            <a:custGeom>
              <a:avLst/>
              <a:gdLst/>
              <a:ahLst/>
              <a:rect l="l" t="t" r="r" b="b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6640" y="2616480"/>
              <a:ext cx="376200" cy="372960"/>
            </a:xfrm>
            <a:custGeom>
              <a:avLst/>
              <a:gdLst/>
              <a:ahLst/>
              <a:rect l="l" t="t" r="r" b="b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38240" y="3562560"/>
              <a:ext cx="219240" cy="230040"/>
            </a:xfrm>
            <a:custGeom>
              <a:avLst/>
              <a:gdLst/>
              <a:ahLst/>
              <a:rect l="l" t="t" r="r" b="b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8160" y="3567240"/>
              <a:ext cx="55440" cy="187200"/>
            </a:xfrm>
            <a:custGeom>
              <a:avLst/>
              <a:gdLst/>
              <a:ahLst/>
              <a:rect l="l" t="t" r="r" b="b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2640" y="3581640"/>
              <a:ext cx="58680" cy="172800"/>
            </a:xfrm>
            <a:custGeom>
              <a:avLst/>
              <a:gdLst/>
              <a:ahLst/>
              <a:rect l="l" t="t" r="r" b="b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77960" y="3697560"/>
              <a:ext cx="185760" cy="12528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72000" y="3789360"/>
            <a:ext cx="424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2000"/>
          </a:bodyPr>
          <a:p>
            <a:pPr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Телефон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915 40 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Факс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80 06 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Имейл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ffikov@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eb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ww.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791-06D4-4F9D-9451-886B10BDB2C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42BA4-79DA-490D-8353-F8B5DFF129D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ционалната индикативна цел се определя като процент от базовата стойност на крайното енергийно потребление(КЕП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т общото КЕП се изключва потреблението на енергия 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обекти на въоръжените си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инсталации по чл. 131 от Закона за опазване на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колната среда;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транспортни средства за въздушен и воден транспо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азовата стойност е средноаритметичната стойност на КЕП  за последните 5 години, за които съществуват статистически дан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4991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Националната индикативна  це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5FE-8704-4E19-B0B8-B0A8E63BE8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881AF-4167-4601-9345-47E23CF6BBF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332000" y="1125360"/>
          <a:ext cx="6192720" cy="39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25360"/>
                    <a:ext cx="619272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042920" y="549360"/>
            <a:ext cx="648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ционалната индикативна цел до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229360"/>
            <a:ext cx="828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ционална индикативна цел до 2016 - 9 %      627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toe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= 7291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еждинна индикативна цел до 2010 – 3 %        209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toe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= 2430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C35-8AA1-428B-A493-CCE32B454F8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26C92-315D-4018-9CE4-9C3A091315A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6327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зпределяне на националната индикативна цел,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о 2016, по видове енергия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Wh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/го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44640" y="1600200"/>
          <a:ext cx="5783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4640" y="1600200"/>
                    <a:ext cx="5783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DBD-4656-4FD8-979E-85D13FAC7FD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B52E6-B1EB-4D22-9376-4AA00BEC872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33160"/>
            <a:ext cx="80647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зпределяне на националната индикативна цел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о 2016 по секторите, в които има задължени лиц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11280" y="1700280"/>
          <a:ext cx="46054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00280"/>
                    <a:ext cx="4605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103-29B3-46D8-A820-2580C83C908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47745-0994-4C1A-930C-0530453AB51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9952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зпределяне на националната цел като индивидуални цели за енергоспестяван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00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Задължени ли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Търговци с енергия които отговарят на някое от следните условия през предходната год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продават на крайните потребители над 75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Wh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годиш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имат персонал над 10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имат годишен оборот над 4 млн. л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Собственици на сгради с обща РЗП над 1000 кв.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Собствениците на промишлени системи с годишно потребление над 3000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Wh (258 to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8E8-F10A-4CA8-81F6-F4C59DB5BE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2AF88-0D56-4C5C-B369-D47F1626185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пределяне на индивидуалните цели за енергийни спестявани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Търговци с енергия –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азпределя се националната (междинна) цел за съответния вид енергия пропорционално на дела на продаваните от тях количества енергия на крайните потреби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Собствениците на сгради -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азпределя се целта в сектор “Услуги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сгради без енергийно обследване и без данни за енергийно потребление - половината от целта за сектор “Услуги” се разпределя пропорционално на дела на РЗП на техните сгради към общия РЗП на задължените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сгради без енергийно обследване, но с данни за енергийното потребление - на базата на размера на индикативната цел изразен в % и енергийното потребление на сград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сгради с извършено енергийно обследване – половината от потенциала за енергийни спестявания отразен в доклада за обслед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Индивидуални цели за собствениците на промишлени системи (ПС) –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азпределя се целта в секторите, в които са класифицирани съответните задължени ли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ПС без енергийно обследване , половината от целта за съответния сектор се разпределя пропорционално на дела им в потреблението на задължените лица в сект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ПС с извършено енергийно обследване – половината от потенциала за енергийни спестявания отразен в доклада за обследв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488-CC3D-4FD3-BAB0-D0CDEA21AA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A8D66-39D8-4AE3-9FD4-87FC9DBB7C6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пределяне на индивидуалните цели за енергийни спестявани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6048360" cy="2737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14140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 основание на чл. 10, ал.1 от ЗЕЕ и чл.18 от Наредбата по чл.9, ал.2 от ЗЕЕ (Наредбата), АЕЕ  извърши разпределение на част от националната индикативна цел от 7 291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Wh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като индивидуални цели за енергийни спестявания между отделните задължени ли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37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Търговци на енергия – 4644,27 GWh/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ромишлени системи с потребление на 3000 MWh/год. – 818,91 GWh/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гради над 1000 м 2 – 521,03 GWh/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FB6-5947-486C-B5E0-3166BDEF21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84586-10FF-49D2-B277-85BAE92FEA9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опустими мерки за повишаване на енергийната ефективнос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00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опустими мерки за повишаване на енергийнат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за доказване изпълнението на индивидуалните цели трябва 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тговарят на следните изиск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бъдат със срокове на откупуване не по-дълги от времето на действие на мярк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водят до спестяване на първични енергийни ресурс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водят до намаляване емисиите на парниково газо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не водят до влошаване състоянието на околната с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не водят до нарушаване на санитарно-хигиенните нор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0F3-88BC-48EF-BDFC-61676F562A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EDF80-40CD-4905-80C7-AA60461340C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Utilities11</dc:creator>
  <dc:description/>
  <dc:language>en-US</dc:language>
  <cp:lastModifiedBy>Filip Fikov</cp:lastModifiedBy>
  <dcterms:modified xsi:type="dcterms:W3CDTF">2011-03-15T19:43:30Z</dcterms:modified>
  <cp:revision>238</cp:revision>
  <dc:subject/>
  <dc:title>Slide 1</dc:title>
</cp:coreProperties>
</file>