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6E58-F17F-4569-9533-8C313122C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3579120"/>
            <a:ext cx="87854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F8AC-3E52-48FB-8343-EBC1D3C85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B61A6-240B-4CF8-8C9D-1FAA1A642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35791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9640" y="35791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0000" y="35791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DD6F-CE80-43C5-814E-1082C7A15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A283F-227D-4504-82C6-87348B24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30972-CDFD-4615-840A-D14524CD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D3191-6F28-45C1-80B0-31A33B66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EA0BF-B530-4CEF-9651-29492B84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BDD96-785D-4F18-9D28-91C910A7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126720"/>
            <a:ext cx="878544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2D68D-7E05-4C7C-AA87-63E2AD40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928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E1FBF-049D-4D6F-AD29-F5FA379C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A358-0F1C-4A77-8D06-20E41F4B6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144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814BB-3603-4910-A692-98027A01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9280" y="3579120"/>
            <a:ext cx="87854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26989-C60B-4CF3-94E3-E4F7D454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9280" y="3579120"/>
            <a:ext cx="87854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F778E-E905-48A3-9698-AFA63B6C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928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144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BFC18-E45B-40A0-9307-089293F4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9280" y="35791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49640" y="35791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20000" y="35791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5A750-B1FF-4F66-8753-9CAFFD81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6C465-2619-40FF-AEDE-B2F3545D56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65728-33AF-45C2-8F62-2F6ADC11B9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58415-B89E-4BDA-A111-3850B6E8D9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F4AD0-89FE-4C1A-9128-DC4C5D20E7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9630F-DCA5-4FB8-B1DA-4E4B800E03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01C9-B6DA-45E8-B45B-999BB93FF5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79280" y="126720"/>
            <a:ext cx="878544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51C2B-F97B-4297-AE27-17C484111E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928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CE4FF-B68C-4966-A609-DDBC4E541F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144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B542F-6C82-45AB-92C8-CE29BE807B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9280" y="3579120"/>
            <a:ext cx="87854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001B7-B858-4B65-9A23-47EF7C5EB1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79280" y="3579120"/>
            <a:ext cx="87854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43C85-C07E-42E2-A339-4EBB3D4B00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7928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144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93525-BBCE-43E5-A1E2-D0921DE2E8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79280" y="35791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49640" y="35791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20000" y="35791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82FD5-42C2-437A-ACA6-05B920DBF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DAAF-EBC2-4D27-B946-F163D1AED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C3D8-834F-4CE7-B722-23D1E4479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126720"/>
            <a:ext cx="878544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FDAC-1393-4462-9753-80AAFCC86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E106-B73B-4D65-B44E-FB540E8BA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30D1-87DB-48A0-ABB3-945273AFE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3579120"/>
            <a:ext cx="87854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C3D5-CA48-4410-9E36-D158864A5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Office Space 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846360" cy="50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" name="Picture 9" descr="OPRR.png"/>
          <p:cNvPicPr/>
          <p:nvPr/>
        </p:nvPicPr>
        <p:blipFill>
          <a:blip r:embed="rId4"/>
          <a:stretch/>
        </p:blipFill>
        <p:spPr>
          <a:xfrm>
            <a:off x="7812000" y="189000"/>
            <a:ext cx="720720" cy="947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" name="TextBox 10"/>
          <p:cNvSpPr/>
          <p:nvPr/>
        </p:nvSpPr>
        <p:spPr>
          <a:xfrm>
            <a:off x="468360" y="765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" spc="-1" strike="noStrike">
                <a:solidFill>
                  <a:srgbClr val="ffffff"/>
                </a:solidFill>
                <a:latin typeface="Arial"/>
              </a:rPr>
              <a:t>ЕВРОПЕЙСКИ СЪЮЗ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" spc="-1" strike="noStrike">
                <a:solidFill>
                  <a:srgbClr val="ffffff"/>
                </a:solidFill>
                <a:latin typeface="Arial"/>
              </a:rPr>
              <a:t>Европейски фонд за регионално развитие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1"/>
          <p:cNvSpPr/>
          <p:nvPr/>
        </p:nvSpPr>
        <p:spPr>
          <a:xfrm>
            <a:off x="1619280" y="260280"/>
            <a:ext cx="590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ffff"/>
                </a:solidFill>
                <a:latin typeface="Arial"/>
              </a:rPr>
              <a:t>ОПЕРАТИВНА ПРОГРАМА “РЕГИОНАЛНО РАЗВИТИЕ” 2007-20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bgregio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ffff"/>
                </a:solidFill>
                <a:latin typeface="Arial"/>
              </a:rPr>
              <a:t>Инвестираме във Вашето бъдеще!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TextBox 12" descr=""/>
          <p:cNvPicPr/>
          <p:nvPr/>
        </p:nvPicPr>
        <p:blipFill>
          <a:blip r:embed="rId5"/>
          <a:stretch/>
        </p:blipFill>
        <p:spPr>
          <a:xfrm>
            <a:off x="165240" y="6224760"/>
            <a:ext cx="8886600" cy="554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675640" y="6252840"/>
            <a:ext cx="4334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FECC-ECC5-4B74-B78C-FA4B977E27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Office Spa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108000" y="6252840"/>
            <a:ext cx="15112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1692360" y="6252840"/>
            <a:ext cx="346392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675640" y="6252840"/>
            <a:ext cx="4334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2A19-5C23-4E3E-BAB5-D1353CB86D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Office Spa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08000" y="115920"/>
            <a:ext cx="892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3"/>
          <a:srcRect l="8907" t="66439" r="11362" b="13274"/>
          <a:stretch/>
        </p:blipFill>
        <p:spPr>
          <a:xfrm>
            <a:off x="1692360" y="0"/>
            <a:ext cx="533556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9" descr=""/>
          <p:cNvPicPr/>
          <p:nvPr/>
        </p:nvPicPr>
        <p:blipFill>
          <a:blip r:embed="rId4"/>
          <a:stretch/>
        </p:blipFill>
        <p:spPr>
          <a:xfrm>
            <a:off x="165240" y="6224760"/>
            <a:ext cx="8886600" cy="5540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8675640" y="6597720"/>
            <a:ext cx="4334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5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5093-0C76-47C0-912E-7A25881AF5CE}" type="slidenum">
              <a:rPr b="0" lang="en-GB" sz="1400" spc="-1" strike="noStrike">
                <a:solidFill>
                  <a:srgbClr val="005372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Анализ на действащите нормативни актове в </a:t>
            </a:r>
            <a:br>
              <a:rPr sz="2000"/>
            </a:b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областта на сградите за обществено обслужване за </a:t>
            </a:r>
            <a:br>
              <a:rPr sz="2000"/>
            </a:b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образование и наука, за здравеопазване и </a:t>
            </a:r>
            <a:br>
              <a:rPr sz="2000"/>
            </a:b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в областта н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културата и изкустват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и </a:t>
            </a:r>
            <a:br>
              <a:rPr sz="2000"/>
            </a:b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предложение за проект на нов нормативен акт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80880" y="403848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зложител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Министерство на инвестиционното проектир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ълнител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учно изследователски строителен институт- НИ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:РД-02-29-269/08.07.2013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роителен институт- НИ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Договор:РД-02-29-269/08.07.2013г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1920" y="1066320"/>
            <a:ext cx="88124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 проекта на нормативен акт са определе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инималните изисквания и условия за проектиране, изпълнение и експлоат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пецифичните изисквания към сградите с оглед осигуряване на безопасност и ненарушаване на експлоатационните показатели за съответния вид сград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ксплоатационните показатели на сградите, които трябва да удовлетворяват нормативните прагови нива за ново строителство и при реконструкции и модернизациии на съществуващи сград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ксплоатационните показатели на функционалните характеристики и контролируемите параметри по видовете сгради, относими към основните изисквания към строежи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04920" y="914400"/>
            <a:ext cx="85341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8124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372"/>
                </a:solidFill>
                <a:latin typeface="Arial"/>
              </a:rPr>
              <a:t>Обхванати в проекта на нормативен акт сгради за обществено обслужване в областта на образованието и наук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тски ясли и детски кухн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тски град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лищ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а) начални - от I до IV клас включител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б) прогимназиални - от V до VIII клас включител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) основни - от I до VIII клас включител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г) гимназии - от IX до XII клас включител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д) профилирани гимназ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е) средни общообразователни - от I до XII клас включител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ж) професионални гимназии - от VIII или IХ клас до ХII кла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включител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) професионални - от VII или VIII клас с продължителност на обучението до три години, от IХ клас - с продължителност на обучението до четири години, и професионални колежи след завършено средно образование - с продължителност на обучението до две годи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) спорт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к) по изкуства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л) специални (интернатен и полуинтернатен ти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) по култур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) вечерни (сменни) училища (над 16-годишна възраст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) духовни училищ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Висши училищ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240" y="1218960"/>
            <a:ext cx="87361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372"/>
                </a:solidFill>
                <a:latin typeface="Arial"/>
              </a:rPr>
              <a:t>Обхванати в проекта на нормативен акт сгради за обществено обслужване</a:t>
            </a:r>
            <a:r>
              <a:rPr b="1" lang="en-US" sz="1600" spc="-1" strike="noStrike">
                <a:solidFill>
                  <a:srgbClr val="005372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5372"/>
                </a:solidFill>
                <a:latin typeface="Arial"/>
              </a:rPr>
              <a:t>в областта на здравеопазван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чебни заведения за извънболнична помощ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мбулатории за първична медицинска помощ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мбулатории за специализирана медицинска помощ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амостоятелни медико-диагностични и медико-технически лаборатор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нтални центро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чебни заведения за болнична помощ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олница за активно леч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олница за долекуване и продължително леч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олница за рехабилитац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олница за долекуване, продължително лечение и рехабилит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8240" y="1295280"/>
            <a:ext cx="873612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372"/>
                </a:solidFill>
                <a:latin typeface="Arial"/>
              </a:rPr>
              <a:t>Обхванати в проекта на нормативен акт сгради за обществено обслужване</a:t>
            </a:r>
            <a:r>
              <a:rPr b="1" lang="en-US" sz="1600" spc="-1" strike="noStrike">
                <a:solidFill>
                  <a:srgbClr val="005372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5372"/>
                </a:solidFill>
                <a:latin typeface="Arial"/>
              </a:rPr>
              <a:t>в областта на културата и изкуств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узе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Библиотеки и читалищ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Художествени гале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атр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ногофункционални зали с културно-просветно предназна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8544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8785080" cy="51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Първо основно изискване към строежите </a:t>
            </a:r>
            <a:r>
              <a:rPr b="1" i="1" lang="bg-BG" sz="1600" spc="-1" strike="noStrike">
                <a:solidFill>
                  <a:srgbClr val="002060"/>
                </a:solidFill>
                <a:latin typeface="Arial"/>
              </a:rPr>
              <a:t>„М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еханично съпротивление и устойчивост</a:t>
            </a:r>
            <a:r>
              <a:rPr b="1" i="1" lang="bg-BG" sz="16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ируеми параметр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носимоспособност и деформация на земната осно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носимоспособност и коравина на строителната констру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устойчивост на строителната конструкция и на земната основа под не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дълготрайност на строежа при експлоатационни, сеизмични и други възможни особени натовар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Допълнителни изисквания при провеждане на изчислителните процедури за оценка на степента на удовлетвореност на нормативните изисквания за експлоатационните показатели на контролируемите параметр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при определяне на класа по значимост на конструкция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при определяне на въздействията и комбинациите за ефектите от т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за методите, използвани за конструктивен анали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за гранично допустимите стойности на деформациите на конструкции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за точността при определяне на експлоатационните показатели на използваните строителни продук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редписания за постоянното подържане на проектните експлоатационни показатели на контролируемите параметри на строежа, относими с първо основно изискван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 продължение на икономически обоснования му експлоатационен с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Второ основно изискване към строежите </a:t>
            </a:r>
            <a:r>
              <a:rPr b="1" i="1" lang="bg-BG" sz="1600" spc="-1" strike="noStrike">
                <a:solidFill>
                  <a:srgbClr val="002060"/>
                </a:solidFill>
                <a:latin typeface="Arial"/>
              </a:rPr>
              <a:t>„Безопасност в случай на пожар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Контролируеми параметри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мално време на огнеустойчивост на конструктивните елемен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ери на противопожарните сектори и отвори в ограждащите и пожарозащитни преград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мално време на огнеустойчивос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пожарозащитните преград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шути и размери на пътищата за евакуац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кция на огън на строителните продук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стояние между съседните строеж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лгоритъ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а провеждане на изчислителна процедура за оценка на безопасността на строежа в случай на пож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Допълнителни технически изисквания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хитектурно-планировъчните решения,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вътрешно сградните инсталации  и използваните строителни продукти, чиито нива на експлоатационните показатели на съществените характеристики са относими към степента на удовлетворяване на  безопасността на строежа в случай на пожар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съответните видове сгради, които не се съдържат в нормативните актове с общо приложение.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Трето основно изискване към строежите </a:t>
            </a:r>
            <a:r>
              <a:rPr b="1" i="1" lang="bg-BG" sz="1600" spc="-1" strike="noStrike">
                <a:solidFill>
                  <a:srgbClr val="002060"/>
                </a:solidFill>
                <a:latin typeface="Arial"/>
              </a:rPr>
              <a:t>„Хигиена, здраве и околна среда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ируеми параме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ъздействи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от: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вложените в строеж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ни материал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, продукти и конструкции, приета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рхитектурна и функционална планировка и оборудването и обзавежданет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върху условията за обитаване и/или използване, изразени като: лъчение и 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сии от опасни излъчвания;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емисии на токсични газове и/или твърди частици; материали, предизвикващи токсичност при допир с кожата; клаустофобия, страх, ограничаване на естествените физиологичини човешки потребности; нарушаване на автономността на личното  простран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Физични фактори на микроклимата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или работната и битова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температура; защита от слънцегреене; относителна влажност; чистота и кратност на обмен на въздуха; изкуствено и естествено осветление; експозиция на шум и вибрации като елементи от факторите на работната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ълниезащ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Хидроизолац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истота на питейната 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езопаснос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предлаганите за консумация храни и напи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Въздействиет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върх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колната среда по време на строителството и експлоатацията на строежа, включително и  управление на отпадъц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794880"/>
            <a:ext cx="881244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Четвърто основно изискване към строежите </a:t>
            </a:r>
            <a:r>
              <a:rPr b="1" i="1" lang="bg-BG" sz="1400" spc="-1" strike="noStrike">
                <a:solidFill>
                  <a:srgbClr val="002060"/>
                </a:solidFill>
                <a:latin typeface="Arial"/>
              </a:rPr>
              <a:t>„Достъпност и безопасност при експлоатация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ируеми параметр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хитектурно-конструктивни параметри на елементи на сградит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за ограничаван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ъпването на травми и нещастни случа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ещата способност и устойчивост на съединенията, с които се закрепват към носещата конструкция оборудване, обзавеждане, фасадни облицовки и архитектурни елементи при вероятните хоризонтални натоварвания и въздействия или в резултат на корозия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за 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ичаването на възможностите за падане на предмети от височина или падане в шахти и монтажни отвори при изпълнение на ремонтни дей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ст на хлъзгане, износоустойчивост, устойчивост на химикали, препарати за почистване и образуване на петна, както и дълготрайност  на подови настилк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аване на подхлъзване и спъва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сочина и устойчивост на конструктивните елементи на загражденията при изпълнение на ремонтни дейности в строежите по време на експлоатацията им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ограничаване на падането в шахти, монтажни отвори и др.п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метри за осигуряване на достъпност до всички части на строежа и осигуряване на свободно придвижване и евакуация на хора, вкл. с увреждания, на носилки и нуждаещи се от допълнителни грижи (възрастни, жени с колички и деца на възраст от 2 до 18 години), при струпване на големи групи и при евакуация на болни хора.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то на предупредителни и указателни знаци и пиктограми, фрактилност на настилките, аварийно осветление в неосветяеми помещения за недопускане на травми поради липса на указателни знац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Температура на използваната  вода или течности, повърхностна температура на тръбопроводи или оборудване, наличие на предпазни прегради, предупредителни табели или характеристики на топлоизолация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недопускане на изгаряния на хора от технологично оборудване или инсталации;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Изолации и защити срещу поражения от електрически т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ани средства и персонал за превенция и поддържане на строежит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за недопускане на аварийни събития от вътрешно-сградните инсталации или при природни б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Техническите характеристики на средствата и системите  за охрана и защита срещу криминални прояви и контрол на достъпа, режим на работа на физическата охр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057040" y="334440"/>
            <a:ext cx="3505320" cy="37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85440" cy="56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Пето основно изискване към строежите </a:t>
            </a:r>
            <a:r>
              <a:rPr b="1" i="1" lang="bg-BG" sz="1800" spc="-1" strike="noStrike">
                <a:solidFill>
                  <a:srgbClr val="002060"/>
                </a:solidFill>
                <a:latin typeface="Arial"/>
              </a:rPr>
              <a:t>„Защита от шум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ируеми парамет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кустични характеристики на строежите в т.ч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индекс на изолация от въздушен и/или ударен шу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време на реверберац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невно и средноседмично ниво на експозиция на шум, dB(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иво на шум – ден и нощ в dB(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квивалентно ниво на шума в dB(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рхово ниво на звуково налягане в dB(А)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и приемане и разрешаване на ползването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на разглежданите обществени сгради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ат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ализираните проектни експлоатационни  показатели на контролируемите акустични параметри на строеж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е извършва въз основа на протокол от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ведени измервания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763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2060"/>
                </a:solidFill>
                <a:latin typeface="Arial"/>
              </a:rPr>
              <a:t>Шесто основно изискване към строежите „Икономия на енергия и топлосъхранение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тролируеми параметр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оефициент на топлопреминаван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оплинни загуб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ходи за отопление и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опляне на гореща вод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хнически характеристики на отоплителнит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нтилационн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климатични инстал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хнически характеристики на дограмата и остъклените прегради по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БДС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4351-1:2006+А1:20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147600"/>
            <a:ext cx="8785440" cy="51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280" y="795240"/>
            <a:ext cx="888840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Анализирани специални национални нормативни актове за проектир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ообразователни училищ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Норми за проектиране. 1996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ин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и политехнически училищ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Норми за проектиране. 198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рми за проектиране на детски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о-възпитателни завед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988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рми за проектиране н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жит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98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рми за проектиране н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н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98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рми за проектиране н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талищ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98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рми за проектиране н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о-културни клубов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986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рми за проектиране н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нични заведения от общ тип и амбулаторно-поликлинични завед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98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рми за проектиране н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иатрични болниц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98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рми за проектиране н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филакториу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99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рми за проектиране на балнеосанаториални комплекси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алнеосанаториум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98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8124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Седмо основно изискване към строежите </a:t>
            </a:r>
            <a:r>
              <a:rPr b="1" i="1" lang="bg-BG" sz="1400" spc="-1" strike="noStrike">
                <a:solidFill>
                  <a:srgbClr val="002060"/>
                </a:solidFill>
                <a:latin typeface="Arial"/>
              </a:rPr>
              <a:t>„Устойчиво използване на природните ресурси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ируеми параме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ъвкавост и адаптивност на строежа по отношение на местоположението му и транспортните връзки до него, включително и за обслужващия стопанската дейност транспор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ъзможности за многофункционално използване на отделни структорни пространства от сградите при запазване на първоначално предвидената им основна функ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ползване на екологични производствени материали или продукти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фективно управление на водит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лансирано използване на естествено и изкуствено осветление и използване на фотоволтаични елемен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игане на биоразнообразие чрез използване на възможностите за изграждане на зелени покриви и фасадни сте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во на контрол в етапите на проектиране, строителство и експлоатац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нозиране на физическото и/или морално стареене на строежа чрез мониторинг на състоянието и оценка на разходите за полаганите грижи за поддържането и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тенциални възможности за преустройства, реконструкции и модернизац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азване на защитените обекти и недвижимите културни цен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опасно депониране на опасни строителни отпадъци след разрушаване (например: съдържащи азбест, тежки метали и излъчващи радиоактивнос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742840" y="309600"/>
            <a:ext cx="3048120" cy="34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Териториално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устройствени, функционални и планировъчни изиск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пределени 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пецифични териториално-устройствени изисквания за разглежданите видове сгради -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ъм местоположението; при отчитане на  демографските дадености; отдалеченост от източници на замърсяване; ориентация на сградите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пецифични функционални и планировъчни изисквания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разглежданите видове сград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експлоатационни показатели на архитектурно-планировъчните  параметри на сградит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лощи, височини на пространствата и помещенията и др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пецифични планировъчни изисквания, свързани с осигуряването на необходимите пространства за обзавеждане и/или технологично оборудване (в случаите, където се изисква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инимално-необходимите за оразмеряване структурните функционални пространства  в сградите, с които се осигуряват необходимите условия за изпълняване на дейностите, свързани с предназначение на съответната сгра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Специфични изисквания към вътрешно-сградните инстал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пределени са специфични изисквания къ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електрозахранването и инсталации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нсталациите за наблюдение, охрана и контрол на достъп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нформационните системи в съответния вид сград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градни ВиК инстал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ВиК инстал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сансьори, машини  и друга обслужваща тех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истемите за управление на вътрешно-сградните инстал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Специфични изисквания към сградите за обществено обслужване в областта на образованието и наук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градите се разглеждат като композиция от функционални пространства (многофункционални зони) в зависимост от вида на сград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ят се минималните изисквания и изискванията, въведени със заданието за проектиране, както към новите, така и към съществуващите сгра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еализира се ефективно и устойчиво използване на съществуващите учебни заведения с предложените стойности на показателите за отделните функционални пространства, при условията на подходящи архитектурни решения, наличие на финансов ресурс и съвременно управление на учебния проце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еализира се гъвкавост на подхода при използване на определените минимални площи, като се дава възможност при обосновано проектно задание и ресурс на възложителя тези площи да бъдат по-голе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едвижда се мобилност при обзавеждането на пространствата с модулни мебели, което позволява бързо и лесно преустройване на помещенията, съобразно технологията на учебния процес, особено за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ногофункционалните зони за изкуства или техноло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пределят се изискванията, свързани с удовлетворяването на съществените изисквания към строеж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пределят се гранични нива на експлоатационните показатели на съществените характеристики на вложените в сградите строителни продукти, които позволяват изпълнението на съществените изиск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8124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Специфични изисквания към сградите за обществено обслужване в областта на здравеопазван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пределят се функционални показатели за сградите на основание на утвърдени медицински стандарти, които регламентират медицинските дейностите за около 60 броя различни медицински практ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градите се разглеждат като композиция от функционални пространства в зависимост от вида на сград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странени са забелязаните при анализа несъответствия в изискванията между отделните стандарти за едни и същи функционални простран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ъзприет е иновативен принцип по отношение физическата среда за отделните практики, като се разглеждат възможностите за съвместяването на самостоятелната практика с други и обединяването на необходимите  съпътстващи зве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пределят се специфичните (функционални и композиционни) изисквания, свързани с удовлетворяването на съществените изисквания към строеж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пределят се гранични нива на експлоатационните показатели на съществените характеристики на вложените в сградите строителни продукти, които позволяват изпълнението на съществените изиск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81244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2060"/>
                </a:solidFill>
                <a:latin typeface="Arial"/>
              </a:rPr>
              <a:t>Специфични изисквания към сградите за обществено обслужване в областта на културата и изкуств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зети са предвид съществените промени в изискванията за физическата среда за провеждане на събитията, свързани с задоволяване на новите потребности на обществото в областта на културата, изкуствата и забавленията, които са отразени в предложените технически изиск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зискванията са съобразени с промените в обществения живот в страната, които са отразени  в законите и наредби към тях на водещото в материята ведом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ят се минималните изисквания и изискванията, въведени със заданието за проектиране, както към новите, така и към съществуващите сград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градите се разглеждат като композиция от функционални пространства в зависимост от вида на сградата. Например в сгради за провеждане на събития в областта на културата си предвиждат: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остранства за провеждане на събитията, за които хората се събират – зрителни, конферентни, изложбени, клубни и др. зали или салони със или без сцена, арена или подиуми за вдиопоказ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остранства и помещения, обслужващи провеждането на събитията - кабини за прожекция, управление на звука и ефективното осветление,преводачески кабини, кабини или помещения за обслужване на радио- и телевизионни предавания и др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стран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мещения, обслужващи посетителите по отношение на улесн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достъп и създаване на комфортна среда за кратковременен престой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стран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мещения, необходими за вътрешно сградните инсталации и необходимото технологично оборудва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320" y="794880"/>
            <a:ext cx="88884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2060"/>
                </a:solidFill>
                <a:latin typeface="Arial"/>
              </a:rPr>
              <a:t>Специфични изисквания към сградите за обществено обслужване в областта на културата и изкуствата</a:t>
            </a:r>
            <a:r>
              <a:rPr b="0" lang="bg-BG" sz="1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ят се формата и размерите на залите за видео показ и сценични представления с оглед осигуряване на добра видимост за всеки зрител, микроклимат и удобни комуникации, като се посочват параметрите им и разположението на екрана или сцената в хоризонтален план и вертикален разре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ределя се достъпът до пространства (основно в музеите и галериите), който е ограничен за посетители и се контролира за работещите специалисти и обслужващия персонал по поддръжка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сочват се техническите изисквания към елементите от сградата, произтичащи от изискванията за сигурност и ограничаване на достъп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сочват се изисквания към допълващата инфраструктура в прилежащите територии за улеснен достъп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писани са съвременните тенденции във функциите на библиотеките като основно информационно средище на съвременното обществ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библиотеките се предвиждат и изграждат функционални пространства (зони) - читателска зона (каталожна и заемна зала с книжен фонд за свободен достъп, общи и специализирани читални, пространства за справочно-библиографски и информационни услуги, пространства за прослушване и видеопоказ в областта на изкуствата и др.)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странства за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куства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” 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ни за групова и индивидуална работа)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лужебни помещения и администрация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ределят се изискванията, свързани с удовлетворяването на съществените изисквания към строежи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ределят се гранични нива на експлоатационните показатели на съществените характеристики на вложените в сградите строителни продукти, които позволяват изпълнението на съществените изиск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5960" y="914400"/>
            <a:ext cx="89154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Анализирани национални нормативни акт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Закон за устройство на територията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негови подзаконови нормативни актов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едба № 1 от 2003 г. за номенклатурата на видовете строеж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едба 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1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от 2009 г.  за условията и реда за устройството и безопасността на площадките за иг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едба № 4 от 2009 г. за проектиране, изпълнение и поддържане на строежите в съответствие с изискванията за достъпна среда на населението, включително и за хора с уврежд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едба № 7 от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2003 г. за правила и нормативи за устройство на отделните видове територии и устройствени зо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едба № 2 от 2004г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за планиране и проектиране на комуникационно-транспортните системи на урбанизираните територ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он за здравето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 негови подзаконови нормативни актове със здравни изисквания към сгради и обекти за обществено обслужван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едба № 3 от 2007 г. за здравните изисквания към детските гради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едба № 26 от 2008 г. за устройството и дейността на детските ясли,  детските кухни и здравните изисквания към тя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едба № 9 от 1994 г. за здравно-хигиенните изисквания при използването на персонални компютри в обучението и извънучебните дейности на ученицит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едба № 5 от 1996 г. за хигиенните изисквания към устройството, обзавеждането и експлоатацията на общежит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057400" y="0"/>
            <a:ext cx="4572000" cy="67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2280" y="990360"/>
            <a:ext cx="8888400" cy="53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</a:rPr>
              <a:t>Анализирани национални нормативни акт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редба №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-1971 от 2009 г. за строително-технически правила и норми за осигуряване на безопасност при пожа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редба №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-2377 от 2011 г. за правилата и нормите за пожарна безопасност при експлоатация на обекти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Специално законодателство в областта на образованието и науката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Закон за народната просве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Закон за висшето образование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Закон за степента на образование, общообразователния минимум и учебния план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Закон за професионалното образование и обучение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едби за придобиване на квалификация по съответната професия, които са  държавни образователни изисквания (ДОИ) за тази профес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илник за дейността на ресурсните центрове за подпомагане на интегрираното обучение и възпитание на деца и ученици със специални образователни потребности (обн.ДВ. бр.77 от 2006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илник за устройството и дейността на възпитателните училища-интернати и социално-педагогическите интернати (обн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В.71 от 2006г.)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редба № 7 от 2000г. за определяне броя на паралелките и групите,  броя на учениците и на децата в паралелките и в групите на училищата, детските градини и обслужващите звена, </a:t>
            </a:r>
            <a:r>
              <a:rPr b="0" i="1" lang="bg-BG" sz="1400" spc="-1" strike="noStrike">
                <a:solidFill>
                  <a:srgbClr val="000000"/>
                </a:solidFill>
                <a:latin typeface="Arial"/>
              </a:rPr>
              <a:t>издадена от М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00600" cy="70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240" y="990720"/>
            <a:ext cx="873612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Анализирани национални нормативни акт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Специално законодателство в областта н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градите за обществено обслужване в областта на здравеопазването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он за лечебните заведе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едби на Министерството на здравеопазването за утвърждаване на медицински стандарти за изпълнение на почти всички медицински практики 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60бро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ециално законодателство в областта на сградите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за обществено обслужване в областта на културата и изкуствата -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акон за закрила и развитие на културата; Закон за културното наследство; Закон за националния архивен фонд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редба № Н-6 от 2009 г. за формиране и управление на музейните фондов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редба № Н-3 от 2012 г. за създаването, съдържанието, поддържането, съхраняването и използването на националния документален архив на Националния институт за недвижимото културно наследство и научния архив на музеит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редба №Н-9 от 2012 г. за реда за създаване и управление на обществените колек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Анализирани чужди нормативни актове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 - </a:t>
            </a: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сгради за обществено обслужване в областта</a:t>
            </a:r>
            <a:r>
              <a:rPr b="0" lang="bg-BG" sz="1600" spc="-1" strike="noStrike">
                <a:solidFill>
                  <a:srgbClr val="002060"/>
                </a:solidFill>
                <a:latin typeface="Arial"/>
              </a:rPr>
              <a:t> н</a:t>
            </a: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а образованието и наук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N 58125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- Строителство на училища. Строително-технически изисквания за предотвратяване на произшеств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DIN 1380 Разпределение на функционалните зони и функционалните секции на/в болници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НиП 2.08.02-89* Обществени сгради и съоръ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сновни изисквания при проектиране на училища в Ирланд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поръки за проектирането и строителството на училищни сгради - ново строителство и модернизация – Герм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ниране на училищни сгради в гр. Вие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радските училища и кампуси (територия на цялото учебно заведение, вкл. и парк) – планиране - Австр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грама с показатели за помещенията за училищни съоръжения на началното училище - Дефиниция на пространство и строителни изисквания – Швейцар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екти и принципи за гимназии – Великобрит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авила за строителство, саниране и обслужване на спортни обекти в училищата, Герм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ратегии за изграждане на здравословни училища, САЩ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066320"/>
            <a:ext cx="86598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Анализирани чужди нормативни акт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гради за обществено обслужване в областт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н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 здравеопазван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редба относно състоянието на сгради на болнични заведения – Австр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редба за изграждане и експлоатация на болници – Гер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гради за обществено обслужване в областта на културата и изкуств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риториална наредба за изграждането и експлоатацията на места за събиране – Бавар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иректива за изграждане и експлоатация на места на събиране за Саксония-Анхал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ирективата за места на събиране за провинция Хесе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редба (код) за устройство на териториите в провинция Баден–Вюртенбер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андарти за музеите - Асоциацията на немските музе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едписания за сигурност за музеи и изложбени зали – Герм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ъководство за изграждане и оборудване на обществените библиотеки - Гер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8560" y="228600"/>
            <a:ext cx="878508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55648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5372"/>
                </a:solidFill>
                <a:latin typeface="Arial"/>
              </a:rPr>
              <a:t>Съдържание на проекта на нов нормативен 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аст пър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Общи изиск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Гл. първа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бщи по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Гл. втора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и изисквания към сград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аст  втора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и (съществени) изисквания към строеж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Гл. първ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ханично съпротивление и устойчив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c00000"/>
                </a:solidFill>
                <a:latin typeface="Arial"/>
              </a:rPr>
              <a:t>Гл. втора</a:t>
            </a:r>
            <a:r>
              <a:rPr b="0" lang="bg-BG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езопасност в случай на пож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c00000"/>
                </a:solidFill>
                <a:latin typeface="Arial"/>
              </a:rPr>
              <a:t>Гл. трет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иена, здраве и околна с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c00000"/>
                </a:solidFill>
                <a:latin typeface="Arial"/>
              </a:rPr>
              <a:t>Гл. четвърт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тъпност и безопасност при експлоа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c00000"/>
                </a:solidFill>
                <a:latin typeface="Arial"/>
              </a:rPr>
              <a:t>Гл. пет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щита от шу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c00000"/>
                </a:solidFill>
                <a:latin typeface="Arial"/>
              </a:rPr>
              <a:t>Гл .шест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омия на енергия и тополосъхра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c00000"/>
                </a:solidFill>
                <a:latin typeface="Arial"/>
              </a:rPr>
              <a:t>Гл. седм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йчиво използване на природните ресур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5372"/>
                </a:solidFill>
                <a:latin typeface="Arial"/>
              </a:rPr>
              <a:t>Съдържание на проекта на нов нормативен 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Arial"/>
              </a:rPr>
              <a:t>Част трета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 Изисквания при устройственото планиране, инвестиционното проектиране, строителството и въвеждането в експлоатация на сградите за обществено обслужване за образование и наука, за здравеопазване и в областта на културата и изкуств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c00000"/>
                </a:solidFill>
                <a:latin typeface="Arial"/>
              </a:rPr>
              <a:t>Гл. първа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гради за обществено обслужване в областта на образованието и наук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c00000"/>
                </a:solidFill>
                <a:latin typeface="Arial"/>
              </a:rPr>
              <a:t>Гл. втора</a:t>
            </a:r>
            <a:r>
              <a:rPr b="0" lang="bg-BG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гради за обществено обслужване в областта на здравеопазван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c00000"/>
                </a:solidFill>
                <a:latin typeface="Arial"/>
              </a:rPr>
              <a:t>Гл. трета</a:t>
            </a:r>
            <a:r>
              <a:rPr b="0" lang="bg-BG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гради за обществено обслужване в областта на културата и изкуств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bg-BG" sz="1400" spc="-1" strike="noStrike">
                <a:solidFill>
                  <a:srgbClr val="c00000"/>
                </a:solidFill>
                <a:latin typeface="Arial"/>
              </a:rPr>
              <a:t>Раздел първи</a:t>
            </a:r>
            <a:r>
              <a:rPr b="0" lang="bg-BG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Териториално устройствени изисквания към урбанизираните територии  и въздействието на околната сре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bg-BG" sz="1400" spc="-1" strike="noStrike">
                <a:solidFill>
                  <a:srgbClr val="c00000"/>
                </a:solidFill>
                <a:latin typeface="Arial"/>
              </a:rPr>
              <a:t>Раздел втори</a:t>
            </a:r>
            <a:r>
              <a:rPr b="0" lang="bg-BG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Функционални и планировъчни изисквания, включително и специфични изисквания към обзавеждането и/или технологичното оборудв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bg-BG" sz="1400" spc="-1" strike="noStrike">
                <a:solidFill>
                  <a:srgbClr val="c00000"/>
                </a:solidFill>
                <a:latin typeface="Arial"/>
              </a:rPr>
              <a:t>Раздел трети</a:t>
            </a:r>
            <a:r>
              <a:rPr b="0" lang="bg-BG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пециализирани изисквания към сградните инстал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3.1. Електро захранване и инстал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3.2. Инсталации за наблюдение, охрана и контрол на достъп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3.3. Информационни систем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3. 4. ВиК- инстал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3.5. ОВиК- инстал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3.6. Асансьори, машини  и друга обслужваща техни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3.7. Системи за управление и контрол на сградните инстал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Arial"/>
              </a:rPr>
              <a:t>Част четвърта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Преходни и заключителни разпоредб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0T15:08:26Z</dcterms:created>
  <dc:creator>Ко4ина</dc:creator>
  <dc:description/>
  <dc:language>en-US</dc:language>
  <cp:lastModifiedBy>Nona Georgieva</cp:lastModifiedBy>
  <dcterms:modified xsi:type="dcterms:W3CDTF">2014-01-22T08:38:44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