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EF32-199F-4C33-8204-F41638FCF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D460-9657-4068-8D3B-96A447336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85FB-DF11-406D-9439-CE7EC65D0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632F-6376-4B93-AFC2-77AA87C65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689F-AB23-469C-870F-9AA48947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1F6C-A841-48A0-9678-DBB3A140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96FEF-A26A-4A13-A801-6E57C835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A2B33-76FE-40BB-9261-6D4B78EE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EBD85-9978-4740-8622-FC9D19A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AD2FB-C7B9-441E-BBC6-794E34E5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DC60B-EAC5-4FE3-8201-0F89EDB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D45-E8D4-4F3F-95CB-531FC9A6B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4D612-4A1B-4311-BD44-98A6F22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AFEFE-3C46-4029-A7EB-106BB67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ECC10-B93B-47B2-A260-95F8D92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D1A5F-E6F7-49C2-9BC7-8646896B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0A973-8AF7-4BE4-9127-B19E789C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2ACD8-BB89-4236-9EC6-0FDD03A1C8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09CA-D6D8-4864-A92C-8E6F7854D6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4EAED-BDA1-4EF9-AC11-37D41470A8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FA671-8F80-43EE-8B5B-179225B461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130C-506A-47B6-93F5-1B066764E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5990-0096-447F-AAE0-BED3747BE9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9962A-F858-4551-A9CB-7D58F1DA36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347E0-CB35-428A-BBB3-9F34235152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B26E7-C92D-43C3-A48B-1C29185AA5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E3C55-B6D7-47A2-A9F7-A65248DF67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DEEFE-D706-4B71-8AB3-9554EE6122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2BD13-EFE9-4BC7-B71E-AA6370A733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7928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964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20000" y="3579120"/>
            <a:ext cx="2828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78B89-AC42-4BCC-8ACD-3C9C05D48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3E75-419F-4A7C-BD6B-50E485F67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C29C-181B-48E4-906D-06127EE25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720"/>
            <a:ext cx="878544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9F99-6186-4D22-BF72-A5EADD78C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ACF9-5DE0-4076-A672-A0A44055C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35791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59D6-67B6-4642-A69B-BF24E7C9C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579120"/>
            <a:ext cx="878544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4D1B-69A5-4151-948E-581148400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ffice Space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846360" cy="5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" name="Picture 9" descr="OPRR.png"/>
          <p:cNvPicPr/>
          <p:nvPr/>
        </p:nvPicPr>
        <p:blipFill>
          <a:blip r:embed="rId4"/>
          <a:stretch/>
        </p:blipFill>
        <p:spPr>
          <a:xfrm>
            <a:off x="7812000" y="189000"/>
            <a:ext cx="720720" cy="94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TextBox 10"/>
          <p:cNvSpPr/>
          <p:nvPr/>
        </p:nvSpPr>
        <p:spPr>
          <a:xfrm>
            <a:off x="468360" y="76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ffffff"/>
                </a:solidFill>
                <a:latin typeface="Arial"/>
              </a:rPr>
              <a:t>ЕВРОПЕЙСКИ СЪЮЗ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ffffff"/>
                </a:solidFill>
                <a:latin typeface="Arial"/>
              </a:rPr>
              <a:t>Европейски фонд за регионално развитие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1"/>
          <p:cNvSpPr/>
          <p:nvPr/>
        </p:nvSpPr>
        <p:spPr>
          <a:xfrm>
            <a:off x="1619280" y="260280"/>
            <a:ext cx="59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ОПЕРАТИВНА ПРОГРАМА “РЕГИОНАЛНО РАЗВИТИЕ” 2007-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bgregio.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ff"/>
                </a:solidFill>
                <a:latin typeface="Arial"/>
              </a:rPr>
              <a:t>Инвестираме във Вашето бъдеще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TextBox 12" descr=""/>
          <p:cNvPicPr/>
          <p:nvPr/>
        </p:nvPicPr>
        <p:blipFill>
          <a:blip r:embed="rId5"/>
          <a:stretch/>
        </p:blipFill>
        <p:spPr>
          <a:xfrm>
            <a:off x="165240" y="6224760"/>
            <a:ext cx="8886600" cy="554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675640" y="6252840"/>
            <a:ext cx="4334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4AB-F6B7-4208-AE3D-62DA4837CA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Office Spa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108000" y="6252840"/>
            <a:ext cx="15112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692360" y="6252840"/>
            <a:ext cx="346392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675640" y="6252840"/>
            <a:ext cx="4334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43AB-8F84-4179-8FAB-54DB103860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Office Spa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rcRect l="8907" t="66439" r="11362" b="13274"/>
          <a:stretch/>
        </p:blipFill>
        <p:spPr>
          <a:xfrm>
            <a:off x="1692360" y="0"/>
            <a:ext cx="533556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9" descr=""/>
          <p:cNvPicPr/>
          <p:nvPr/>
        </p:nvPicPr>
        <p:blipFill>
          <a:blip r:embed="rId4"/>
          <a:stretch/>
        </p:blipFill>
        <p:spPr>
          <a:xfrm>
            <a:off x="165240" y="6224760"/>
            <a:ext cx="8886600" cy="554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8675640" y="6597720"/>
            <a:ext cx="4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5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EFA-6F03-420D-BBF3-858751CCDFF7}" type="slidenum">
              <a:rPr b="0" lang="en-GB" sz="1400" spc="-1" strike="noStrike">
                <a:solidFill>
                  <a:srgbClr val="00537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Анализ на действащите нормативни актове в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бластта на сградите за обществено обслужване за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образование и наука, за здравеопазване и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в областта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културата и изкустват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br>
              <a:rPr sz="2000"/>
            </a:br>
            <a:r>
              <a:rPr b="0" lang="bg-BG" sz="2000" spc="-1" strike="noStrike">
                <a:solidFill>
                  <a:srgbClr val="ffffff"/>
                </a:solidFill>
                <a:latin typeface="Times New Roman"/>
              </a:rPr>
              <a:t>предложение за проект на нов нормативен акт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880" y="40384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ложител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инистерство на инвестиционното проект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ител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учно изследователски строителен институт- Н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:РД-02-29-269/08.07.2013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роителен институт- Н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Договор:РД-02-29-269/08.07.2013г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 проекта на нормативен акт са определе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инималните изисквания и условия за проектиране, изпълнение и експлоат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ецифичните изисквания към сградите с оглед осигуряване на безопасност и ненарушаване на експлоатационните показатели за съответния вид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ксплоатационните показатели на сградите, които трябва да удовлетворяват нормативните прагови нива за ново строителство и при реконструкции и модернизациии на съществуващи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ксплоатационните показатели на функционалните характеристики и контролируемите параметри по видовете сгради, относими към основните изисквания към строеж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04920" y="914400"/>
            <a:ext cx="85341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 в областта на образованието и нау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ски ясли и детски кухн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ски град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) начални - от I до IV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) прогимназиални - от V до VI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) основни - от I до VI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) гимназии - от IX до X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) профилирани гимназ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) средни общообразователни - от I до XII клас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ж) професионални гимназии - от VIII или IХ клас до ХII кла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включител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) професионални - от VII или VIII клас с продължителност на обучението до три години, от IХ клас - с продължителност на обучението до четири години, и професионални колежи след завършено средно образование - с продължителност на обучението до две год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) спорт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) по изкуств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л) специални (интернатен и полуинтернатен ти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) по кул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) вечерни (сменни) училища (над 16-годишна възрас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) духовни учил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исш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218960"/>
            <a:ext cx="87361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</a:t>
            </a:r>
            <a:r>
              <a:rPr b="1" lang="en-US" sz="1600" spc="-1" strike="noStrike">
                <a:solidFill>
                  <a:srgbClr val="005372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в областта н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бни заведения за извънболнична помощ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мбулатории за първична медицинска помо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мбулатории за специализирана медицинска помо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амостоятелни медико-диагностични и медико-технически лаборато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нтални центро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бни заведения за болнична помощ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активно ле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долекуване и продължително ле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рехабилит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олница за долекуване, продължително лечение и рехабилит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240" y="1295280"/>
            <a:ext cx="87361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372"/>
                </a:solidFill>
                <a:latin typeface="Arial"/>
              </a:rPr>
              <a:t>Обхванати в проекта на нормативен акт сгради за обществено обслужване</a:t>
            </a:r>
            <a:r>
              <a:rPr b="1" lang="en-US" sz="1600" spc="-1" strike="noStrike">
                <a:solidFill>
                  <a:srgbClr val="005372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в областта на културата и изкуств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уз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иблиотеки и читалищ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Художествени гале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ат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ногофункционални зали с културно-просветно предназна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854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785080" cy="51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Първ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М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еханично съпротивление и устойчивост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осимоспособност и деформация на земната осно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осимоспособност и коравина на строителната констру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устойчивост на строителната конструкция и на земната основа под не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ълготрайност на строежа при експлоатационни, сеизмични и други възможни особени натовар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опълнителни изисквания при провеждане на изчислителните процедури за оценка на степента на удовлетвореност на нормативните изисквания за експлоатационните показатели на контролируемите парамет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 определяне на класа по значимост на конструкция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 определяне на въздействията и комбинациите за ефектите от 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методите, използвани за конструктивен анали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гранично допустимите стойности на деформациите на конструкции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за точността при определяне на експлоатационните показатели на използваните строителни продук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дписания за постоянното подържане на проектните експлоатационни показатели на контролируемите параметри на строежа, относими с първо основно изисква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продължение на икономически обоснования му експлоатационен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тор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Безопасност в случай на пожар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ално време на огнеустойчивост на конструктивните еле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и на противопожарните сектори и отвори в ограждащите и пожарозащитни преград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мално време на огнеустойчивос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ожарозащитните прегра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ути и размери на пътищата за еваку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кция на огън на строителните проду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стояние между съседните строеж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горитъ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 провеждане на изчислителна процедура за оценка на безопасността на строежа в случай на пож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опълнителни технически изисквания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хитектурно-планировъчните решения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вътрешно сградните инсталации  и използваните строителни продукти, чиито нива на експлоатационните показатели на съществените характеристики са относими към степента на удовлетворяване на  безопасността на строежа в случай на пожа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ъответните видове сгради, които не се съдържат в нормативните актове с общо приложение.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Трето основно изискване към строежите </a:t>
            </a: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„Хигиена, здраве и околна среда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ъздействи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т: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ложените в строеж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ни материал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продукти и конструкции, приета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рхитектурна и функционална планировка и оборудването и обзавежданет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върху условията за обитаване и/или използване, изразени като: лъчение и 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ии от опасни излъчвания;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емисии на токсични газове и/или твърди частици; материали, предизвикващи токсичност при допир с кожата; клаустофобия, страх, ограничаване на естествените физиологичини човешки потребности; нарушаване на автономността на личното  простран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Физични фактори на микроклима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ли работната и битова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мпература; защита от слънцегреене; относителна влажност; чистота и кратност на обмен на въздуха; изкуствено и естествено осветление; експозиция на шум и вибрации като елементи от факторите на работната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ълниезащ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Хидроизол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тота на питейната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опасн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предлаганите за консумация храни и напи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Въздействиет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върх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олната среда по време на строителството и експлоатацията на строежа, включително и  управление на отпадъц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794880"/>
            <a:ext cx="881244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Четвърто основно изискване към строежите </a:t>
            </a:r>
            <a:r>
              <a:rPr b="1" i="1" lang="bg-BG" sz="1400" spc="-1" strike="noStrike">
                <a:solidFill>
                  <a:srgbClr val="002060"/>
                </a:solidFill>
                <a:latin typeface="Arial"/>
              </a:rPr>
              <a:t>„Достъпност и безопасност при експлоатация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но-конструктивни параметри на елементи на сградит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граничаван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ъпването на травми и нещастни случа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ещата способност и устойчивост на съединенията, с които се закрепват към носещата конструкция оборудване, обзавеждане, фасадни облицовки и архитектурни елементи при вероятните хоризонтални натоварвания и въздействия или в резултат на корозия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чаването на възможностите за падане на предмети от височина или падане в шахти и монтажни отвори при изпълнение на ремонтни дей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ст на хлъзгане, износоустойчивост, устойчивост на химикали, препарати за почистване и образуване на петна, както и дълготрайност  на подови настилк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аване на подхлъзване и спъв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сочина и устойчивост на конструктивните елементи на загражденията при изпълнение на ремонтни дейности в строежите по време на експлоатацията им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ограничаване на падането в шахти, монтажни отвори и др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метри за осигуряване на достъпност до всички части на строежа и осигуряване на свободно придвижване и евакуация на хора, вкл. с увреждания, на носилки и нуждаещи се от допълнителни грижи (възрастни, жени с колички и деца на възраст от 2 до 18 години), при струпване на големи групи и при евакуация на болни хора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то на предупредителни и указателни знаци и пиктограми, фрактилност на настилките, аварийно осветление в неосветяеми помещения за недопускане на травми поради липса на указателни знац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мпература на използваната  вода или течности, повърхностна температура на тръбопроводи или оборудване, наличие на предпазни прегради, предупредителни табели или характеристики на топлоизолация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недопускане на изгаряния на хора от технологично оборудване или инсталации;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олации и защити срещу поражения от електрически 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ани средства и персонал за превенция и поддържане на строежит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недопускане на аварийни събития от вътрешно-сградните инсталации или при природни б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ехническите характеристики на средствата и системите  за охрана и защита срещу криминални прояви и контрол на достъпа, режим на работа на физическата охр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34440"/>
            <a:ext cx="3505320" cy="37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85440" cy="56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ето основно изискване към строежите </a:t>
            </a:r>
            <a:r>
              <a:rPr b="1" i="1" lang="bg-BG" sz="1800" spc="-1" strike="noStrike">
                <a:solidFill>
                  <a:srgbClr val="002060"/>
                </a:solidFill>
                <a:latin typeface="Arial"/>
              </a:rPr>
              <a:t>„Защита от шум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устични характеристики на строежите в т.ч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индекс на изолация от въздушен и/или ударен ш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реме на ревербер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невно и средноседмично ниво на експозиция на шум,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во на шум – ден и нощ в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вивалентно ниво на шума в dB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рхово ниво на звуково налягане в dB(А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 приемане и разрешаване на ползванет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а разглежданите обществени сград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ализираните проектни експлоатационни  показатели на контролируемите акустични параметри на строеж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е извършва въз основа на протокол от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змерван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060"/>
                </a:solidFill>
                <a:latin typeface="Arial"/>
              </a:rPr>
              <a:t>Шесто основно изискване към строежите „Икономия на енергия и топлосъхранение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тролируеми параметр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ефициент на топлопреминаван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оплинни загуб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ходи за отопление 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опляне на гореща во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хнически характеристики на отоплителнит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нтилацион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климатични инстал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 характеристики на дограмата и остъклените прегради п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БД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4351-1:2006+А1: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47600"/>
            <a:ext cx="8785440" cy="51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795240"/>
            <a:ext cx="88884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специални национални нормативни актове за проект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ообразователни учи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рми за проектиране. 199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и политехнически учи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рми за проектиране. 198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детски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о-възпитателни за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жи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талищ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о-културни клубов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нични заведения от общ тип и амбулаторно-поликлинични за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атрични болниц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акториу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9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и за проектиране на балнеосанаториални комплекси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лнеосанаториум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8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26720"/>
            <a:ext cx="878544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812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Седмо основно изискване към строежите </a:t>
            </a:r>
            <a:r>
              <a:rPr b="1" i="1" lang="bg-BG" sz="1400" spc="-1" strike="noStrike">
                <a:solidFill>
                  <a:srgbClr val="002060"/>
                </a:solidFill>
                <a:latin typeface="Arial"/>
              </a:rPr>
              <a:t>„Устойчиво използване на природните ресурси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ируеми параме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ъвкавост и адаптивност на строежа по отношение на местоположението му и транспортните връзки до него, включително и за обслужващия стопанската дейност 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ъзможности за многофункционално използване на отделни структорни пространства от сградите при запазване на първоначално предвидената им основна фун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ползване на екологични производствени материали или продукти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фективно управление на води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ансирано използване на естествено и изкуствено осветление и използване на фотоволтаични еле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игане на биоразнообразие чрез използване на възможностите за изграждане на зелени покриви и фасадни сте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во на контрол в етапите на проектиране, строителство и експлоат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иране на физическото и/или морално стареене на строежа чрез мониторинг на състоянието и оценка на разходите за полаганите грижи за поддържането и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енциални възможности за преустройства, реконструкции и модерниз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зване на защитените обекти и недвижимите културни це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 депониране на опасни строителни отпадъци след разрушаване (например: съдържащи азбест, тежки метали и излъчващи радиоактив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42840" y="309600"/>
            <a:ext cx="3048120" cy="34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Териториално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устройствени, функционални и планировъчни изиск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ределени 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и териториално-устройствени изисквания за разглежданите видове сгради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ъм местоположението; при отчитане на  демографските дадености; отдалеченост от източници на замърсяване; ориентация на сградит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и функционални и планировъчни изисква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разглежданите видове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ксплоатационни показатели на архитектурно-планировъчните  параметри на сградит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ощи, височини на пространствата и помещенията и др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ецифични планировъчни изисквания, свързани с осигуряването на необходимите пространства за обзавеждане и/или технологично оборудване (в случаите, където се изисква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инимално-необходимите за оразмеряване структурните функционални пространства  в сградите, с които се осигуряват необходимите условия за изпълняване на дейностите, свързани с предназначение на съответната сгр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вътрешно-сградните инстал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ределени са специфични изисквания къ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лектрозахранването и инсталаци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сталациите за наблюдение, охрана и контрол на достъп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ормационните системи в съответния вид 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градни ВиК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ВиК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сансьори, машини  и друга обслужваща тех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истемите за управление на вътрешно-сградните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образованието и нау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(многофункционални зони) в зависимост от вида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т се минималните изисквания и изискванията, въведени със заданието за проектиране, както към новите, така и към съществуващите сгра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ализира се ефективно и устойчиво използване на съществуващите учебни заведения с предложените стойности на показателите за отделните функционални пространства, при условията на подходящи архитектурни решения, наличие на финансов ресурс и съвременно управление на учебния проце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ализира се гъвкавост на подхода при използване на определените минимални площи, като се дава възможност при обосновано проектно задание и ресурс на възложителя тези площи да бъдат по-гол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вижда се мобилност при обзавеждането на пространствата с модулни мебели, което позволява бързо и лесно преустройване на помещенията, съобразно технологията на учебния процес, особено за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ногофункционалните зони за изкуства или техн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изискванията, свързани с удовлетворяването на съществените изисквания към строеж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8124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функционални показатели за сградите на основание на утвърдени медицински стандарти, които регламентират медицинските дейностите за около 60 броя различни медицински прак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в зависимост от вида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странени са забелязаните при анализа несъответствия в изискванията между отделните стандарти за едни и същи функционални простран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зприет е иновативен принцип по отношение физическата среда за отделните практики, като се разглеждат възможностите за съвместяването на самостоятелната практика с други и обединяването на необходимите  съпътстващи зве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специфичните (функционални и композиционни) изисквания, свързани с удовлетворяването на съществените изисквания към строеж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8124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зети са предвид съществените промени в изискванията за физическата среда за провеждане на събитията, свързани с задоволяване на новите потребности на обществото в областта на културата, изкуствата и забавленията, които са отразени в предложените технически изиск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зискванията са съобразени с промените в обществения живот в страната, които са отразени  в законите и наредби към тях на водещото в материята ведом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т се минималните изисквания и изискванията, въведени със заданието за проектиране, както към новите, така и към съществуващите сгра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градите се разглеждат като композиция от функционални пространства в зависимост от вида на сградата. Например в сгради за провеждане на събития в областта на културата си предвиждат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странства за провеждане на събитията, за които хората се събират – зрителни, конферентни, изложбени, клубни и др. зали или салони със или без сцена, арена или подиуми за вдиопоказ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странства и помещения, обслужващи провеждането на събитията - кабини за прожекция, управление на звука и ефективното осветление,преводачески кабини, кабини или помещения за обслужване на радио- и телевизионни предавания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мещения, обслужващи посетителите по отношение на улес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остъп и създаване на комфортна среда за кратковременен престой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мещения, необходими за вътрешно сградните инсталации и необходимото технологично оборудв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320" y="794880"/>
            <a:ext cx="8888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2060"/>
                </a:solidFill>
                <a:latin typeface="Arial"/>
              </a:rPr>
              <a:t>Специфични изисквания към сградите за обществено обслужване в областта на културата и изкуствата</a:t>
            </a:r>
            <a:r>
              <a:rPr b="0" lang="bg-BG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т се формата и размерите на залите за видео показ и сценични представления с оглед осигуряване на добра видимост за всеки зрител, микроклимат и удобни комуникации, като се посочват параметрите им и разположението на екрана или сцената в хоризонтален план и вертикален разре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 се достъпът до пространства (основно в музеите и галериите), който е ограничен за посетители и се контролира за работещите специалисти и обслужващия персонал по поддръжк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сочват се техническите изисквания към елементите от сградата, произтичащи от изискванията за сигурност и ограничаване на достъ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сочват се изисквания към допълващата инфраструктура в прилежащите територии за улеснен достъп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писани са съвременните тенденции във функциите на библиотеките като основно информационно средище на съвременното обще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библиотеките се предвиждат и изграждат функционални пространства (зони) - читателска зона (каталожна и заемна зала с книжен фонд за свободен достъп, общи и специализирани читални, пространства за справочно-библиографски и информационни услуги, пространства за прослушване и видеопоказ в областта на изкуствата и др.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а з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куств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ни за групова и индивидуална работа)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лужебни помещения и администрация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т се изискванията, свързани с удовлетворяването на съществените изисквания към строеж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ределят се гранични нива на експлоатационните показатели на съществените характеристики на вложените в сградите строителни продукти, които позволяват изпълнението на съществените изиск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5960" y="914400"/>
            <a:ext cx="89154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кон за устройство на територият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негови подзаконови нормативни акто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1 от 2003 г. за номенклатурата на видовете строеж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2009 г.  за условията и реда за устройството и безопасността на площадките за иг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4 от 2009 г. за проектиране, изпълнение и поддържане на строежите в съответствие с изискванията за достъпна среда на населението, включително и за хора с увреж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а № 7 от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003 г. за правила и нормативи за устройство на отделните видове територии и устройствени зо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а № 2 от 2004г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за планиране и проектиране на комуникационно-транспортните системи на урбанизираните те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 за здравето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егови подзаконови нормативни актове със здравни изисквания към сгради и обекти за обществено обслужв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3 от 2007 г. за здравните изисквания към детските град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26 от 2008 г. за устройството и дейността на детските ясли,  детските кухни и здравните изисквания към т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9 от 1994 г. за здравно-хигиенните изисквания при използването на персонални компютри в обучението и извънучебните дейности на ученици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№ 5 от 1996 г. за хигиенните изисквания към устройството, обзавеждането и експлоатацията на общежи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57400" y="0"/>
            <a:ext cx="4572000" cy="6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990360"/>
            <a:ext cx="88884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-1971 от 2009 г. за строително-технически правила и норми за осигуряване на безопасност при пожа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-2377 от 2011 г. за правилата и нормите за пожарна безопасност при експлоатация на обект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образованието и наукат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народната просве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висшето образова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степента на образование, общообразователния минимум и учебния план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кон за професионалното образование и обу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и за придобиване на квалификация по съответната професия, които са  държавни образователни изисквания (ДОИ) за тази профес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ник за дейността на ресурсните центрове за подпомагане на интегрираното обучение и възпитание на деца и ученици със специални образователни потребности (обн.ДВ. бр.77 от 2006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ник за устройството и дейността на възпитателните училища-интернати и социално-педагогическите интернати (об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.71 от 2006г.)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7 от 2000г. за определяне броя на паралелките и групите,  броя на учениците и на децата в паралелките и в групите на училищата, детските градини и обслужващите звена, </a:t>
            </a: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издадена от 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00600" cy="7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990720"/>
            <a:ext cx="8736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националн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радите за обществено обслужване в областта на здравеопазванет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 за лечебните за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едби на Министерството на здравеопазването за утвърждаване на медицински стандарти за изпълнение на почти всички медицински практики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60бро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иално законодателство в областта на сградите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за обществено обслужване в областта на културата и изкуствата 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кон за закрила и развитие на културата; Закон за културното наследство; Закон за националния архивен фонд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Н-6 от 2009 г. за формиране и управление на музейните фондов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 Н-3 от 2012 г. за създаването, съдържанието, поддържането, съхраняването и използването на националния документален архив на Националния институт за недвижимото културно наследство и научния архив на музеит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редба №Н-9 от 2012 г. за реда за създаване и управление на обществените кол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чужди нормативни актове</a:t>
            </a: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-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сгради за обществено обслужване в областта</a:t>
            </a:r>
            <a:r>
              <a:rPr b="0" lang="bg-BG" sz="1600" spc="-1" strike="noStrike">
                <a:solidFill>
                  <a:srgbClr val="002060"/>
                </a:solidFill>
                <a:latin typeface="Arial"/>
              </a:rPr>
              <a:t> н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 образованието и наук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N 5812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Строителство на училища. Строително-технически изисквания за предотвратяване на произше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DIN 1380 Разпределение на функционалните зони и функционалните секции на/в болниц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НиП 2.08.02-89* Обществени сгради и съоръ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ни изисквания при проектиране на училища в Ирланд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поръки за проектирането и строителството на училищни сгради - ново строителство и модернизация –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ане на училищни сгради в гр. Вие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ите училища и кампуси (територия на цялото учебно заведение, вкл. и парк) – планиране - Авст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грама с показатели за помещенията за училищни съоръжения на началното училище - Дефиниция на пространство и строителни изисквания – Швейц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и и принципи за гимназии – Великобр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авила за строителство, саниране и обслужване на спортни обекти в училищата,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ратегии за изграждане на здравословни училища, САЩ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066320"/>
            <a:ext cx="8659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Анализирани чужди нормативни акт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 здравеопазване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едба относно състоянието на сгради на болнични заведения – Авст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едба за изграждане и експлоатация на болници – 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културата и изкуств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риториална наредба за изграждането и експлоатацията на места за събиране – Бав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иректива за изграждане и експлоатация на места на събиране за Саксония-Анхал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ирективата за места на събиране за провинция Хес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едба (код) за устройство на териториите в провинция Баден–Вюртенбер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андарти за музеите - Асоциацията на немските музе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писания за сигурност за музеи и изложбени зали – Герм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ъководство за изграждане и оборудване на обществените библиотеки - Гер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8560" y="228600"/>
            <a:ext cx="878508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564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Съдържание на проекта на нов нормативен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ст пър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Общи изиск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първа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 изисквания към сград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ст  втора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и (съществени) изисквания към строеж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Гл. първ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ханично съпротивление и устойчив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bg-BG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езопасност в случай на пож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тре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гиена, здраве и околн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четвър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ъпност и безопасност при експлоа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пе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щита от ш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 .шес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омия на енергия и тополосъхра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c00000"/>
                </a:solidFill>
                <a:latin typeface="Arial"/>
              </a:rPr>
              <a:t>Гл. седм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чиво използване на природните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22040"/>
            <a:ext cx="8785440" cy="51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5372"/>
                </a:solidFill>
                <a:latin typeface="Arial"/>
              </a:rPr>
              <a:t>Съдържание на проекта на нов нормативен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Arial"/>
              </a:rPr>
              <a:t>Част трет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Изисквания при устройственото планиране, инвестиционното проектиране, строителството и въвеждането в експлоатация на сградите за обществено обслужване за образование и наука, за здравеопазване и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първа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образованието и нау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втора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здравеопазван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Гл. трета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гради за обществено обслужване в областта на културата и изкуств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първ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ериториално устройствени изисквания към урбанизираните територии  и въздействието на околната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втор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и планировъчни изисквания, включително и специфични изисквания към обзавеждането и/или технологичното оборуд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c00000"/>
                </a:solidFill>
                <a:latin typeface="Arial"/>
              </a:rPr>
              <a:t>Раздел трети</a:t>
            </a:r>
            <a:r>
              <a:rPr b="0" lang="bg-BG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ециализирани изисквания към сградните инстал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1. Електро захранване и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2. Инсталации за наблюдение, охрана и контрол на достъп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3. Информационни систе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 4. ВиК-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5. ОВиК- инстал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6. Асансьори, машини  и друга обслужваща тех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3.7. Системи за управление и контрол на сградните инстал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00"/>
                </a:solidFill>
                <a:latin typeface="Arial"/>
              </a:rPr>
              <a:t>Част четвърт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Преходни и заключителни разпоредб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981080" y="79200"/>
            <a:ext cx="48769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15:08:26Z</dcterms:created>
  <dc:creator>Ко4ина</dc:creator>
  <dc:description/>
  <dc:language>en-US</dc:language>
  <cp:lastModifiedBy>Nona Georgieva</cp:lastModifiedBy>
  <dcterms:modified xsi:type="dcterms:W3CDTF">2014-01-22T08:38:44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