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BB9-FD5C-4EA3-BF41-78C137C9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5D9-A8F3-424C-952C-59F35083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262-8637-426E-912D-A209AFFD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927-CE33-4231-A623-D3EE7D6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A6F-1768-4A88-83DC-7714773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997-C872-4CB7-8774-D0B7961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CAA-1165-4CDB-B423-6F1AF2D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864-56A8-4B10-ACDF-A18BC7A2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90E-7E4C-4BCC-BBDF-5EDF9321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660-011F-4C08-90F8-6243F9F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985-B814-4603-8D61-8E98FC7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AE8-749B-452C-BF61-502A4EB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6D0-2093-4877-B2E8-5F657293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189000"/>
            <a:ext cx="5185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102280"/>
            <a:ext cx="8893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НОРМАТИВНА УРЕДБА, СЪСТОЯНИЕ И ИНСТИТУЦИОНАЛНО УСТРОЙСТВО НА ОТРАСЪЛ ВОДОСНАБДЯВАНЕ И КАНАЛИЗАЦИЯ</a:t>
            </a:r>
            <a:br>
              <a:rPr sz="2000"/>
            </a:b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6247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116000" y="3348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rganization Chart 3"/>
          <p:cNvGrpSpPr/>
          <p:nvPr/>
        </p:nvGrpSpPr>
        <p:grpSpPr>
          <a:xfrm>
            <a:off x="1619280" y="1268280"/>
            <a:ext cx="7431480" cy="5038560"/>
            <a:chOff x="1619280" y="1268280"/>
            <a:chExt cx="7431480" cy="5038560"/>
          </a:xfrm>
        </p:grpSpPr>
        <p:cxnSp>
          <p:nvCxnSpPr>
            <p:cNvPr id="151" name="_s55335"/>
            <p:cNvCxnSpPr>
              <a:stCxn id="152" idx="0"/>
              <a:endCxn id="153" idx="2"/>
            </p:cNvCxnSpPr>
            <p:nvPr/>
          </p:nvCxnSpPr>
          <p:spPr>
            <a:xfrm flipH="1" flipV="1" rot="5400000">
              <a:off x="7907760" y="4344120"/>
              <a:ext cx="501840" cy="11484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55319"/>
            <p:cNvCxnSpPr/>
            <p:nvPr/>
          </p:nvCxnSpPr>
          <p:spPr>
            <a:xfrm flipV="1" rot="16200000">
              <a:off x="6508440" y="1257840"/>
              <a:ext cx="710280" cy="28900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55320"/>
            <p:cNvCxnSpPr/>
            <p:nvPr/>
          </p:nvCxnSpPr>
          <p:spPr>
            <a:xfrm flipH="1" flipV="1" rot="5400000">
              <a:off x="2100960" y="4413960"/>
              <a:ext cx="565920" cy="39240"/>
            </a:xfrm>
            <a:prstGeom prst="bentConnector3">
              <a:avLst>
                <a:gd name="adj1" fmla="val 1998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55321"/>
            <p:cNvCxnSpPr/>
            <p:nvPr/>
          </p:nvCxnSpPr>
          <p:spPr>
            <a:xfrm flipV="1" rot="16200000">
              <a:off x="5532480" y="2233800"/>
              <a:ext cx="710280" cy="93816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55322"/>
            <p:cNvCxnSpPr/>
            <p:nvPr/>
          </p:nvCxnSpPr>
          <p:spPr>
            <a:xfrm flipH="1" flipV="1" rot="5400000">
              <a:off x="4525560" y="2197440"/>
              <a:ext cx="710280" cy="101160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55323"/>
            <p:cNvCxnSpPr/>
            <p:nvPr/>
          </p:nvCxnSpPr>
          <p:spPr>
            <a:xfrm flipH="1" flipV="1" rot="5400000">
              <a:off x="3565080" y="1221120"/>
              <a:ext cx="710280" cy="29638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59" name="_s55324"/>
            <p:cNvSpPr/>
            <p:nvPr/>
          </p:nvSpPr>
          <p:spPr>
            <a:xfrm>
              <a:off x="1619280" y="1268280"/>
              <a:ext cx="7416000" cy="1415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ЗАКОН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РЕГУЛИРАНЕ НА ВОДОСНАБДИТЕЛН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 КАНАЛИЗАЦИОННИТЕ УСЛУ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325"/>
            <p:cNvSpPr/>
            <p:nvPr/>
          </p:nvSpPr>
          <p:spPr>
            <a:xfrm>
              <a:off x="1764360" y="3067920"/>
              <a:ext cx="1655640" cy="108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326"/>
            <p:cNvSpPr/>
            <p:nvPr/>
          </p:nvSpPr>
          <p:spPr>
            <a:xfrm>
              <a:off x="3564000" y="3067920"/>
              <a:ext cx="1762560" cy="108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Тарифа за таксите кои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е събират от ДКЕВР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ко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водоснабдителните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нализацион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327"/>
            <p:cNvSpPr/>
            <p:nvPr/>
          </p:nvSpPr>
          <p:spPr>
            <a:xfrm>
              <a:off x="5434920" y="3067920"/>
              <a:ext cx="1818000" cy="108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условията и реда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регистриране на експер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5328"/>
            <p:cNvSpPr/>
            <p:nvPr/>
          </p:nvSpPr>
          <p:spPr>
            <a:xfrm>
              <a:off x="1764360" y="4581360"/>
              <a:ext cx="1944720" cy="1725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къ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редба 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ива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овията и ре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формиране на годиш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целеви 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329"/>
            <p:cNvSpPr/>
            <p:nvPr/>
          </p:nvSpPr>
          <p:spPr>
            <a:xfrm>
              <a:off x="7379280" y="3067920"/>
              <a:ext cx="1671480" cy="108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цените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334"/>
            <p:cNvSpPr/>
            <p:nvPr/>
          </p:nvSpPr>
          <p:spPr>
            <a:xfrm>
              <a:off x="7164360" y="4652280"/>
              <a:ext cx="1870920" cy="1654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на ДКЕ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образуване на це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доставяне на вода д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требителите, отвежд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и пречистване на отпадъч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и на ВиК оператор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и ценово регулиране чре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орма на възвращаемос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пит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0"/>
          <p:cNvSpPr/>
          <p:nvPr/>
        </p:nvSpPr>
        <p:spPr>
          <a:xfrm>
            <a:off x="250920" y="3933720"/>
            <a:ext cx="14396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0196"/>
                </a:srgbClr>
              </a:gs>
            </a:gsLst>
            <a:lin ang="27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етодика</a:t>
            </a:r>
            <a:br>
              <a:rPr sz="1000"/>
            </a:b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 регулиране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допустим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губи на вода въ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водоснабдителн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системи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РРБ</a:t>
            </a:r>
            <a:r>
              <a:rPr b="0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900000" y="3645000"/>
            <a:ext cx="863640" cy="28872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Държавната коми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за енергийно и водно регул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34920" y="981000"/>
            <a:ext cx="8209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съществява дейността си като: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бизнес планове на ВиК операторите и изготвя доклад-анализи на планираните дейности за определения регулаторен 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Участва в периодични и извънредни проверки, и регулаторни прегледи, свързани с контрола на достигнатите нива за качество на предоставяните от ВиК операторите услу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молби и жалби на потребители до ДКЕВР, във връзка с дейността на ВиК операторите и извършва проверки с цел изясняване на поставените пробле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вършва</a:t>
            </a:r>
            <a:r>
              <a:rPr b="1" lang="de-DE" sz="13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редварителен контрол при подготовката на концесионните и другите видове договори за управление на ВиК системите, изготвя становища за съответствието им с нормативната уред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одготвя предложенията за избор на метод на ценово регулира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Разглежда и анализира предложените за утвърждаване цени от ВиК оператор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проекти на актовете на Комисията за утвърждаване на цени, заедно с мотивите към т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на предложения за налагане на принудителни административни мерки и административни наказ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Създава и поддържа база данни за ВиК операторите, свързани с разходите, утвърдените цени и тарифи, постигнатите нива на услуги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042920" y="-720"/>
            <a:ext cx="7704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облеми при управление на отрасъл ВиК при съществуващата правна и институционалн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90000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Отказ на някои общини за включване в асоциации по 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желание за отделяне в допълнителни обособени те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води до раздробяване на системите и предоставяне на ВиК услугите върху малки територии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Неравнопоставеност на малките спрямо по-големите обособени територии по отношение на качеството на услугите и възможностите за инвестиции: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реализиране на „икономия от мащаб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Затруднения при наемане на високо квалифициран персонал за управление  и експлоатация на ВиК инфраструк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генериране на достатъчно приходи за осигуряване на модерна техника за експлоатация и превантивна поддръжка, както и за финансиране на реконструкция и модернизация на систем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атоварване на населението в малките територии с високи  цени за ВиК услуг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еобходимост от 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00000" y="112536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Целта на реформата е гарантиране на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одобряване на качеството на ВиК услуг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едоставяне на ВиК услугите на потребителите на справедлива и  поносим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Регламентиране на собствеността на ВиК системите и съоръженията като публична държавна и публична общинска собстве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здаване на асоциации по ВиК, кои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участват в управлението на  отр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ла в обособените територ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организират планирането на развитието  на инфраструктурата  с регионални генерални планове и дългосрочни инвестиционни прог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ъзлагат чрез договори с операторите стопанисването и  експлоатацията на ВиК системите и   съоръженията и предоставянето на услуги на потреб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инципи на ре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26920" y="1557360"/>
            <a:ext cx="784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ждане на единна национално-отговорна политика в 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оемане на отговорността от държавата и общините за доставяне на вода за питейно-битови нужди до всички потреб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пазване на съществуващата и доказала своята ефективност регионална форма на планиране и управление на  ВиК-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обективни критерии и равнопоставеност при ползване на системите за разпределение на водата между отделните населе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принципа на социална солидарност и справедливост при образуване на цената за доставка на питейна вода до  населените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 algn="just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ечиствателни станции за питейна вода за приоритетно из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7777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  <a:ea typeface="Arial"/>
              </a:rPr>
              <a:t>ПСПВ в експло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00000" y="1009800"/>
            <a:ext cx="778680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омплексн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и значими язовири в експлоатац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06472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Благодаря за внимание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Ул. “Св.</a:t>
            </a:r>
            <a:r>
              <a:rPr b="1" lang="de-DE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в. Кирил и Методий” 1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офия 1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89000"/>
            <a:ext cx="781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ормативна уред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амкова директива за водите  2000/60/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регулиране на ВиК услуг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утвърждаване на методика за определяне на допустимите загуби на вода във водоснабдителните сист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регулиране на цените на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дългосрочните нива на показателите за качество на 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устройство на територи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4 за условията и реда за присъединяване на потребителите и ползване на ВиК систем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9 за качествата на водите, предназначени за питейно-битово водоснабдя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вод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Правилник за  организацията и дейността на Асоциациите по 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изискванията и критериите за ВиК операторите, както и професионалната подготовка и квалификация на техническия им персо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условията и реда за създаване и поддържане на  Единна информационна система за ВиК услугите и на Регистъра на асоциациите по ВиК и на ВиК оператори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Типов договор за възлагането, поддържането и експлоатацията на ВиК системите и съоръженията между асоциациите по ВиК или общинските съвети и ВиК оператор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концеси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държавн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общинск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2762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стояние на водоснабдяването и канализ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2920" y="2565360"/>
            <a:ext cx="78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ост на водоснабдителните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брой на водоснабдените населени места – 5 031 б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процент на населението, живеещо във водоснабдени населени места – 98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Водопроводна мрежа е с обща дължина 74 4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49бр. ПСПВ; В строителство са 7 бр. ПСП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3 600 бр. помпени станции, 6 087 бр. водоеми и голям брой други съоръ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т изградените комплексни и значими язовири  12 бр. са с питейно-битово предназначение, с общ</a:t>
            </a: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наличен  полезен обем  1004,248 млн. м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³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към месец януари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40 % от питейната вода е от повърхностни водоизточници и 60 % от подземни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България има недостатъчност на ресурси от питейна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4360" y="836640"/>
            <a:ext cx="8135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Изградена канализационна мрежа и външни колектори – 9 570 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Делът на канализираните градове е 67 %, а на селата – 3,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експлоатация са 89 бр.ПСПВ, от тях 32 бр. отговарят на изискванията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123 агломерации с над 10 000 жители приоритетно трябва да бъдат обезпечени с пречиствателни станции за отпадъчни води, от тях са построени 58, от които: 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14 бр. отговарят на изискванията на Директива 91/271/Е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44</a:t>
            </a:r>
            <a:r>
              <a:rPr b="0" lang="de-DE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бр. ПСОВ  се нуждаят от частична реконструкция и тя се изпълнява за 10 бр. от 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411 агломерации от 2 000 до 10 000 жители е необходимо да бъдат обезпечени с пречиствателни станции за отпадъчни води, от  тях са  изградени за 31 населени места. За останалите 380 агломерации изграждането предсто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настоящия момент в процес на изграждане и реконструкция са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3 бр. пречиствателни станции за отпадъчни вод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cc"/>
                </a:solidFill>
                <a:latin typeface="Arial"/>
              </a:rPr>
              <a:t>Предвидените средства от Европейските фондове за водния сектор частично покриват строителството на някои от П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763640" y="83880"/>
            <a:ext cx="6264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Управление на ВиК систе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гласно Закона за во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268280"/>
            <a:ext cx="8208360" cy="4747680"/>
            <a:chOff x="755640" y="1268280"/>
            <a:chExt cx="8208360" cy="4747680"/>
          </a:xfrm>
        </p:grpSpPr>
        <p:cxnSp>
          <p:nvCxnSpPr>
            <p:cNvPr id="93" name="_s53262"/>
            <p:cNvCxnSpPr>
              <a:stCxn id="94" idx="1"/>
              <a:endCxn id="95" idx="2"/>
            </p:cNvCxnSpPr>
            <p:nvPr/>
          </p:nvCxnSpPr>
          <p:spPr>
            <a:xfrm flipH="1" rot="10800000">
              <a:off x="3310200" y="2126880"/>
              <a:ext cx="1585440" cy="814680"/>
            </a:xfrm>
            <a:prstGeom prst="bentConnector4">
              <a:avLst>
                <a:gd name="adj1" fmla="val -7199"/>
                <a:gd name="adj2" fmla="val 76392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" name="_s53263"/>
            <p:cNvCxnSpPr>
              <a:stCxn id="97" idx="0"/>
              <a:endCxn id="98" idx="2"/>
            </p:cNvCxnSpPr>
            <p:nvPr/>
          </p:nvCxnSpPr>
          <p:spPr>
            <a:xfrm flipV="1">
              <a:off x="7666920" y="4726080"/>
              <a:ext cx="324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9" name="_s53264"/>
            <p:cNvCxnSpPr>
              <a:stCxn id="100" idx="0"/>
              <a:endCxn id="101" idx="2"/>
            </p:cNvCxnSpPr>
            <p:nvPr/>
          </p:nvCxnSpPr>
          <p:spPr>
            <a:xfrm flipV="1">
              <a:off x="2052000" y="4726080"/>
              <a:ext cx="396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2" name="_s53265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4643640" y="4937040"/>
              <a:ext cx="435600" cy="3240"/>
            </a:xfrm>
            <a:prstGeom prst="bentConnector3">
              <a:avLst>
                <a:gd name="adj1" fmla="val 26137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5" name="_s53266"/>
            <p:cNvCxnSpPr>
              <a:stCxn id="98" idx="0"/>
              <a:endCxn id="95" idx="2"/>
            </p:cNvCxnSpPr>
            <p:nvPr/>
          </p:nvCxnSpPr>
          <p:spPr>
            <a:xfrm flipV="1" rot="16200000">
              <a:off x="5411160" y="1610640"/>
              <a:ext cx="1739880" cy="2772000"/>
            </a:xfrm>
            <a:prstGeom prst="bentConnector3">
              <a:avLst>
                <a:gd name="adj1" fmla="val 7098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6" name="_s53267"/>
            <p:cNvCxnSpPr>
              <a:stCxn id="104" idx="0"/>
              <a:endCxn id="95" idx="2"/>
            </p:cNvCxnSpPr>
            <p:nvPr/>
          </p:nvCxnSpPr>
          <p:spPr>
            <a:xfrm flipH="1" flipV="1" rot="5400000">
              <a:off x="4013640" y="2976120"/>
              <a:ext cx="1731240" cy="32760"/>
            </a:xfrm>
            <a:prstGeom prst="bentConnector3">
              <a:avLst>
                <a:gd name="adj1" fmla="val 6593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107" name="_s53268"/>
            <p:cNvCxnSpPr/>
            <p:nvPr/>
          </p:nvCxnSpPr>
          <p:spPr>
            <a:xfrm flipH="1" flipV="1" rot="5400000">
              <a:off x="2599560" y="1579680"/>
              <a:ext cx="1743480" cy="2843640"/>
            </a:xfrm>
            <a:prstGeom prst="bentConnector3">
              <a:avLst>
                <a:gd name="adj1" fmla="val 7104"/>
              </a:avLst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5" name="_s53269"/>
            <p:cNvSpPr/>
            <p:nvPr/>
          </p:nvSpPr>
          <p:spPr>
            <a:xfrm>
              <a:off x="3310560" y="12682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МИНИСТЕР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СЪ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3270"/>
            <p:cNvSpPr/>
            <p:nvPr/>
          </p:nvSpPr>
          <p:spPr>
            <a:xfrm>
              <a:off x="75564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3271"/>
            <p:cNvSpPr/>
            <p:nvPr/>
          </p:nvSpPr>
          <p:spPr>
            <a:xfrm>
              <a:off x="3563280" y="3858480"/>
              <a:ext cx="2596680" cy="8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3272"/>
            <p:cNvSpPr/>
            <p:nvPr/>
          </p:nvSpPr>
          <p:spPr>
            <a:xfrm>
              <a:off x="637020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ОБЩИНСКИ СЪВ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НА  ОБЩИНИ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3273"/>
            <p:cNvSpPr/>
            <p:nvPr/>
          </p:nvSpPr>
          <p:spPr>
            <a:xfrm>
              <a:off x="3563280" y="5156640"/>
              <a:ext cx="259668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-ОБЩИНСК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3274"/>
            <p:cNvSpPr/>
            <p:nvPr/>
          </p:nvSpPr>
          <p:spPr>
            <a:xfrm>
              <a:off x="755640" y="5156640"/>
              <a:ext cx="259380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53275"/>
            <p:cNvSpPr/>
            <p:nvPr/>
          </p:nvSpPr>
          <p:spPr>
            <a:xfrm>
              <a:off x="6370200" y="515664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ОБЩИНСК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3276"/>
            <p:cNvSpPr/>
            <p:nvPr/>
          </p:nvSpPr>
          <p:spPr>
            <a:xfrm>
              <a:off x="3310560" y="25120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МИНИСТЪР НА РЕГИОНАЛН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РАЗВИТИЕ И БЛАГОУСТРОЙСТВ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ОБЩИНСКИТЕ СЪВЕТ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КМЕТОВЕТЕ НА ОБЩИН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116000" y="-21240"/>
            <a:ext cx="802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Функциониращи ВиК оператори на територи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а Република Бълг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2864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1015920" indent="-342720">
              <a:lnSpc>
                <a:spcPct val="105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3 ВОДНИ КОМПАН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 броя със 100 % държавн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 броя  с 51 % държавно участие и 49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2 броя със 100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 брой отдадено на концесия – “Софийска вода” 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1 броя  частни водни компании, обслужващи обекти частна собств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116000" y="-92520"/>
            <a:ext cx="7867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Институционално устройство и съществуващи форми на управление във водоснабдяването и канализаци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820000" cy="5186160"/>
        </p:xfrm>
        <a:graphic>
          <a:graphicData uri="http://schemas.openxmlformats.org/drawingml/2006/table">
            <a:tbl>
              <a:tblPr/>
              <a:tblGrid>
                <a:gridCol w="1796760"/>
                <a:gridCol w="2419560"/>
                <a:gridCol w="2400120"/>
                <a:gridCol w="22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орма на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месена:  51%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9%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ЛАГО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УРГ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ВИД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ОБ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ПАЗАРДЖ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ПЛЕ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ПЛОВД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РАЗ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СМОЛЯ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СОФИЯ-ОБЛА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ТАРА ЗАГ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ХАСК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ЯМБ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КЮСТЕНД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ВА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ВРА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ГАБР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ИМИТРО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ИСПЕ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КЪРДЖ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ЛОВЕ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МОНТ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ПЕР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РУ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ИЛИС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СЛИ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ТЪРГОВ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ШУМ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ВЕЛИКО ТЪРН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А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Е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БЕРКОВ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БОТ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БРАЦИГ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ВЕЛИН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ДУПН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КРЕС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КУБР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ПАНАГЮР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ПЕТ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ПЕЩ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РАКИТ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САНДАНС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СВИЩ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.СЕВЛИ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.СОФИЯ ГРАД</a:t>
                      </a:r>
                      <a:r>
                        <a:rPr b="1" lang="de-DE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K</a:t>
                      </a: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НЦЕ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СТРЕЛ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.ТРОЯ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.С.МИКР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.СТАМБО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2.САПАРЕВА БА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3.КНЕЖ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4000" y="656748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11 броя частни ВиК оператори, обслужващи обекти частна собстве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rganization Chart 3"/>
          <p:cNvGrpSpPr/>
          <p:nvPr/>
        </p:nvGrpSpPr>
        <p:grpSpPr>
          <a:xfrm>
            <a:off x="468720" y="1267920"/>
            <a:ext cx="8495280" cy="4751640"/>
            <a:chOff x="468720" y="1267920"/>
            <a:chExt cx="8495280" cy="4751640"/>
          </a:xfrm>
        </p:grpSpPr>
        <p:cxnSp>
          <p:nvCxnSpPr>
            <p:cNvPr id="133" name="_s717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4280400" y="2058120"/>
              <a:ext cx="578520" cy="396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7179"/>
            <p:cNvCxnSpPr/>
            <p:nvPr/>
          </p:nvCxnSpPr>
          <p:spPr>
            <a:xfrm flipV="1" rot="16200000">
              <a:off x="5221080" y="617760"/>
              <a:ext cx="2234160" cy="3533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7180"/>
            <p:cNvCxnSpPr/>
            <p:nvPr/>
          </p:nvCxnSpPr>
          <p:spPr>
            <a:xfrm flipV="1" rot="16200000">
              <a:off x="4178880" y="1659960"/>
              <a:ext cx="2234160" cy="14493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7182"/>
            <p:cNvCxnSpPr/>
            <p:nvPr/>
          </p:nvCxnSpPr>
          <p:spPr>
            <a:xfrm flipH="1" flipV="1" rot="5400000">
              <a:off x="3038400" y="1936440"/>
              <a:ext cx="2234160" cy="896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9" name="_s7183"/>
            <p:cNvCxnSpPr/>
            <p:nvPr/>
          </p:nvCxnSpPr>
          <p:spPr>
            <a:xfrm flipH="1" flipV="1" rot="5400000">
              <a:off x="1850040" y="748080"/>
              <a:ext cx="2234160" cy="327348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5" name="_s7184"/>
            <p:cNvSpPr/>
            <p:nvPr/>
          </p:nvSpPr>
          <p:spPr>
            <a:xfrm>
              <a:off x="3058920" y="1268280"/>
              <a:ext cx="3018960" cy="503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ИНИСТЕРСКИ СЪ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7185"/>
            <p:cNvSpPr/>
            <p:nvPr/>
          </p:nvSpPr>
          <p:spPr>
            <a:xfrm>
              <a:off x="468720" y="3500280"/>
              <a:ext cx="1655280" cy="158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4 БРО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186"/>
            <p:cNvSpPr/>
            <p:nvPr/>
          </p:nvSpPr>
          <p:spPr>
            <a:xfrm>
              <a:off x="2701080" y="3500280"/>
              <a:ext cx="1943280" cy="158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5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51% - 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49% - 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88"/>
            <p:cNvSpPr/>
            <p:nvPr/>
          </p:nvSpPr>
          <p:spPr>
            <a:xfrm>
              <a:off x="5076000" y="3500280"/>
              <a:ext cx="1739520" cy="158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3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7189"/>
            <p:cNvSpPr/>
            <p:nvPr/>
          </p:nvSpPr>
          <p:spPr>
            <a:xfrm>
              <a:off x="7236000" y="3500280"/>
              <a:ext cx="1728000" cy="2519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0" tIns="118800" bIns="11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ЧЛ. 2, АЛ.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ОТ ЗРВ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ПО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СИСТЕМ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ЯЗОВИРИ И КАСКА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ОМИШЛЕ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ЕДПРИЯ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ЕДНОЛИЧНИ ТЪРГОВЦ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ОСНАБД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ООПЕР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(НАД 1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0 БРОЯ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7190"/>
            <p:cNvSpPr/>
            <p:nvPr/>
          </p:nvSpPr>
          <p:spPr>
            <a:xfrm>
              <a:off x="1258560" y="2349360"/>
              <a:ext cx="6626520" cy="504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ДЪРЖАВНА КОМИСИЯ ЗА ЕНЕРГИИНО И ВОДНО РЕГУЛИРА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44:08Z</dcterms:created>
  <dc:creator>PetkovI</dc:creator>
  <dc:description/>
  <dc:language>en-US</dc:language>
  <cp:lastModifiedBy>PetkovI</cp:lastModifiedBy>
  <dcterms:modified xsi:type="dcterms:W3CDTF">2011-04-08T10:52:13Z</dcterms:modified>
  <cp:revision>94</cp:revision>
  <dc:subject/>
  <dc:title>Slide 1</dc:title>
</cp:coreProperties>
</file>