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media/CAMERA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4440" y="686880"/>
            <a:ext cx="4569120" cy="342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A399-F92B-4629-A075-3DAAFCC9023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AC02-63EE-49BB-9158-EE5C0CE5516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FE6B-57CE-499B-A999-EFB1821BD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E243-E7E0-4C39-B252-0BD06D30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96C8-EAB4-4DDC-9566-5F4800F11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3F16-F9C1-45DA-A2B1-70E3B28FE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47F6-C1D9-4DD5-984E-FD488280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8700-3A10-4456-A418-B5FF3C78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6F75-0867-41C3-987B-775E0CF9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1A22-B6B9-454D-89B7-3C2E9DB8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D6B5-8DB5-4584-B032-587731D1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0159-E94A-4B28-BADB-FB60151E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70A9-369A-4FE1-88B5-3CCD6CD4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3892-17FE-49D4-A940-DE044C0B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E3C5-114D-43C3-9B6B-7A8871742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miro_yotov@abv.bg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3B93-DCF7-44AF-A447-660D08A56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ЪРЖАВНА АГЕНЦИЯ ЗА  МЕТРОЛОГИЧЕН И ТЕХНИЧЕСКИ НАДЗО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280" y="1676160"/>
            <a:ext cx="8280360" cy="456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ПРИЛАГАНЕ 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НАРЕДБАТА ЗА СЪЩЕСТВЕНИТЕ ИЗИСКВАНИЯ КЪМ СТРОЕЖИТЕ И ОЦЕНЯВАНЕ СЪОТВЕТСТВИЕТО НА СТРОИТЕЛНИТЕ ПРОДУК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bg-BG" sz="1600" spc="-1" strike="noStrike">
                <a:solidFill>
                  <a:srgbClr val="000000"/>
                </a:solidFill>
                <a:latin typeface="Times New Roman"/>
              </a:rPr>
              <a:t>ИНЖ. МИРОСЛАВ ЙО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bg-BG" sz="1600" spc="-1" strike="noStrike">
                <a:solidFill>
                  <a:srgbClr val="000000"/>
                </a:solidFill>
                <a:latin typeface="Times New Roman"/>
              </a:rPr>
              <a:t>ГЛАВНА ДИРЕКЦИЯ “НАДЗОР НА ПАЗАРА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4"/>
          <p:cNvGraphicFramePr/>
          <p:nvPr/>
        </p:nvGraphicFramePr>
        <p:xfrm>
          <a:off x="609480" y="304920"/>
          <a:ext cx="116064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04920"/>
                    <a:ext cx="11606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1626-D568-41C8-A247-9C8F23C9D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6" name="Group 2"/>
          <p:cNvGrpSpPr/>
          <p:nvPr/>
        </p:nvGrpSpPr>
        <p:grpSpPr>
          <a:xfrm>
            <a:off x="609480" y="304920"/>
            <a:ext cx="8020080" cy="1256760"/>
            <a:chOff x="609480" y="304920"/>
            <a:chExt cx="8020080" cy="1256760"/>
          </a:xfrm>
        </p:grpSpPr>
        <p:graphicFrame>
          <p:nvGraphicFramePr>
            <p:cNvPr id="117" name="Object 3"/>
            <p:cNvGraphicFramePr/>
            <p:nvPr/>
          </p:nvGraphicFramePr>
          <p:xfrm>
            <a:off x="609480" y="304920"/>
            <a:ext cx="1160640" cy="1142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8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304920"/>
                      <a:ext cx="1160640" cy="114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9" name="Rectangle 4"/>
            <p:cNvSpPr/>
            <p:nvPr/>
          </p:nvSpPr>
          <p:spPr>
            <a:xfrm>
              <a:off x="1847880" y="419040"/>
              <a:ext cx="6781680" cy="11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Times New Roman"/>
                </a:rPr>
                <a:t>Д</a:t>
              </a:r>
              <a:r>
                <a:rPr b="0" lang="bg-BG" sz="2000" spc="-1" strike="noStrike">
                  <a:solidFill>
                    <a:srgbClr val="b2b2b2"/>
                  </a:solidFill>
                  <a:latin typeface="Times New Roman"/>
                </a:rPr>
                <a:t>ЪРЖАВНА АГЕНЦИЯ ЗА </a:t>
              </a:r>
              <a:br>
                <a:rPr sz="2000"/>
              </a:br>
              <a:r>
                <a:rPr b="0" lang="bg-BG" sz="2000" spc="-1" strike="noStrike">
                  <a:solidFill>
                    <a:srgbClr val="b2b2b2"/>
                  </a:solidFill>
                  <a:latin typeface="Times New Roman"/>
                </a:rPr>
                <a:t>МЕТРОЛОГИЧЕН И ТЕХНИЧЕСКИ НАДЗОР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0" name="Rectangle 5"/>
          <p:cNvSpPr/>
          <p:nvPr/>
        </p:nvSpPr>
        <p:spPr>
          <a:xfrm>
            <a:off x="685800" y="160020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</a:rPr>
              <a:t>ЕО Сертификат за съответствие на строителен продукт или за производствения контрол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228600" y="3048120"/>
            <a:ext cx="86104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Издава се от нотифицирания орган оценил съответствието но продукта или производствения контрол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В ЕО сертификата за съответствие трябва да бъдат включени данни за органа за сертификация и идентификационния му номер, данни за производителя, описание на продукта, технически спецификации, номер и дата на издаване, срок на валидност, име и длъжност на лицето, което подписва сертификат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A5AB-969A-4F47-B27F-1E5BA56B3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3" name="Group 2"/>
          <p:cNvGrpSpPr/>
          <p:nvPr/>
        </p:nvGrpSpPr>
        <p:grpSpPr>
          <a:xfrm>
            <a:off x="609480" y="304920"/>
            <a:ext cx="8020080" cy="1256760"/>
            <a:chOff x="609480" y="304920"/>
            <a:chExt cx="8020080" cy="1256760"/>
          </a:xfrm>
        </p:grpSpPr>
        <p:graphicFrame>
          <p:nvGraphicFramePr>
            <p:cNvPr id="124" name="Object 3"/>
            <p:cNvGraphicFramePr/>
            <p:nvPr/>
          </p:nvGraphicFramePr>
          <p:xfrm>
            <a:off x="609480" y="304920"/>
            <a:ext cx="1160640" cy="1142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5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304920"/>
                      <a:ext cx="1160640" cy="114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6" name="Rectangle 4"/>
            <p:cNvSpPr/>
            <p:nvPr/>
          </p:nvSpPr>
          <p:spPr>
            <a:xfrm>
              <a:off x="1847880" y="419040"/>
              <a:ext cx="6781680" cy="11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Times New Roman"/>
                </a:rPr>
                <a:t>Д</a:t>
              </a:r>
              <a:r>
                <a:rPr b="0" lang="bg-BG" sz="2000" spc="-1" strike="noStrike">
                  <a:solidFill>
                    <a:srgbClr val="b2b2b2"/>
                  </a:solidFill>
                  <a:latin typeface="Times New Roman"/>
                </a:rPr>
                <a:t>ЪРЖАВНА АГЕНЦИЯ ЗА </a:t>
              </a:r>
              <a:br>
                <a:rPr sz="2000"/>
              </a:br>
              <a:r>
                <a:rPr b="0" lang="bg-BG" sz="2000" spc="-1" strike="noStrike">
                  <a:solidFill>
                    <a:srgbClr val="b2b2b2"/>
                  </a:solidFill>
                  <a:latin typeface="Times New Roman"/>
                </a:rPr>
                <a:t>МЕТРОЛОГИЧЕН И ТЕХНИЧЕСКИ НАДЗОР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7" name="Text Box 8"/>
          <p:cNvSpPr/>
          <p:nvPr/>
        </p:nvSpPr>
        <p:spPr>
          <a:xfrm>
            <a:off x="1143000" y="13716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</a:rPr>
              <a:t>Техническо досие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533520" y="1905120"/>
            <a:ext cx="81532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Има за цел да предостави информация за проектирането, производството и начина на функциониране на продукт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Изготвя се от производителя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Съдържа необходимата информация относно съответствието на продукта с приложимите изисквания на Директивата от “Нов подход”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Срок на съхранение – най-малко 10 години от последната дата на производство на даден строителен продук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F894-69C3-4274-9F49-0BFD367A5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228600" y="21337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1447920" y="3048120"/>
            <a:ext cx="65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1187280" y="1887480"/>
            <a:ext cx="734544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Телефони:</a:t>
            </a: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++359 2 986 1991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++359 2 9396 787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Факс:</a:t>
            </a: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+359 2 986 1707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mail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iro_yotov@abv.bg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bg-BG" sz="3200" spc="-1" strike="noStrike">
                <a:solidFill>
                  <a:srgbClr val="000000"/>
                </a:solidFill>
                <a:latin typeface="Times New Roman"/>
              </a:rPr>
              <a:t>Благодаря за вниманието!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3" name="Group 7"/>
          <p:cNvGrpSpPr/>
          <p:nvPr/>
        </p:nvGrpSpPr>
        <p:grpSpPr>
          <a:xfrm>
            <a:off x="609480" y="457200"/>
            <a:ext cx="8020080" cy="1257480"/>
            <a:chOff x="609480" y="457200"/>
            <a:chExt cx="8020080" cy="1257480"/>
          </a:xfrm>
        </p:grpSpPr>
        <p:graphicFrame>
          <p:nvGraphicFramePr>
            <p:cNvPr id="134" name="Object 8"/>
            <p:cNvGraphicFramePr/>
            <p:nvPr/>
          </p:nvGraphicFramePr>
          <p:xfrm>
            <a:off x="609480" y="457200"/>
            <a:ext cx="1160640" cy="1143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35" name="Object 8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09480" y="457200"/>
                      <a:ext cx="11606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6" name="Rectangle 9"/>
            <p:cNvSpPr/>
            <p:nvPr/>
          </p:nvSpPr>
          <p:spPr>
            <a:xfrm>
              <a:off x="1847880" y="571680"/>
              <a:ext cx="67816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Times New Roman"/>
                </a:rPr>
                <a:t>Д</a:t>
              </a:r>
              <a:r>
                <a:rPr b="0" lang="bg-BG" sz="2000" spc="-1" strike="noStrike">
                  <a:solidFill>
                    <a:srgbClr val="b2b2b2"/>
                  </a:solidFill>
                  <a:latin typeface="Times New Roman"/>
                </a:rPr>
                <a:t>ЪРЖАВНА АГЕНЦИЯ ЗА </a:t>
              </a:r>
              <a:br>
                <a:rPr sz="2000"/>
              </a:br>
              <a:r>
                <a:rPr b="0" lang="bg-BG" sz="2000" spc="-1" strike="noStrike">
                  <a:solidFill>
                    <a:srgbClr val="b2b2b2"/>
                  </a:solidFill>
                  <a:latin typeface="Times New Roman"/>
                </a:rPr>
                <a:t>МЕТРОЛОГИЧЕН И ТЕХНИЧЕСКИ НАДЗОР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393B-541F-42CF-9D35-90C558BCF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" name="Group 4"/>
          <p:cNvGrpSpPr/>
          <p:nvPr/>
        </p:nvGrpSpPr>
        <p:grpSpPr>
          <a:xfrm>
            <a:off x="609480" y="457200"/>
            <a:ext cx="8020080" cy="1257480"/>
            <a:chOff x="609480" y="457200"/>
            <a:chExt cx="8020080" cy="1257480"/>
          </a:xfrm>
        </p:grpSpPr>
        <p:graphicFrame>
          <p:nvGraphicFramePr>
            <p:cNvPr id="55" name="Object 5"/>
            <p:cNvGraphicFramePr/>
            <p:nvPr/>
          </p:nvGraphicFramePr>
          <p:xfrm>
            <a:off x="609480" y="457200"/>
            <a:ext cx="1160640" cy="114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6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457200"/>
                      <a:ext cx="11606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" name="Rectangle 6"/>
            <p:cNvSpPr/>
            <p:nvPr/>
          </p:nvSpPr>
          <p:spPr>
            <a:xfrm>
              <a:off x="1847880" y="571680"/>
              <a:ext cx="67816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Times New Roman"/>
                </a:rPr>
                <a:t>Д</a:t>
              </a:r>
              <a:r>
                <a:rPr b="0" lang="bg-BG" sz="2000" spc="-1" strike="noStrike">
                  <a:solidFill>
                    <a:srgbClr val="b2b2b2"/>
                  </a:solidFill>
                  <a:latin typeface="Times New Roman"/>
                </a:rPr>
                <a:t>ЪРЖАВНА АГЕНЦИЯ ЗА </a:t>
              </a:r>
              <a:br>
                <a:rPr sz="2000"/>
              </a:br>
              <a:r>
                <a:rPr b="0" lang="bg-BG" sz="2000" spc="-1" strike="noStrike">
                  <a:solidFill>
                    <a:srgbClr val="b2b2b2"/>
                  </a:solidFill>
                  <a:latin typeface="Times New Roman"/>
                </a:rPr>
                <a:t>МЕТРОЛОГИЧЕН И ТЕХНИЧЕСКИ НАДЗОР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Rectangle 7"/>
          <p:cNvSpPr/>
          <p:nvPr/>
        </p:nvSpPr>
        <p:spPr>
          <a:xfrm>
            <a:off x="4572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ЗАКОНОДАТЕЛСТВО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95280" y="2438280"/>
            <a:ext cx="842472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Закон за техническите изисквания към продуктите (ЗТИП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bg-BG" sz="1800" spc="-1" strike="noStrike">
                <a:solidFill>
                  <a:srgbClr val="000000"/>
                </a:solidFill>
                <a:latin typeface="Times New Roman"/>
              </a:rPr>
              <a:t>ДВ, бр. 86/1999г., изм. и доп. бр. 76/2006г.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Наредба за условията и реда за извършване на надзор на пазара (НУРИНП)</a:t>
            </a: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bg-BG" sz="1800" spc="-1" strike="noStrike">
                <a:solidFill>
                  <a:srgbClr val="000000"/>
                </a:solidFill>
                <a:latin typeface="Times New Roman"/>
              </a:rPr>
              <a:t>ДВ, бр. 49/2003г., изм. и доп. бр. 85/2005г.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Наредба за съществените изисквания към строежите и оценяване съответствието на строителните продукти  (НСИСОССП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bg-BG" sz="1800" spc="-1" strike="noStrike">
                <a:solidFill>
                  <a:srgbClr val="000000"/>
                </a:solidFill>
                <a:latin typeface="Times New Roman"/>
              </a:rPr>
              <a:t>ДВ, бр. 106/2006г., изм. и доп. бр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bg-BG" sz="1800" spc="-1" strike="noStrike">
                <a:solidFill>
                  <a:srgbClr val="000000"/>
                </a:solidFill>
                <a:latin typeface="Times New Roman"/>
              </a:rPr>
              <a:t>/200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i="1" lang="bg-BG" sz="18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A198-0A66-4E58-A596-BC287A26E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" name="Group 3"/>
          <p:cNvGrpSpPr/>
          <p:nvPr/>
        </p:nvGrpSpPr>
        <p:grpSpPr>
          <a:xfrm>
            <a:off x="609480" y="457200"/>
            <a:ext cx="8020080" cy="1257480"/>
            <a:chOff x="609480" y="457200"/>
            <a:chExt cx="8020080" cy="1257480"/>
          </a:xfrm>
        </p:grpSpPr>
        <p:graphicFrame>
          <p:nvGraphicFramePr>
            <p:cNvPr id="62" name="Object 4"/>
            <p:cNvGraphicFramePr/>
            <p:nvPr/>
          </p:nvGraphicFramePr>
          <p:xfrm>
            <a:off x="609480" y="457200"/>
            <a:ext cx="1160640" cy="114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457200"/>
                      <a:ext cx="11606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" name="Rectangle 5"/>
            <p:cNvSpPr/>
            <p:nvPr/>
          </p:nvSpPr>
          <p:spPr>
            <a:xfrm>
              <a:off x="1847880" y="571680"/>
              <a:ext cx="67816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Times New Roman"/>
                </a:rPr>
                <a:t>Д</a:t>
              </a:r>
              <a:r>
                <a:rPr b="0" lang="bg-BG" sz="2000" spc="-1" strike="noStrike">
                  <a:solidFill>
                    <a:srgbClr val="b2b2b2"/>
                  </a:solidFill>
                  <a:latin typeface="Times New Roman"/>
                </a:rPr>
                <a:t>ЪРЖАВНА АГЕНЦИЯ ЗА </a:t>
              </a:r>
              <a:br>
                <a:rPr sz="2000"/>
              </a:br>
              <a:r>
                <a:rPr b="0" lang="bg-BG" sz="2000" spc="-1" strike="noStrike">
                  <a:solidFill>
                    <a:srgbClr val="b2b2b2"/>
                  </a:solidFill>
                  <a:latin typeface="Times New Roman"/>
                </a:rPr>
                <a:t>МЕТРОЛОГИЧЕН И ТЕХНИЧЕСКИ НАДЗОР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5" name="Text Box 6"/>
          <p:cNvSpPr/>
          <p:nvPr/>
        </p:nvSpPr>
        <p:spPr>
          <a:xfrm>
            <a:off x="685800" y="1484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Times New Roman"/>
              </a:rPr>
              <a:t>Групи строителни продукти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324000" y="1979640"/>
            <a:ext cx="8610480" cy="48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и отговарящи на европейски</a:t>
            </a: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и спецификаци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чл.4, ал.1 от НСИСОСС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Български стандарти въвеждащи хармонизирани европейски  европейски стандарти, или еквивалентни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1" lang="bg-BG" sz="1600" spc="-1" strike="noStrike">
                <a:solidFill>
                  <a:srgbClr val="000000"/>
                </a:solidFill>
                <a:latin typeface="Times New Roman"/>
              </a:rPr>
              <a:t>Топлоизолационни продукти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- БДС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13162, БДС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13163, БДС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13164, БДС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   13165, БДС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13166, БДС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13167, БДС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13168, БДС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13169, БДС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13170, БДС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13171, БДС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14063, БДС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14316, БДС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14317</a:t>
            </a:r>
            <a:r>
              <a:rPr b="1" lang="bg-BG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ahoma"/>
              </a:rPr>
              <a:t>►</a:t>
            </a:r>
            <a:r>
              <a:rPr b="1" lang="bg-BG" sz="1600" spc="-1" strike="noStrike">
                <a:solidFill>
                  <a:srgbClr val="000000"/>
                </a:solidFill>
                <a:latin typeface="Times New Roman"/>
              </a:rPr>
              <a:t>Хидроизолационни продукти - 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БДС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13707, БДС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13859, БДС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13956, БДС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13967, БДС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13969, БДС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13970, БДС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13984, БДС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14909, БДС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14967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Европейски технически одобрения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AG 004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AG 005</a:t>
            </a:r>
            <a:r>
              <a:rPr b="0" lang="bg-BG" sz="16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TAG 00</a:t>
            </a:r>
            <a:r>
              <a:rPr b="0" lang="bg-BG" sz="16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Признати национални технически спецификации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7C78-A5A2-4896-8994-6A410424B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8" name="Group 1027"/>
          <p:cNvGrpSpPr/>
          <p:nvPr/>
        </p:nvGrpSpPr>
        <p:grpSpPr>
          <a:xfrm>
            <a:off x="609480" y="457200"/>
            <a:ext cx="8020080" cy="1257480"/>
            <a:chOff x="609480" y="457200"/>
            <a:chExt cx="8020080" cy="1257480"/>
          </a:xfrm>
        </p:grpSpPr>
        <p:graphicFrame>
          <p:nvGraphicFramePr>
            <p:cNvPr id="69" name="Object 1028"/>
            <p:cNvGraphicFramePr/>
            <p:nvPr/>
          </p:nvGraphicFramePr>
          <p:xfrm>
            <a:off x="609480" y="457200"/>
            <a:ext cx="1160640" cy="114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0" name="Object 102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457200"/>
                      <a:ext cx="11606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" name="Rectangle 1029"/>
            <p:cNvSpPr/>
            <p:nvPr/>
          </p:nvSpPr>
          <p:spPr>
            <a:xfrm>
              <a:off x="1847880" y="571680"/>
              <a:ext cx="67816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Times New Roman"/>
                </a:rPr>
                <a:t>Д</a:t>
              </a:r>
              <a:r>
                <a:rPr b="0" lang="bg-BG" sz="2000" spc="-1" strike="noStrike">
                  <a:solidFill>
                    <a:srgbClr val="b2b2b2"/>
                  </a:solidFill>
                  <a:latin typeface="Times New Roman"/>
                </a:rPr>
                <a:t>ЪРЖАВНА АГЕНЦИЯ ЗА </a:t>
              </a:r>
              <a:br>
                <a:rPr sz="2000"/>
              </a:br>
              <a:r>
                <a:rPr b="0" lang="bg-BG" sz="2000" spc="-1" strike="noStrike">
                  <a:solidFill>
                    <a:srgbClr val="b2b2b2"/>
                  </a:solidFill>
                  <a:latin typeface="Times New Roman"/>
                </a:rPr>
                <a:t>МЕТРОЛОГИЧЕН И ТЕХНИЧЕСКИ НАДЗОР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2" name="Text Box 1030"/>
          <p:cNvSpPr/>
          <p:nvPr/>
        </p:nvSpPr>
        <p:spPr>
          <a:xfrm>
            <a:off x="685800" y="16765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Times New Roman"/>
              </a:rPr>
              <a:t>Групи строителни продукти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Text Box 1031"/>
          <p:cNvSpPr/>
          <p:nvPr/>
        </p:nvSpPr>
        <p:spPr>
          <a:xfrm>
            <a:off x="228600" y="2514600"/>
            <a:ext cx="8534520" cy="38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и отговарящи на </a:t>
            </a: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български   </a:t>
            </a:r>
            <a:r>
              <a:rPr b="0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и спецификаци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чл.4, ал.2 от НСИСОСС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bg-BG" sz="2400" spc="-1" strike="noStrike">
                <a:solidFill>
                  <a:srgbClr val="ff0000"/>
                </a:solidFill>
                <a:latin typeface="Times New Roman"/>
              </a:rPr>
              <a:t>за влагане в строежи само на територията на Р България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Български стандарти, с които се въвеждат европейски стандарти или международни, или еквивалентни;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Български стандарти или еквивалентни;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Български технически одобрения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3A05-9DED-4D09-92D7-5018DA237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" name="Group 2"/>
          <p:cNvGrpSpPr/>
          <p:nvPr/>
        </p:nvGrpSpPr>
        <p:grpSpPr>
          <a:xfrm>
            <a:off x="609480" y="457200"/>
            <a:ext cx="8020080" cy="1257480"/>
            <a:chOff x="609480" y="457200"/>
            <a:chExt cx="8020080" cy="1257480"/>
          </a:xfrm>
        </p:grpSpPr>
        <p:graphicFrame>
          <p:nvGraphicFramePr>
            <p:cNvPr id="76" name="Object 3"/>
            <p:cNvGraphicFramePr/>
            <p:nvPr/>
          </p:nvGraphicFramePr>
          <p:xfrm>
            <a:off x="609480" y="457200"/>
            <a:ext cx="1160640" cy="114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7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457200"/>
                      <a:ext cx="11606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" name="Rectangle 4"/>
            <p:cNvSpPr/>
            <p:nvPr/>
          </p:nvSpPr>
          <p:spPr>
            <a:xfrm>
              <a:off x="1847880" y="571680"/>
              <a:ext cx="67816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Times New Roman"/>
                </a:rPr>
                <a:t>Д</a:t>
              </a:r>
              <a:r>
                <a:rPr b="0" lang="bg-BG" sz="2000" spc="-1" strike="noStrike">
                  <a:solidFill>
                    <a:srgbClr val="b2b2b2"/>
                  </a:solidFill>
                  <a:latin typeface="Times New Roman"/>
                </a:rPr>
                <a:t>ЪРЖАВНА АГЕНЦИЯ ЗА </a:t>
              </a:r>
              <a:br>
                <a:rPr sz="2000"/>
              </a:br>
              <a:r>
                <a:rPr b="0" lang="bg-BG" sz="2000" spc="-1" strike="noStrike">
                  <a:solidFill>
                    <a:srgbClr val="b2b2b2"/>
                  </a:solidFill>
                  <a:latin typeface="Times New Roman"/>
                </a:rPr>
                <a:t>МЕТРОЛОГИЧЕН И ТЕХНИЧЕСКИ НАДЗОР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9" name="Text Box 5"/>
          <p:cNvSpPr/>
          <p:nvPr/>
        </p:nvSpPr>
        <p:spPr>
          <a:xfrm>
            <a:off x="2362320" y="2057400"/>
            <a:ext cx="6019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Съгласно § 3, ал.3 от Допълнителните разпоредби на ЗТИП българските стандарти, въвеждащи хармонизирани европейски стандарти са задължителни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0" name="Picture 6" descr="sy01265_"/>
          <p:cNvPicPr/>
          <p:nvPr/>
        </p:nvPicPr>
        <p:blipFill>
          <a:blip r:embed="rId3"/>
          <a:stretch/>
        </p:blipFill>
        <p:spPr>
          <a:xfrm>
            <a:off x="1219320" y="1828800"/>
            <a:ext cx="16383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04DA-7D6C-452C-A782-D9E0C7D02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" name="Group 9"/>
          <p:cNvGrpSpPr/>
          <p:nvPr/>
        </p:nvGrpSpPr>
        <p:grpSpPr>
          <a:xfrm>
            <a:off x="609480" y="457200"/>
            <a:ext cx="8020080" cy="1257480"/>
            <a:chOff x="609480" y="457200"/>
            <a:chExt cx="8020080" cy="1257480"/>
          </a:xfrm>
        </p:grpSpPr>
        <p:graphicFrame>
          <p:nvGraphicFramePr>
            <p:cNvPr id="83" name="Object 3"/>
            <p:cNvGraphicFramePr/>
            <p:nvPr/>
          </p:nvGraphicFramePr>
          <p:xfrm>
            <a:off x="609480" y="457200"/>
            <a:ext cx="1160640" cy="114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4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457200"/>
                      <a:ext cx="11606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" name="Rectangle 4"/>
            <p:cNvSpPr/>
            <p:nvPr/>
          </p:nvSpPr>
          <p:spPr>
            <a:xfrm>
              <a:off x="1847880" y="571680"/>
              <a:ext cx="67816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Times New Roman"/>
                </a:rPr>
                <a:t>Д</a:t>
              </a:r>
              <a:r>
                <a:rPr b="0" lang="bg-BG" sz="2000" spc="-1" strike="noStrike">
                  <a:solidFill>
                    <a:srgbClr val="b2b2b2"/>
                  </a:solidFill>
                  <a:latin typeface="Times New Roman"/>
                </a:rPr>
                <a:t>ЪРЖАВНА АГЕНЦИЯ ЗА </a:t>
              </a:r>
              <a:br>
                <a:rPr sz="2000"/>
              </a:br>
              <a:r>
                <a:rPr b="0" lang="bg-BG" sz="2000" spc="-1" strike="noStrike">
                  <a:solidFill>
                    <a:srgbClr val="b2b2b2"/>
                  </a:solidFill>
                  <a:latin typeface="Times New Roman"/>
                </a:rPr>
                <a:t>МЕТРОЛОГИЧЕН И ТЕХНИЧЕСКИ НАДЗОР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6" name="Text Box 5"/>
          <p:cNvSpPr/>
          <p:nvPr/>
        </p:nvSpPr>
        <p:spPr>
          <a:xfrm>
            <a:off x="914400" y="18288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Times New Roman"/>
              </a:rPr>
              <a:t>Органи за надзор на пуснатите на пазара строителни продукти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762120" y="327672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914400" y="320040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324000" y="3044880"/>
            <a:ext cx="853416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Държавната агенция за метрологичен и технически надзор (ДАМТН) чрез Главна дирекция “Надзор на пазара” (ГД ”НП”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bg-BG" sz="2800" spc="-1" strike="noStrike">
                <a:solidFill>
                  <a:srgbClr val="000000"/>
                </a:solidFill>
                <a:latin typeface="Times New Roman"/>
              </a:rPr>
              <a:t>самостоятелно или съвместно с</a:t>
            </a: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Министерство на регионалното развитие и благоустройството (МРРБ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 u="sng">
                <a:solidFill>
                  <a:srgbClr val="ff0000"/>
                </a:solidFill>
                <a:uFillTx/>
                <a:latin typeface="Times New Roman"/>
              </a:rPr>
              <a:t>(за продукти отговарящи на европейски технически спецификации)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CE55-8C35-4F0B-82A4-323340604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" name="Group 3"/>
          <p:cNvGrpSpPr/>
          <p:nvPr/>
        </p:nvGrpSpPr>
        <p:grpSpPr>
          <a:xfrm>
            <a:off x="533520" y="380880"/>
            <a:ext cx="8020080" cy="1257480"/>
            <a:chOff x="533520" y="380880"/>
            <a:chExt cx="8020080" cy="1257480"/>
          </a:xfrm>
        </p:grpSpPr>
        <p:graphicFrame>
          <p:nvGraphicFramePr>
            <p:cNvPr id="92" name="Object 4"/>
            <p:cNvGraphicFramePr/>
            <p:nvPr/>
          </p:nvGraphicFramePr>
          <p:xfrm>
            <a:off x="533520" y="380880"/>
            <a:ext cx="1160640" cy="114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380880"/>
                      <a:ext cx="11606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" name="Rectangle 5"/>
            <p:cNvSpPr/>
            <p:nvPr/>
          </p:nvSpPr>
          <p:spPr>
            <a:xfrm>
              <a:off x="1771920" y="495360"/>
              <a:ext cx="67816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Times New Roman"/>
                </a:rPr>
                <a:t>Д</a:t>
              </a:r>
              <a:r>
                <a:rPr b="0" lang="bg-BG" sz="2000" spc="-1" strike="noStrike">
                  <a:solidFill>
                    <a:srgbClr val="b2b2b2"/>
                  </a:solidFill>
                  <a:latin typeface="Times New Roman"/>
                </a:rPr>
                <a:t>ЪРЖАВНА АГЕНЦИЯ ЗА </a:t>
              </a:r>
              <a:br>
                <a:rPr sz="2000"/>
              </a:br>
              <a:r>
                <a:rPr b="0" lang="bg-BG" sz="2000" spc="-1" strike="noStrike">
                  <a:solidFill>
                    <a:srgbClr val="b2b2b2"/>
                  </a:solidFill>
                  <a:latin typeface="Times New Roman"/>
                </a:rPr>
                <a:t>МЕТРОЛОГИЧЕН И ТЕХНИЧЕСКИ НАДЗОР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5" name="Text Box 5"/>
          <p:cNvSpPr/>
          <p:nvPr/>
        </p:nvSpPr>
        <p:spPr>
          <a:xfrm>
            <a:off x="914400" y="18288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Times New Roman"/>
              </a:rPr>
              <a:t>Проверки 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324000" y="3044880"/>
            <a:ext cx="8534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По план - през първо тримесечие на 2008 година е предвидено проверка на гъвкави хидроизолационни мушами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Извънредни проверки – по сигнали и жалби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3D4C-5F1A-4D7C-B85B-7DA0CF9FD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" name="Group 7"/>
          <p:cNvGrpSpPr/>
          <p:nvPr/>
        </p:nvGrpSpPr>
        <p:grpSpPr>
          <a:xfrm>
            <a:off x="609480" y="380880"/>
            <a:ext cx="8020080" cy="1257480"/>
            <a:chOff x="609480" y="380880"/>
            <a:chExt cx="8020080" cy="1257480"/>
          </a:xfrm>
        </p:grpSpPr>
        <p:graphicFrame>
          <p:nvGraphicFramePr>
            <p:cNvPr id="99" name="Object 8"/>
            <p:cNvGraphicFramePr/>
            <p:nvPr/>
          </p:nvGraphicFramePr>
          <p:xfrm>
            <a:off x="609480" y="380880"/>
            <a:ext cx="1160640" cy="114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380880"/>
                      <a:ext cx="11606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" name="Rectangle 9"/>
            <p:cNvSpPr/>
            <p:nvPr/>
          </p:nvSpPr>
          <p:spPr>
            <a:xfrm>
              <a:off x="1847880" y="495360"/>
              <a:ext cx="67816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Times New Roman"/>
                </a:rPr>
                <a:t>Д</a:t>
              </a:r>
              <a:r>
                <a:rPr b="0" lang="bg-BG" sz="2000" spc="-1" strike="noStrike">
                  <a:solidFill>
                    <a:srgbClr val="b2b2b2"/>
                  </a:solidFill>
                  <a:latin typeface="Times New Roman"/>
                </a:rPr>
                <a:t>ЪРЖАВНА АГЕНЦИЯ ЗА </a:t>
              </a:r>
              <a:br>
                <a:rPr sz="2000"/>
              </a:br>
              <a:r>
                <a:rPr b="0" lang="bg-BG" sz="2000" spc="-1" strike="noStrike">
                  <a:solidFill>
                    <a:srgbClr val="b2b2b2"/>
                  </a:solidFill>
                  <a:latin typeface="Times New Roman"/>
                </a:rPr>
                <a:t>МЕТРОЛОГИЧЕН И ТЕХНИЧЕСКИ НАДЗОР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2" name="Rectangle 11"/>
          <p:cNvSpPr/>
          <p:nvPr/>
        </p:nvSpPr>
        <p:spPr>
          <a:xfrm>
            <a:off x="843120" y="18288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</a:rPr>
              <a:t>Маркировката за съответствие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380880" y="2362320"/>
            <a:ext cx="8534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Строителните продукти, отговарящи на европейски технически спецификации се маркират със знак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Rectangle 17"/>
          <p:cNvSpPr/>
          <p:nvPr/>
        </p:nvSpPr>
        <p:spPr>
          <a:xfrm>
            <a:off x="324000" y="571500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редба за маркировката за съответствие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0" lang="bg-BG" sz="2000" spc="-1" strike="noStrike" u="sng">
                <a:solidFill>
                  <a:srgbClr val="000000"/>
                </a:solidFill>
                <a:uFillTx/>
                <a:latin typeface="Times New Roman"/>
              </a:rPr>
              <a:t>ДВ, бр. 69/2005 г.,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 u="sng">
                <a:solidFill>
                  <a:srgbClr val="000000"/>
                </a:solidFill>
                <a:uFillTx/>
                <a:latin typeface="Times New Roman"/>
              </a:rPr>
              <a:t>изм. и доп. бр. 66/2006г.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18" descr=""/>
          <p:cNvPicPr/>
          <p:nvPr/>
        </p:nvPicPr>
        <p:blipFill>
          <a:blip r:embed="rId3"/>
          <a:stretch/>
        </p:blipFill>
        <p:spPr>
          <a:xfrm>
            <a:off x="611280" y="3141720"/>
            <a:ext cx="2952720" cy="16286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21"/>
          <p:cNvSpPr/>
          <p:nvPr/>
        </p:nvSpPr>
        <p:spPr>
          <a:xfrm>
            <a:off x="3851280" y="3141720"/>
            <a:ext cx="496872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22"/>
          <p:cNvSpPr/>
          <p:nvPr/>
        </p:nvSpPr>
        <p:spPr>
          <a:xfrm>
            <a:off x="3708360" y="3213000"/>
            <a:ext cx="50767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bg-BG" sz="1600" spc="-1" strike="noStrike" u="sng">
                <a:solidFill>
                  <a:srgbClr val="000000"/>
                </a:solidFill>
                <a:uFillTx/>
                <a:latin typeface="Times New Roman"/>
              </a:rPr>
              <a:t>Маркировката се придружава най-малко от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bg-BG" sz="1600" spc="-1" strike="noStrike">
                <a:solidFill>
                  <a:srgbClr val="ff0000"/>
                </a:solidFill>
                <a:latin typeface="Times New Roman"/>
              </a:rPr>
              <a:t>Последни две цифри на годината, в която е нанесена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bg-BG" sz="1600" spc="-1" strike="noStrike">
                <a:solidFill>
                  <a:srgbClr val="ff0000"/>
                </a:solidFill>
                <a:latin typeface="Times New Roman"/>
              </a:rPr>
              <a:t>Идентификационен номер на органа за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bg-BG" sz="1600" spc="-1" strike="noStrike">
                <a:solidFill>
                  <a:srgbClr val="ff0000"/>
                </a:solidFill>
                <a:latin typeface="Times New Roman"/>
              </a:rPr>
              <a:t>сертификация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bg-BG" sz="1600" spc="-1" strike="noStrike">
                <a:solidFill>
                  <a:srgbClr val="ff0000"/>
                </a:solidFill>
                <a:latin typeface="Times New Roman"/>
              </a:rPr>
              <a:t>или на лабораторията за изпитване и номер на ЕО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bg-BG" sz="1600" spc="-1" strike="noStrike">
                <a:solidFill>
                  <a:srgbClr val="ff0000"/>
                </a:solidFill>
                <a:latin typeface="Times New Roman"/>
              </a:rPr>
              <a:t>сертификата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bg-BG" sz="1600" spc="-1" strike="noStrike">
                <a:solidFill>
                  <a:srgbClr val="ff0000"/>
                </a:solidFill>
                <a:latin typeface="Times New Roman"/>
              </a:rPr>
              <a:t>Номер и наименование на техническата спецификация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bg-BG" sz="1600" spc="-1" strike="noStrike">
                <a:solidFill>
                  <a:srgbClr val="ff0000"/>
                </a:solidFill>
                <a:latin typeface="Times New Roman"/>
              </a:rPr>
              <a:t>Стойностите на характеристиките и класовете на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bg-BG" sz="1600" spc="-1" strike="noStrike">
                <a:solidFill>
                  <a:srgbClr val="ff0000"/>
                </a:solidFill>
                <a:latin typeface="Times New Roman"/>
              </a:rPr>
              <a:t>продукта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7691-F426-478F-AF34-F4A594BB4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" name="Group 2"/>
          <p:cNvGrpSpPr/>
          <p:nvPr/>
        </p:nvGrpSpPr>
        <p:grpSpPr>
          <a:xfrm>
            <a:off x="609480" y="304920"/>
            <a:ext cx="8020080" cy="1256760"/>
            <a:chOff x="609480" y="304920"/>
            <a:chExt cx="8020080" cy="1256760"/>
          </a:xfrm>
        </p:grpSpPr>
        <p:graphicFrame>
          <p:nvGraphicFramePr>
            <p:cNvPr id="110" name="Object 3"/>
            <p:cNvGraphicFramePr/>
            <p:nvPr/>
          </p:nvGraphicFramePr>
          <p:xfrm>
            <a:off x="609480" y="304920"/>
            <a:ext cx="1160640" cy="1142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1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304920"/>
                      <a:ext cx="1160640" cy="114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2" name="Rectangle 4"/>
            <p:cNvSpPr/>
            <p:nvPr/>
          </p:nvSpPr>
          <p:spPr>
            <a:xfrm>
              <a:off x="1847880" y="419040"/>
              <a:ext cx="6781680" cy="11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Times New Roman"/>
                </a:rPr>
                <a:t>Д</a:t>
              </a:r>
              <a:r>
                <a:rPr b="0" lang="bg-BG" sz="2000" spc="-1" strike="noStrike">
                  <a:solidFill>
                    <a:srgbClr val="b2b2b2"/>
                  </a:solidFill>
                  <a:latin typeface="Times New Roman"/>
                </a:rPr>
                <a:t>ЪРЖАВНА АГЕНЦИЯ ЗА </a:t>
              </a:r>
              <a:br>
                <a:rPr sz="2000"/>
              </a:br>
              <a:r>
                <a:rPr b="0" lang="bg-BG" sz="2000" spc="-1" strike="noStrike">
                  <a:solidFill>
                    <a:srgbClr val="b2b2b2"/>
                  </a:solidFill>
                  <a:latin typeface="Times New Roman"/>
                </a:rPr>
                <a:t>МЕТРОЛОГИЧЕН И ТЕХНИЧЕСКИ НАДЗОР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3" name="Text Box 5"/>
          <p:cNvSpPr/>
          <p:nvPr/>
        </p:nvSpPr>
        <p:spPr>
          <a:xfrm>
            <a:off x="1219320" y="1295280"/>
            <a:ext cx="701028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</a:rPr>
              <a:t>ЕО Декларация за съответствие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04920" y="1654200"/>
            <a:ext cx="861048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Съставя се от производителя или неговия упълномощен представител като част от процедурата за оценяване на съответствието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Декларацията за съответствие трябва да съдържа подходящата информация, която би помогнала за установяването на директивата, в съответствие с която тази декларация е била изготвен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В декларацията за съответствие трябва да бъдат включени също така данни за производителя, за неговия упълномощен представител, ако е необходимо, за нотифицирания орган, за продукта, както и справка за хармонизираните стандарти и други нормативни документи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8T19:54:38Z</dcterms:created>
  <dc:creator>Linda</dc:creator>
  <dc:description/>
  <dc:language>en-US</dc:language>
  <cp:lastModifiedBy>Rumi Hristova</cp:lastModifiedBy>
  <dcterms:modified xsi:type="dcterms:W3CDTF">2008-02-25T17:23:52Z</dcterms:modified>
  <cp:revision>181</cp:revision>
  <dc:subject/>
  <dc:title>???????? ???????  ?? ?????????? ? ?????????? ??????</dc:title>
</cp:coreProperties>
</file>