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CAMER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8094-25CB-409F-95B6-C83F0E0FB90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52F8-152B-4AB4-B133-A607C96800E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50C0-7BBA-495D-9BB4-A555AE82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61AE-F672-433F-9F96-BC588683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48F7-C785-44D2-ABE5-7DC01CCCF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4BA8-0175-4601-B822-5FC19D661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B298-F5FF-45F1-82CE-C08A066E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666A-4D96-4743-86C9-C72D0F06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07E2-D270-4CFE-A0D1-97FFED14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C12B-2B62-47BE-8F93-497445C0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877C-A811-4A4F-A1DE-F24C4C1C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9AA1-FF8A-4F83-8128-5F57A8C8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2D9C-E22A-403C-AA90-37EF5F1F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A5D8-A633-47D6-8FD7-96E77199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1C17-F7F6-4F69-800A-D192AF28B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miro_yotov@abv.bg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EC55-B187-4F0B-9C87-B94FCE6D6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ЪРЖАВНА АГЕНЦИЯ ЗА  МЕТРОЛОГИЧЕН И ТЕХНИЧЕСКИ НАДЗО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280" y="1676160"/>
            <a:ext cx="8280360" cy="456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</a:rPr>
              <a:t>ПРИЛАГАНЕ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НАРЕДБАТА ЗА СЪЩЕСТВЕНИТЕ ИЗИСКВАНИЯ КЪМ СТРОЕЖИТЕ И ОЦЕНЯВАНЕ СЪОТВЕТСТВИЕТО НА СТРОИТЕЛНИТЕ ПРОДУ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ИНЖ. МИРОСЛАВ ЙО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ГЛАВНА ДИРЕКЦИЯ “НАДЗОР НА ПАЗАРА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4"/>
          <p:cNvGraphicFramePr/>
          <p:nvPr/>
        </p:nvGraphicFramePr>
        <p:xfrm>
          <a:off x="609480" y="304920"/>
          <a:ext cx="116064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920"/>
                    <a:ext cx="11606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5243-FC75-4D37-9E59-B98C8CBE0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6" name="Group 2"/>
          <p:cNvGrpSpPr/>
          <p:nvPr/>
        </p:nvGrpSpPr>
        <p:grpSpPr>
          <a:xfrm>
            <a:off x="609480" y="304920"/>
            <a:ext cx="8020080" cy="1256760"/>
            <a:chOff x="609480" y="304920"/>
            <a:chExt cx="8020080" cy="1256760"/>
          </a:xfrm>
        </p:grpSpPr>
        <p:graphicFrame>
          <p:nvGraphicFramePr>
            <p:cNvPr id="117" name="Object 3"/>
            <p:cNvGraphicFramePr/>
            <p:nvPr/>
          </p:nvGraphicFramePr>
          <p:xfrm>
            <a:off x="609480" y="304920"/>
            <a:ext cx="1160640" cy="1142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8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304920"/>
                      <a:ext cx="1160640" cy="114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" name="Rectangle 4"/>
            <p:cNvSpPr/>
            <p:nvPr/>
          </p:nvSpPr>
          <p:spPr>
            <a:xfrm>
              <a:off x="1847880" y="419040"/>
              <a:ext cx="6781680" cy="11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Times New Roman"/>
                </a:rPr>
                <a:t>Д</a:t>
              </a:r>
              <a:r>
                <a:rPr b="0" lang="bg-BG" sz="2000" spc="-1" strike="noStrike">
                  <a:solidFill>
                    <a:srgbClr val="b2b2b2"/>
                  </a:solidFill>
                  <a:latin typeface="Times New Roman"/>
                </a:rPr>
                <a:t>ЪРЖАВНА АГЕНЦИЯ ЗА </a:t>
              </a:r>
              <a:br>
                <a:rPr sz="2000"/>
              </a:br>
              <a:r>
                <a:rPr b="0" lang="bg-BG" sz="2000" spc="-1" strike="noStrike">
                  <a:solidFill>
                    <a:srgbClr val="b2b2b2"/>
                  </a:solidFill>
                  <a:latin typeface="Times New Roman"/>
                </a:rPr>
                <a:t>МЕТРОЛОГИЧЕН И ТЕХНИЧЕСКИ НАДЗОР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0" name="Rectangle 5"/>
          <p:cNvSpPr/>
          <p:nvPr/>
        </p:nvSpPr>
        <p:spPr>
          <a:xfrm>
            <a:off x="685800" y="160020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ЕО Сертификат за съответствие на строителен продукт или за производствения контрол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228600" y="3048120"/>
            <a:ext cx="86104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Издава се от нотифицирания орган оценил съответствието но продукта или производствения контрол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В ЕО сертификата за съответствие трябва да бъдат включени данни за органа за сертификация и идентификационния му номер, данни за производителя, описание на продукта, технически спецификации, номер и дата на издаване, срок на валидност, име и длъжност на лицето, което подписва сертификат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B8B0-5090-496D-8897-67841072D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3" name="Group 2"/>
          <p:cNvGrpSpPr/>
          <p:nvPr/>
        </p:nvGrpSpPr>
        <p:grpSpPr>
          <a:xfrm>
            <a:off x="609480" y="304920"/>
            <a:ext cx="8020080" cy="1256760"/>
            <a:chOff x="609480" y="304920"/>
            <a:chExt cx="8020080" cy="1256760"/>
          </a:xfrm>
        </p:grpSpPr>
        <p:graphicFrame>
          <p:nvGraphicFramePr>
            <p:cNvPr id="124" name="Object 3"/>
            <p:cNvGraphicFramePr/>
            <p:nvPr/>
          </p:nvGraphicFramePr>
          <p:xfrm>
            <a:off x="609480" y="304920"/>
            <a:ext cx="1160640" cy="1142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5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304920"/>
                      <a:ext cx="1160640" cy="114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6" name="Rectangle 4"/>
            <p:cNvSpPr/>
            <p:nvPr/>
          </p:nvSpPr>
          <p:spPr>
            <a:xfrm>
              <a:off x="1847880" y="419040"/>
              <a:ext cx="6781680" cy="11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Times New Roman"/>
                </a:rPr>
                <a:t>Д</a:t>
              </a:r>
              <a:r>
                <a:rPr b="0" lang="bg-BG" sz="2000" spc="-1" strike="noStrike">
                  <a:solidFill>
                    <a:srgbClr val="b2b2b2"/>
                  </a:solidFill>
                  <a:latin typeface="Times New Roman"/>
                </a:rPr>
                <a:t>ЪРЖАВНА АГЕНЦИЯ ЗА </a:t>
              </a:r>
              <a:br>
                <a:rPr sz="2000"/>
              </a:br>
              <a:r>
                <a:rPr b="0" lang="bg-BG" sz="2000" spc="-1" strike="noStrike">
                  <a:solidFill>
                    <a:srgbClr val="b2b2b2"/>
                  </a:solidFill>
                  <a:latin typeface="Times New Roman"/>
                </a:rPr>
                <a:t>МЕТРОЛОГИЧЕН И ТЕХНИЧЕСКИ НАДЗОР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7" name="Text Box 8"/>
          <p:cNvSpPr/>
          <p:nvPr/>
        </p:nvSpPr>
        <p:spPr>
          <a:xfrm>
            <a:off x="1143000" y="13716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Техническо досие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533520" y="1905120"/>
            <a:ext cx="81532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Има за цел да предостави информация за проектирането, производството и начина на функциониране на продукт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Изготвя се от производителя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Съдържа необходимата информация относно съответствието на продукта с приложимите изисквания на Директивата от “Нов подход”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Срок на съхранение – най-малко 10 години от последната дата на производство на даден строителен продук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253C-D8F4-49E9-9ED4-6C3C84E24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228600" y="21337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447920" y="3048120"/>
            <a:ext cx="65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187280" y="1887480"/>
            <a:ext cx="73454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Телефони:</a:t>
            </a: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++359 2 986 1991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++359 2 9396 787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Факс:</a:t>
            </a: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+359 2 986 1707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mail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iro_yotov@abv.bg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bg-BG" sz="3200" spc="-1" strike="noStrike">
                <a:solidFill>
                  <a:srgbClr val="000000"/>
                </a:solidFill>
                <a:latin typeface="Times New Roman"/>
              </a:rPr>
              <a:t>Благодаря за вниманието!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3" name="Group 7"/>
          <p:cNvGrpSpPr/>
          <p:nvPr/>
        </p:nvGrpSpPr>
        <p:grpSpPr>
          <a:xfrm>
            <a:off x="609480" y="457200"/>
            <a:ext cx="8020080" cy="1257480"/>
            <a:chOff x="609480" y="457200"/>
            <a:chExt cx="8020080" cy="1257480"/>
          </a:xfrm>
        </p:grpSpPr>
        <p:graphicFrame>
          <p:nvGraphicFramePr>
            <p:cNvPr id="134" name="Object 8"/>
            <p:cNvGraphicFramePr/>
            <p:nvPr/>
          </p:nvGraphicFramePr>
          <p:xfrm>
            <a:off x="609480" y="457200"/>
            <a:ext cx="1160640" cy="1143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35" name="Object 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9480" y="457200"/>
                      <a:ext cx="11606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" name="Rectangle 9"/>
            <p:cNvSpPr/>
            <p:nvPr/>
          </p:nvSpPr>
          <p:spPr>
            <a:xfrm>
              <a:off x="1847880" y="571680"/>
              <a:ext cx="67816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Times New Roman"/>
                </a:rPr>
                <a:t>Д</a:t>
              </a:r>
              <a:r>
                <a:rPr b="0" lang="bg-BG" sz="2000" spc="-1" strike="noStrike">
                  <a:solidFill>
                    <a:srgbClr val="b2b2b2"/>
                  </a:solidFill>
                  <a:latin typeface="Times New Roman"/>
                </a:rPr>
                <a:t>ЪРЖАВНА АГЕНЦИЯ ЗА </a:t>
              </a:r>
              <a:br>
                <a:rPr sz="2000"/>
              </a:br>
              <a:r>
                <a:rPr b="0" lang="bg-BG" sz="2000" spc="-1" strike="noStrike">
                  <a:solidFill>
                    <a:srgbClr val="b2b2b2"/>
                  </a:solidFill>
                  <a:latin typeface="Times New Roman"/>
                </a:rPr>
                <a:t>МЕТРОЛОГИЧЕН И ТЕХНИЧЕСКИ НАДЗОР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8540-72E5-4603-B166-02DB2A9E6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" name="Group 4"/>
          <p:cNvGrpSpPr/>
          <p:nvPr/>
        </p:nvGrpSpPr>
        <p:grpSpPr>
          <a:xfrm>
            <a:off x="609480" y="457200"/>
            <a:ext cx="8020080" cy="1257480"/>
            <a:chOff x="609480" y="457200"/>
            <a:chExt cx="8020080" cy="1257480"/>
          </a:xfrm>
        </p:grpSpPr>
        <p:graphicFrame>
          <p:nvGraphicFramePr>
            <p:cNvPr id="55" name="Object 5"/>
            <p:cNvGraphicFramePr/>
            <p:nvPr/>
          </p:nvGraphicFramePr>
          <p:xfrm>
            <a:off x="609480" y="457200"/>
            <a:ext cx="1160640" cy="114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6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457200"/>
                      <a:ext cx="11606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" name="Rectangle 6"/>
            <p:cNvSpPr/>
            <p:nvPr/>
          </p:nvSpPr>
          <p:spPr>
            <a:xfrm>
              <a:off x="1847880" y="571680"/>
              <a:ext cx="67816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Times New Roman"/>
                </a:rPr>
                <a:t>Д</a:t>
              </a:r>
              <a:r>
                <a:rPr b="0" lang="bg-BG" sz="2000" spc="-1" strike="noStrike">
                  <a:solidFill>
                    <a:srgbClr val="b2b2b2"/>
                  </a:solidFill>
                  <a:latin typeface="Times New Roman"/>
                </a:rPr>
                <a:t>ЪРЖАВНА АГЕНЦИЯ ЗА </a:t>
              </a:r>
              <a:br>
                <a:rPr sz="2000"/>
              </a:br>
              <a:r>
                <a:rPr b="0" lang="bg-BG" sz="2000" spc="-1" strike="noStrike">
                  <a:solidFill>
                    <a:srgbClr val="b2b2b2"/>
                  </a:solidFill>
                  <a:latin typeface="Times New Roman"/>
                </a:rPr>
                <a:t>МЕТРОЛОГИЧЕН И ТЕХНИЧЕСКИ НАДЗОР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Rectangle 7"/>
          <p:cNvSpPr/>
          <p:nvPr/>
        </p:nvSpPr>
        <p:spPr>
          <a:xfrm>
            <a:off x="4572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ЗАКОНОДАТЕЛСТВО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5280" y="2438280"/>
            <a:ext cx="842472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Закон за техническите изисквания към продуктите (ЗТИ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bg-BG" sz="1800" spc="-1" strike="noStrike">
                <a:solidFill>
                  <a:srgbClr val="000000"/>
                </a:solidFill>
                <a:latin typeface="Times New Roman"/>
              </a:rPr>
              <a:t>ДВ, бр. 86/1999г., изм. и доп. бр. 76/2006г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Наредба за условията и реда за извършване на надзор на пазара (НУРИНП)</a:t>
            </a: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bg-BG" sz="1800" spc="-1" strike="noStrike">
                <a:solidFill>
                  <a:srgbClr val="000000"/>
                </a:solidFill>
                <a:latin typeface="Times New Roman"/>
              </a:rPr>
              <a:t>ДВ, бр. 49/2003г., изм. и доп. бр. 85/2005г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Наредба за съществените изисквания към строежите и оценяване съответствието на строителните продукти  (НСИСОСС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bg-BG" sz="1800" spc="-1" strike="noStrike">
                <a:solidFill>
                  <a:srgbClr val="000000"/>
                </a:solidFill>
                <a:latin typeface="Times New Roman"/>
              </a:rPr>
              <a:t>ДВ, бр. 106/2006г., изм. и доп. бр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bg-BG" sz="1800" spc="-1" strike="noStrike">
                <a:solidFill>
                  <a:srgbClr val="000000"/>
                </a:solidFill>
                <a:latin typeface="Times New Roman"/>
              </a:rPr>
              <a:t>/20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bg-BG" sz="18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8104-6D1B-4783-A836-CF78B24C9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" name="Group 3"/>
          <p:cNvGrpSpPr/>
          <p:nvPr/>
        </p:nvGrpSpPr>
        <p:grpSpPr>
          <a:xfrm>
            <a:off x="609480" y="457200"/>
            <a:ext cx="8020080" cy="1257480"/>
            <a:chOff x="609480" y="457200"/>
            <a:chExt cx="8020080" cy="1257480"/>
          </a:xfrm>
        </p:grpSpPr>
        <p:graphicFrame>
          <p:nvGraphicFramePr>
            <p:cNvPr id="62" name="Object 4"/>
            <p:cNvGraphicFramePr/>
            <p:nvPr/>
          </p:nvGraphicFramePr>
          <p:xfrm>
            <a:off x="609480" y="457200"/>
            <a:ext cx="1160640" cy="114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457200"/>
                      <a:ext cx="11606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" name="Rectangle 5"/>
            <p:cNvSpPr/>
            <p:nvPr/>
          </p:nvSpPr>
          <p:spPr>
            <a:xfrm>
              <a:off x="1847880" y="571680"/>
              <a:ext cx="67816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Times New Roman"/>
                </a:rPr>
                <a:t>Д</a:t>
              </a:r>
              <a:r>
                <a:rPr b="0" lang="bg-BG" sz="2000" spc="-1" strike="noStrike">
                  <a:solidFill>
                    <a:srgbClr val="b2b2b2"/>
                  </a:solidFill>
                  <a:latin typeface="Times New Roman"/>
                </a:rPr>
                <a:t>ЪРЖАВНА АГЕНЦИЯ ЗА </a:t>
              </a:r>
              <a:br>
                <a:rPr sz="2000"/>
              </a:br>
              <a:r>
                <a:rPr b="0" lang="bg-BG" sz="2000" spc="-1" strike="noStrike">
                  <a:solidFill>
                    <a:srgbClr val="b2b2b2"/>
                  </a:solidFill>
                  <a:latin typeface="Times New Roman"/>
                </a:rPr>
                <a:t>МЕТРОЛОГИЧЕН И ТЕХНИЧЕСКИ НАДЗОР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" name="Text Box 6"/>
          <p:cNvSpPr/>
          <p:nvPr/>
        </p:nvSpPr>
        <p:spPr>
          <a:xfrm>
            <a:off x="685800" y="1484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Times New Roman"/>
              </a:rPr>
              <a:t>Групи строителни продукти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324000" y="1979640"/>
            <a:ext cx="8610480" cy="48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и отговарящи на европейски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 спецификаци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чл.4, ал.1 от НСИСОСС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Български стандарти въвеждащи хармонизирани европейски  европейски стандарти, или еквивалентни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Топлоизолационни продукти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- БДС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13162, БДС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13163, БДС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13164, БДС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   13165, БДС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13166, БДС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13167, БДС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13168, БДС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13169, БДС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13170, БДС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13171, БДС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14063, БДС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14316, БДС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14317</a:t>
            </a: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►</a:t>
            </a: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Хидроизолационни продукти - 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БДС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13707, БДС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13859, БДС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13956, БДС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13967, БДС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13969, БДС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13970, БДС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13984, БДС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14909, БДС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14967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Европейски технически одобрения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AG 004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AG 005</a:t>
            </a: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TAG 00</a:t>
            </a: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Признати национални технически спецификации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60EC-C8C3-4417-A74D-742607792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8" name="Group 1027"/>
          <p:cNvGrpSpPr/>
          <p:nvPr/>
        </p:nvGrpSpPr>
        <p:grpSpPr>
          <a:xfrm>
            <a:off x="609480" y="457200"/>
            <a:ext cx="8020080" cy="1257480"/>
            <a:chOff x="609480" y="457200"/>
            <a:chExt cx="8020080" cy="1257480"/>
          </a:xfrm>
        </p:grpSpPr>
        <p:graphicFrame>
          <p:nvGraphicFramePr>
            <p:cNvPr id="69" name="Object 1028"/>
            <p:cNvGraphicFramePr/>
            <p:nvPr/>
          </p:nvGraphicFramePr>
          <p:xfrm>
            <a:off x="609480" y="457200"/>
            <a:ext cx="1160640" cy="114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" name="Object 102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457200"/>
                      <a:ext cx="11606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" name="Rectangle 1029"/>
            <p:cNvSpPr/>
            <p:nvPr/>
          </p:nvSpPr>
          <p:spPr>
            <a:xfrm>
              <a:off x="1847880" y="571680"/>
              <a:ext cx="67816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Times New Roman"/>
                </a:rPr>
                <a:t>Д</a:t>
              </a:r>
              <a:r>
                <a:rPr b="0" lang="bg-BG" sz="2000" spc="-1" strike="noStrike">
                  <a:solidFill>
                    <a:srgbClr val="b2b2b2"/>
                  </a:solidFill>
                  <a:latin typeface="Times New Roman"/>
                </a:rPr>
                <a:t>ЪРЖАВНА АГЕНЦИЯ ЗА </a:t>
              </a:r>
              <a:br>
                <a:rPr sz="2000"/>
              </a:br>
              <a:r>
                <a:rPr b="0" lang="bg-BG" sz="2000" spc="-1" strike="noStrike">
                  <a:solidFill>
                    <a:srgbClr val="b2b2b2"/>
                  </a:solidFill>
                  <a:latin typeface="Times New Roman"/>
                </a:rPr>
                <a:t>МЕТРОЛОГИЧЕН И ТЕХНИЧЕСКИ НАДЗОР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2" name="Text Box 1030"/>
          <p:cNvSpPr/>
          <p:nvPr/>
        </p:nvSpPr>
        <p:spPr>
          <a:xfrm>
            <a:off x="685800" y="16765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Times New Roman"/>
              </a:rPr>
              <a:t>Групи строителни продукти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 Box 1031"/>
          <p:cNvSpPr/>
          <p:nvPr/>
        </p:nvSpPr>
        <p:spPr>
          <a:xfrm>
            <a:off x="228600" y="2514600"/>
            <a:ext cx="8534520" cy="38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и отговарящи на 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български   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 спецификаци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чл.4, ал.2 от НСИСОСС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bg-BG" sz="2400" spc="-1" strike="noStrike">
                <a:solidFill>
                  <a:srgbClr val="ff0000"/>
                </a:solidFill>
                <a:latin typeface="Times New Roman"/>
              </a:rPr>
              <a:t>за влагане в строежи само на територията на Р България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Български стандарти, с които се въвеждат европейски стандарти или международни, или еквивалентни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Български стандарти или еквивалентни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Български технически одобрения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4A53-6688-414B-9483-FCEBAE550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" name="Group 2"/>
          <p:cNvGrpSpPr/>
          <p:nvPr/>
        </p:nvGrpSpPr>
        <p:grpSpPr>
          <a:xfrm>
            <a:off x="609480" y="457200"/>
            <a:ext cx="8020080" cy="1257480"/>
            <a:chOff x="609480" y="457200"/>
            <a:chExt cx="8020080" cy="1257480"/>
          </a:xfrm>
        </p:grpSpPr>
        <p:graphicFrame>
          <p:nvGraphicFramePr>
            <p:cNvPr id="76" name="Object 3"/>
            <p:cNvGraphicFramePr/>
            <p:nvPr/>
          </p:nvGraphicFramePr>
          <p:xfrm>
            <a:off x="609480" y="457200"/>
            <a:ext cx="1160640" cy="114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7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457200"/>
                      <a:ext cx="11606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" name="Rectangle 4"/>
            <p:cNvSpPr/>
            <p:nvPr/>
          </p:nvSpPr>
          <p:spPr>
            <a:xfrm>
              <a:off x="1847880" y="571680"/>
              <a:ext cx="67816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Times New Roman"/>
                </a:rPr>
                <a:t>Д</a:t>
              </a:r>
              <a:r>
                <a:rPr b="0" lang="bg-BG" sz="2000" spc="-1" strike="noStrike">
                  <a:solidFill>
                    <a:srgbClr val="b2b2b2"/>
                  </a:solidFill>
                  <a:latin typeface="Times New Roman"/>
                </a:rPr>
                <a:t>ЪРЖАВНА АГЕНЦИЯ ЗА </a:t>
              </a:r>
              <a:br>
                <a:rPr sz="2000"/>
              </a:br>
              <a:r>
                <a:rPr b="0" lang="bg-BG" sz="2000" spc="-1" strike="noStrike">
                  <a:solidFill>
                    <a:srgbClr val="b2b2b2"/>
                  </a:solidFill>
                  <a:latin typeface="Times New Roman"/>
                </a:rPr>
                <a:t>МЕТРОЛОГИЧЕН И ТЕХНИЧЕСКИ НАДЗОР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9" name="Text Box 5"/>
          <p:cNvSpPr/>
          <p:nvPr/>
        </p:nvSpPr>
        <p:spPr>
          <a:xfrm>
            <a:off x="2362320" y="2057400"/>
            <a:ext cx="6019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Съгласно § 3, ал.3 от Допълнителните разпоредби на ЗТИП българските стандарти, въвеждащи хармонизирани европейски стандарти са задължителни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" name="Picture 6" descr="sy01265_"/>
          <p:cNvPicPr/>
          <p:nvPr/>
        </p:nvPicPr>
        <p:blipFill>
          <a:blip r:embed="rId3"/>
          <a:stretch/>
        </p:blipFill>
        <p:spPr>
          <a:xfrm>
            <a:off x="1219320" y="1828800"/>
            <a:ext cx="16383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3B79-F95B-43B1-8C87-B9D96DBAD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" name="Group 9"/>
          <p:cNvGrpSpPr/>
          <p:nvPr/>
        </p:nvGrpSpPr>
        <p:grpSpPr>
          <a:xfrm>
            <a:off x="609480" y="457200"/>
            <a:ext cx="8020080" cy="1257480"/>
            <a:chOff x="609480" y="457200"/>
            <a:chExt cx="8020080" cy="1257480"/>
          </a:xfrm>
        </p:grpSpPr>
        <p:graphicFrame>
          <p:nvGraphicFramePr>
            <p:cNvPr id="83" name="Object 3"/>
            <p:cNvGraphicFramePr/>
            <p:nvPr/>
          </p:nvGraphicFramePr>
          <p:xfrm>
            <a:off x="609480" y="457200"/>
            <a:ext cx="1160640" cy="114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4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457200"/>
                      <a:ext cx="11606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Rectangle 4"/>
            <p:cNvSpPr/>
            <p:nvPr/>
          </p:nvSpPr>
          <p:spPr>
            <a:xfrm>
              <a:off x="1847880" y="571680"/>
              <a:ext cx="67816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Times New Roman"/>
                </a:rPr>
                <a:t>Д</a:t>
              </a:r>
              <a:r>
                <a:rPr b="0" lang="bg-BG" sz="2000" spc="-1" strike="noStrike">
                  <a:solidFill>
                    <a:srgbClr val="b2b2b2"/>
                  </a:solidFill>
                  <a:latin typeface="Times New Roman"/>
                </a:rPr>
                <a:t>ЪРЖАВНА АГЕНЦИЯ ЗА </a:t>
              </a:r>
              <a:br>
                <a:rPr sz="2000"/>
              </a:br>
              <a:r>
                <a:rPr b="0" lang="bg-BG" sz="2000" spc="-1" strike="noStrike">
                  <a:solidFill>
                    <a:srgbClr val="b2b2b2"/>
                  </a:solidFill>
                  <a:latin typeface="Times New Roman"/>
                </a:rPr>
                <a:t>МЕТРОЛОГИЧЕН И ТЕХНИЧЕСКИ НАДЗОР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6" name="Text Box 5"/>
          <p:cNvSpPr/>
          <p:nvPr/>
        </p:nvSpPr>
        <p:spPr>
          <a:xfrm>
            <a:off x="914400" y="18288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Times New Roman"/>
              </a:rPr>
              <a:t>Органи за надзор на пуснатите на пазара строителни продукти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762120" y="32767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914400" y="32004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24000" y="3044880"/>
            <a:ext cx="85341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Държавната агенция за метрологичен и технически надзор (ДАМТН) чрез Главна дирекция “Надзор на пазара” (ГД ”НП”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bg-BG" sz="2800" spc="-1" strike="noStrike">
                <a:solidFill>
                  <a:srgbClr val="000000"/>
                </a:solidFill>
                <a:latin typeface="Times New Roman"/>
              </a:rPr>
              <a:t>самостоятелно или съвместно с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Министерство на регионалното развитие и благоустройството (МРРБ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 u="sng">
                <a:solidFill>
                  <a:srgbClr val="ff0000"/>
                </a:solidFill>
                <a:uFillTx/>
                <a:latin typeface="Times New Roman"/>
              </a:rPr>
              <a:t>(за продукти отговарящи на европейски технически спецификации)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AF61-4F59-432F-96AA-09323D7E9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" name="Group 3"/>
          <p:cNvGrpSpPr/>
          <p:nvPr/>
        </p:nvGrpSpPr>
        <p:grpSpPr>
          <a:xfrm>
            <a:off x="533520" y="380880"/>
            <a:ext cx="8020080" cy="1257480"/>
            <a:chOff x="533520" y="380880"/>
            <a:chExt cx="8020080" cy="1257480"/>
          </a:xfrm>
        </p:grpSpPr>
        <p:graphicFrame>
          <p:nvGraphicFramePr>
            <p:cNvPr id="92" name="Object 4"/>
            <p:cNvGraphicFramePr/>
            <p:nvPr/>
          </p:nvGraphicFramePr>
          <p:xfrm>
            <a:off x="533520" y="380880"/>
            <a:ext cx="1160640" cy="114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380880"/>
                      <a:ext cx="11606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" name="Rectangle 5"/>
            <p:cNvSpPr/>
            <p:nvPr/>
          </p:nvSpPr>
          <p:spPr>
            <a:xfrm>
              <a:off x="1771920" y="495360"/>
              <a:ext cx="67816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Times New Roman"/>
                </a:rPr>
                <a:t>Д</a:t>
              </a:r>
              <a:r>
                <a:rPr b="0" lang="bg-BG" sz="2000" spc="-1" strike="noStrike">
                  <a:solidFill>
                    <a:srgbClr val="b2b2b2"/>
                  </a:solidFill>
                  <a:latin typeface="Times New Roman"/>
                </a:rPr>
                <a:t>ЪРЖАВНА АГЕНЦИЯ ЗА </a:t>
              </a:r>
              <a:br>
                <a:rPr sz="2000"/>
              </a:br>
              <a:r>
                <a:rPr b="0" lang="bg-BG" sz="2000" spc="-1" strike="noStrike">
                  <a:solidFill>
                    <a:srgbClr val="b2b2b2"/>
                  </a:solidFill>
                  <a:latin typeface="Times New Roman"/>
                </a:rPr>
                <a:t>МЕТРОЛОГИЧЕН И ТЕХНИЧЕСКИ НАДЗОР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5" name="Text Box 5"/>
          <p:cNvSpPr/>
          <p:nvPr/>
        </p:nvSpPr>
        <p:spPr>
          <a:xfrm>
            <a:off x="914400" y="18288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Times New Roman"/>
              </a:rPr>
              <a:t>Проверки 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324000" y="3044880"/>
            <a:ext cx="8534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По план - през първо тримесечие на 2008 година е предвидено проверка на гъвкави хидроизолационни мушами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Извънредни проверки – по сигнали и жалби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C385-7A41-4483-B6E7-40147FE08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" name="Group 7"/>
          <p:cNvGrpSpPr/>
          <p:nvPr/>
        </p:nvGrpSpPr>
        <p:grpSpPr>
          <a:xfrm>
            <a:off x="609480" y="380880"/>
            <a:ext cx="8020080" cy="1257480"/>
            <a:chOff x="609480" y="380880"/>
            <a:chExt cx="8020080" cy="1257480"/>
          </a:xfrm>
        </p:grpSpPr>
        <p:graphicFrame>
          <p:nvGraphicFramePr>
            <p:cNvPr id="99" name="Object 8"/>
            <p:cNvGraphicFramePr/>
            <p:nvPr/>
          </p:nvGraphicFramePr>
          <p:xfrm>
            <a:off x="609480" y="380880"/>
            <a:ext cx="1160640" cy="114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380880"/>
                      <a:ext cx="11606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Rectangle 9"/>
            <p:cNvSpPr/>
            <p:nvPr/>
          </p:nvSpPr>
          <p:spPr>
            <a:xfrm>
              <a:off x="1847880" y="495360"/>
              <a:ext cx="67816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Times New Roman"/>
                </a:rPr>
                <a:t>Д</a:t>
              </a:r>
              <a:r>
                <a:rPr b="0" lang="bg-BG" sz="2000" spc="-1" strike="noStrike">
                  <a:solidFill>
                    <a:srgbClr val="b2b2b2"/>
                  </a:solidFill>
                  <a:latin typeface="Times New Roman"/>
                </a:rPr>
                <a:t>ЪРЖАВНА АГЕНЦИЯ ЗА </a:t>
              </a:r>
              <a:br>
                <a:rPr sz="2000"/>
              </a:br>
              <a:r>
                <a:rPr b="0" lang="bg-BG" sz="2000" spc="-1" strike="noStrike">
                  <a:solidFill>
                    <a:srgbClr val="b2b2b2"/>
                  </a:solidFill>
                  <a:latin typeface="Times New Roman"/>
                </a:rPr>
                <a:t>МЕТРОЛОГИЧЕН И ТЕХНИЧЕСКИ НАДЗОР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2" name="Rectangle 11"/>
          <p:cNvSpPr/>
          <p:nvPr/>
        </p:nvSpPr>
        <p:spPr>
          <a:xfrm>
            <a:off x="843120" y="1828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Маркировката за съответствие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380880" y="2362320"/>
            <a:ext cx="8534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Строителните продукти, отговарящи на европейски технически спецификации се маркират със знак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17"/>
          <p:cNvSpPr/>
          <p:nvPr/>
        </p:nvSpPr>
        <p:spPr>
          <a:xfrm>
            <a:off x="324000" y="571500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редба за маркировката за съответствие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lang="bg-BG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В, бр. 69/2005 г.,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зм. и доп. бр. 66/2006г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18" descr=""/>
          <p:cNvPicPr/>
          <p:nvPr/>
        </p:nvPicPr>
        <p:blipFill>
          <a:blip r:embed="rId3"/>
          <a:stretch/>
        </p:blipFill>
        <p:spPr>
          <a:xfrm>
            <a:off x="611280" y="3141720"/>
            <a:ext cx="2952720" cy="16286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1"/>
          <p:cNvSpPr/>
          <p:nvPr/>
        </p:nvSpPr>
        <p:spPr>
          <a:xfrm>
            <a:off x="3851280" y="3141720"/>
            <a:ext cx="49687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3708360" y="3213000"/>
            <a:ext cx="5076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bg-BG" sz="1600" spc="-1" strike="noStrike" u="sng">
                <a:solidFill>
                  <a:srgbClr val="000000"/>
                </a:solidFill>
                <a:uFillTx/>
                <a:latin typeface="Times New Roman"/>
              </a:rPr>
              <a:t>Маркировката се придружава най-малко от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1600" spc="-1" strike="noStrike">
                <a:solidFill>
                  <a:srgbClr val="ff0000"/>
                </a:solidFill>
                <a:latin typeface="Times New Roman"/>
              </a:rPr>
              <a:t>Последни две цифри на годината, в която е нанесен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1600" spc="-1" strike="noStrike">
                <a:solidFill>
                  <a:srgbClr val="ff0000"/>
                </a:solidFill>
                <a:latin typeface="Times New Roman"/>
              </a:rPr>
              <a:t>Идентификационен номер на органа за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1600" spc="-1" strike="noStrike">
                <a:solidFill>
                  <a:srgbClr val="ff0000"/>
                </a:solidFill>
                <a:latin typeface="Times New Roman"/>
              </a:rPr>
              <a:t>сертификация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bg-BG" sz="1600" spc="-1" strike="noStrike">
                <a:solidFill>
                  <a:srgbClr val="ff0000"/>
                </a:solidFill>
                <a:latin typeface="Times New Roman"/>
              </a:rPr>
              <a:t>или на лабораторията за изпитване и номер на ЕО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bg-BG" sz="1600" spc="-1" strike="noStrike">
                <a:solidFill>
                  <a:srgbClr val="ff0000"/>
                </a:solidFill>
                <a:latin typeface="Times New Roman"/>
              </a:rPr>
              <a:t>сертификат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1600" spc="-1" strike="noStrike">
                <a:solidFill>
                  <a:srgbClr val="ff0000"/>
                </a:solidFill>
                <a:latin typeface="Times New Roman"/>
              </a:rPr>
              <a:t>Номер и наименование на техническата спецификация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1600" spc="-1" strike="noStrike">
                <a:solidFill>
                  <a:srgbClr val="ff0000"/>
                </a:solidFill>
                <a:latin typeface="Times New Roman"/>
              </a:rPr>
              <a:t>Стойностите на характеристиките и класовете на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bg-BG" sz="1600" spc="-1" strike="noStrike">
                <a:solidFill>
                  <a:srgbClr val="ff0000"/>
                </a:solidFill>
                <a:latin typeface="Times New Roman"/>
              </a:rPr>
              <a:t>продукт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C209-828F-4BDB-8B05-6AA34D9BB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Group 2"/>
          <p:cNvGrpSpPr/>
          <p:nvPr/>
        </p:nvGrpSpPr>
        <p:grpSpPr>
          <a:xfrm>
            <a:off x="609480" y="304920"/>
            <a:ext cx="8020080" cy="1256760"/>
            <a:chOff x="609480" y="304920"/>
            <a:chExt cx="8020080" cy="1256760"/>
          </a:xfrm>
        </p:grpSpPr>
        <p:graphicFrame>
          <p:nvGraphicFramePr>
            <p:cNvPr id="110" name="Object 3"/>
            <p:cNvGraphicFramePr/>
            <p:nvPr/>
          </p:nvGraphicFramePr>
          <p:xfrm>
            <a:off x="609480" y="304920"/>
            <a:ext cx="1160640" cy="1142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1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304920"/>
                      <a:ext cx="1160640" cy="114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2" name="Rectangle 4"/>
            <p:cNvSpPr/>
            <p:nvPr/>
          </p:nvSpPr>
          <p:spPr>
            <a:xfrm>
              <a:off x="1847880" y="419040"/>
              <a:ext cx="6781680" cy="11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Times New Roman"/>
                </a:rPr>
                <a:t>Д</a:t>
              </a:r>
              <a:r>
                <a:rPr b="0" lang="bg-BG" sz="2000" spc="-1" strike="noStrike">
                  <a:solidFill>
                    <a:srgbClr val="b2b2b2"/>
                  </a:solidFill>
                  <a:latin typeface="Times New Roman"/>
                </a:rPr>
                <a:t>ЪРЖАВНА АГЕНЦИЯ ЗА </a:t>
              </a:r>
              <a:br>
                <a:rPr sz="2000"/>
              </a:br>
              <a:r>
                <a:rPr b="0" lang="bg-BG" sz="2000" spc="-1" strike="noStrike">
                  <a:solidFill>
                    <a:srgbClr val="b2b2b2"/>
                  </a:solidFill>
                  <a:latin typeface="Times New Roman"/>
                </a:rPr>
                <a:t>МЕТРОЛОГИЧЕН И ТЕХНИЧЕСКИ НАДЗОР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3" name="Text Box 5"/>
          <p:cNvSpPr/>
          <p:nvPr/>
        </p:nvSpPr>
        <p:spPr>
          <a:xfrm>
            <a:off x="1219320" y="1295280"/>
            <a:ext cx="701028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ЕО Декларация за съответствие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04920" y="1654200"/>
            <a:ext cx="861048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Съставя се от производителя или неговия упълномощен представител като част от процедурата за оценяване на съответствието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Декларацията за съответствие трябва да съдържа подходящата информация, която би помогнала за установяването на директивата, в съответствие с която тази декларация е била изготвен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В декларацията за съответствие трябва да бъдат включени също така данни за производителя, за неговия упълномощен представител, ако е необходимо, за нотифицирания орган, за продукта, както и справка за хармонизираните стандарти и други нормативни документи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19:54:38Z</dcterms:created>
  <dc:creator>Linda</dc:creator>
  <dc:description/>
  <dc:language>en-US</dc:language>
  <cp:lastModifiedBy>Rumi Hristova</cp:lastModifiedBy>
  <dcterms:modified xsi:type="dcterms:W3CDTF">2008-02-25T17:23:52Z</dcterms:modified>
  <cp:revision>181</cp:revision>
  <dc:subject/>
  <dc:title>???????? ???????  ?? ?????????? ? ?????????? ??????</dc:title>
</cp:coreProperties>
</file>