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656388" cy="9902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0BB31-FB38-482C-9CC2-6FCDA3728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47A1C-D9D3-4B06-8D4A-6717A24F7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773FA-70C7-43C1-87E8-69B1F119A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AE184-F84B-4729-ADDD-3DEF27E47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F8731-8F44-401B-91F5-CE599FA32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7E149-32E7-4CA2-A5EF-426BFF855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8EED9-7FB1-47C8-B592-87D5489E4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0561E-6277-4FDC-9709-6AD2D1616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4FED3-75C5-42BA-B9D4-70D184F9C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A5F5A-1561-48C3-9A31-9521D7D4F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A7799-F362-4734-994F-501CC925D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7C55E-EC1C-4DD8-BB14-56E1F399A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A4A13-22BA-42E3-8C6F-B394A686F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A4E32-DD3D-46EB-B7D8-5BDF262F3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1F70F-0B39-49E3-BC73-C5A63F041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40DF3-57B9-498F-89B8-B0DD3B88B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F59F7-15DA-4035-8620-20A96C840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93F07-1F25-401D-891B-004803DE2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EEAAA-699F-451A-8CE1-A3E69DD3B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906A9-72B6-4044-ACCA-5C2676615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435E0-52AA-4370-9048-87773883C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A0932-6587-44C5-8C86-E17ADA190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CF0DD-79FF-49E8-826C-C22A59C73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0E00E-07E6-4399-95BE-C574C9389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8FABD-EF30-4E43-A4E8-595341F4109E}" type="slidenum">
              <a:rPr b="0" lang="bg-BG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65735-8D16-4895-8298-E774DADEC2E0}" type="slidenum">
              <a:rPr b="0" lang="bg-BG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europa.eu.int/eur-lex/en" TargetMode="External"/><Relationship Id="rId2" Type="http://schemas.openxmlformats.org/officeDocument/2006/relationships/hyperlink" Target="http://europa.eu.int/eur-lex/en" TargetMode="External"/><Relationship Id="rId3" Type="http://schemas.openxmlformats.org/officeDocument/2006/relationships/hyperlink" Target="http://europa.eu.int/eur-lex/en" TargetMode="External"/><Relationship Id="rId4" Type="http://schemas.openxmlformats.org/officeDocument/2006/relationships/hyperlink" Target="http://europa.eu.int/eur-lex/en" TargetMode="External"/><Relationship Id="rId5" Type="http://schemas.openxmlformats.org/officeDocument/2006/relationships/hyperlink" Target="http://europa.eu.int/eur-lex/en" TargetMode="External"/><Relationship Id="rId6" Type="http://schemas.openxmlformats.org/officeDocument/2006/relationships/hyperlink" Target="http://europa.eu.int/eur-lex/en" TargetMode="External"/><Relationship Id="rId7" Type="http://schemas.openxmlformats.org/officeDocument/2006/relationships/hyperlink" Target="http://europa.eu.int/eur-lex/en" TargetMode="External"/><Relationship Id="rId8" Type="http://schemas.openxmlformats.org/officeDocument/2006/relationships/hyperlink" Target="http://europa.eu.int/eur-lex/en" TargetMode="External"/><Relationship Id="rId9" Type="http://schemas.openxmlformats.org/officeDocument/2006/relationships/hyperlink" Target="http://europa.eu.int/eur-lex/en" TargetMode="External"/><Relationship Id="rId10" Type="http://schemas.openxmlformats.org/officeDocument/2006/relationships/hyperlink" Target="http://europa.eu.int/eur-lex/en" TargetMode="External"/><Relationship Id="rId11" Type="http://schemas.openxmlformats.org/officeDocument/2006/relationships/hyperlink" Target="http://europa.eu.int/eur-lex/en" TargetMode="External"/><Relationship Id="rId12" Type="http://schemas.openxmlformats.org/officeDocument/2006/relationships/hyperlink" Target="http://europa.eu.int/eur-lex/en" TargetMode="External"/><Relationship Id="rId13" Type="http://schemas.openxmlformats.org/officeDocument/2006/relationships/hyperlink" Target="http://europa.eu.int/eur-lex/en" TargetMode="External"/><Relationship Id="rId14" Type="http://schemas.openxmlformats.org/officeDocument/2006/relationships/hyperlink" Target="http://eur-lex.europa.eu/en/index.htm" TargetMode="External"/><Relationship Id="rId15" Type="http://schemas.openxmlformats.org/officeDocument/2006/relationships/hyperlink" Target="http://ec.europa.eu/taxation_customs/dds/cgi-bin/tarchap?Lang=EN" TargetMode="External"/><Relationship Id="rId16" Type="http://schemas.openxmlformats.org/officeDocument/2006/relationships/hyperlink" Target="http://ec.europa.eu/taxation_customs/dds/cgi-bin/tarchap?Lang=EN" TargetMode="External"/><Relationship Id="rId17" Type="http://schemas.openxmlformats.org/officeDocument/2006/relationships/hyperlink" Target="http://ec.europa.eu/taxation_customs/dds/cgi-bin/tarchap?Lang=EN" TargetMode="External"/><Relationship Id="rId18" Type="http://schemas.openxmlformats.org/officeDocument/2006/relationships/hyperlink" Target="http://ec.europa.eu/taxation_customs/dds/cgi-bin/tarchap?Lang=EN" TargetMode="External"/><Relationship Id="rId19" Type="http://schemas.openxmlformats.org/officeDocument/2006/relationships/hyperlink" Target="http://ec.europa.eu/taxation_customs/dds/cgi-bin/tarchap?Lang=EN" TargetMode="External"/><Relationship Id="rId20" Type="http://schemas.openxmlformats.org/officeDocument/2006/relationships/hyperlink" Target="http://ec.europa.eu/taxation_customs/dds/cgi-bin/tarchap?Lang=EN" TargetMode="External"/><Relationship Id="rId21" Type="http://schemas.openxmlformats.org/officeDocument/2006/relationships/hyperlink" Target="http://ec.europa.eu/taxation_customs/dds/cgi-bin/tarchap?Lang=EN" TargetMode="External"/><Relationship Id="rId22" Type="http://schemas.openxmlformats.org/officeDocument/2006/relationships/hyperlink" Target="http://ec.europa.eu/taxation_customs/dds/cgi-bin/tarchap?Lang=EN" TargetMode="External"/><Relationship Id="rId23" Type="http://schemas.openxmlformats.org/officeDocument/2006/relationships/hyperlink" Target="http://ec.europa.eu/taxation_customs/dds/cgi-bin/tarchap?Lang=EN" TargetMode="External"/><Relationship Id="rId24" Type="http://schemas.openxmlformats.org/officeDocument/2006/relationships/hyperlink" Target="http://ec.europa.eu/taxation_customs/dds/cgi-bin/tarchap?Lang=EN" TargetMode="External"/><Relationship Id="rId25" Type="http://schemas.openxmlformats.org/officeDocument/2006/relationships/hyperlink" Target="http://ec.europa.eu/taxation_customs/dds/cgi-bin/tarchap?Lang=EN" TargetMode="External"/><Relationship Id="rId26" Type="http://schemas.openxmlformats.org/officeDocument/2006/relationships/hyperlink" Target="http://ec.europa.eu/taxation_customs/dds/cgi-bin/tarchap?Lang=EN" TargetMode="External"/><Relationship Id="rId27" Type="http://schemas.openxmlformats.org/officeDocument/2006/relationships/hyperlink" Target="http://ec.europa.eu/taxation_customs/dds/cgi-bin/tarchap?Lang=EN" TargetMode="External"/><Relationship Id="rId28" Type="http://schemas.openxmlformats.org/officeDocument/2006/relationships/hyperlink" Target="http://ec.europa.eu/taxation_customs/dds/cgi-bin/tarchap?Lang=EN" TargetMode="External"/><Relationship Id="rId29" Type="http://schemas.openxmlformats.org/officeDocument/2006/relationships/hyperlink" Target="http://ec.europa.eu/taxation_customs/dds/cgi-bin/tarchap?Lang=EN" TargetMode="External"/><Relationship Id="rId30" Type="http://schemas.openxmlformats.org/officeDocument/2006/relationships/hyperlink" Target="http://ec.europa.eu/taxation_customs/dds/cgi-bin/tarchap?Lang=EN" TargetMode="External"/><Relationship Id="rId31" Type="http://schemas.openxmlformats.org/officeDocument/2006/relationships/hyperlink" Target="http://ec.europa.eu/taxation_customs/dds/cgi-bin/tarchap?Lang=EN" TargetMode="External"/><Relationship Id="rId32" Type="http://schemas.openxmlformats.org/officeDocument/2006/relationships/hyperlink" Target="http://ec.europa.eu/taxation_customs/dds/cgi-bin/tarchap?Lang=EN" TargetMode="External"/><Relationship Id="rId33" Type="http://schemas.openxmlformats.org/officeDocument/2006/relationships/hyperlink" Target="http://ec.europa.eu/taxation_customs/dds/cgi-bin/tarchap?Lang=EN" TargetMode="External"/><Relationship Id="rId34" Type="http://schemas.openxmlformats.org/officeDocument/2006/relationships/hyperlink" Target="http://ec.europa.eu/taxation_customs/dds/cgi-bin/tarchap?Lang=EN" TargetMode="External"/><Relationship Id="rId35" Type="http://schemas.openxmlformats.org/officeDocument/2006/relationships/hyperlink" Target="http://ec.europa.eu/taxation_customs/dds/cgi-bin/tarchap?Lang=EN" TargetMode="External"/><Relationship Id="rId36" Type="http://schemas.openxmlformats.org/officeDocument/2006/relationships/hyperlink" Target="http://ec.europa.eu/taxation_customs/dds/cgi-bin/tarchap?Lang=EN" TargetMode="External"/><Relationship Id="rId37" Type="http://schemas.openxmlformats.org/officeDocument/2006/relationships/hyperlink" Target="http://ec.europa.eu/taxation_customs/dds/cgi-bin/tarchap?Lang=EN" TargetMode="External"/><Relationship Id="rId38" Type="http://schemas.openxmlformats.org/officeDocument/2006/relationships/hyperlink" Target="http://madb.europa.eu/mkaccdb2/datasetPreviewFormATpubli.htm?datacat_id=AT&amp;from=publi" TargetMode="External"/><Relationship Id="rId39" Type="http://schemas.openxmlformats.org/officeDocument/2006/relationships/image" Target="../media/image7.png"/><Relationship Id="rId40" Type="http://schemas.openxmlformats.org/officeDocument/2006/relationships/image" Target="../media/image8.png"/><Relationship Id="rId4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0" y="981000"/>
            <a:ext cx="914400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ВЪЗМОЖНОСТИ ЗА ДОСТЪП ДО ПАЗАРА ВЪВ ВРЪЗКА С ПРИСЪЕДИНЯВАНЕТО НА БЪЛГАРИЯ КЪМ ЕС</a:t>
            </a: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476000" y="5949720"/>
            <a:ext cx="6264360" cy="6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000" spc="-1" strike="noStrike">
                <a:solidFill>
                  <a:srgbClr val="ffffff"/>
                </a:solidFill>
                <a:latin typeface="Verdana"/>
              </a:rPr>
              <a:t>Министерство на икономиката и енергетиката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000" spc="-1" strike="noStrike">
                <a:solidFill>
                  <a:srgbClr val="ffffff"/>
                </a:solidFill>
                <a:latin typeface="Verdana"/>
              </a:rPr>
              <a:t>БТПП, семинар “Външнотърговски аспекти на присъединяването на България към ЕС”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000" spc="-1" strike="noStrike">
                <a:solidFill>
                  <a:srgbClr val="ffffff"/>
                </a:solidFill>
                <a:latin typeface="Verdana"/>
              </a:rPr>
              <a:t>София, 18 януари 2007 г.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2484360" y="4724280"/>
            <a:ext cx="4105440" cy="8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16000" y="0"/>
            <a:ext cx="80280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някои тарифни квоти* прилагани през 2007 г.  за внос в ЕС при намалени мита, съгласно договореностите по ГАТТ 1994</a:t>
            </a:r>
            <a:endParaRPr b="0" lang="en-US" sz="1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042920" y="6490440"/>
            <a:ext cx="810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*</a:t>
            </a:r>
            <a:r>
              <a:rPr b="0" lang="bg-BG" sz="1200" spc="-1" strike="noStrike">
                <a:solidFill>
                  <a:srgbClr val="ffffff"/>
                </a:solidFill>
                <a:latin typeface="Verdana"/>
              </a:rPr>
              <a:t>тарифните квоти са изчерпателно представени в Общата митническа тарифа на ЕС</a:t>
            </a:r>
            <a:r>
              <a:rPr b="0" lang="bg-BG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0" y="692280"/>
          <a:ext cx="9144000" cy="5898960"/>
        </p:xfrm>
        <a:graphic>
          <a:graphicData uri="http://schemas.openxmlformats.org/drawingml/2006/table">
            <a:tbl>
              <a:tblPr/>
              <a:tblGrid>
                <a:gridCol w="3778200"/>
                <a:gridCol w="1863720"/>
                <a:gridCol w="1106640"/>
                <a:gridCol w="2395440"/>
              </a:tblGrid>
              <a:tr h="2764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одукт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личество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0066cc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итническа ставка в рамките на квотат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азпределение на количествата по произход на внос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</a:tr>
              <a:tr h="824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в тонове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исококачествено говеждо месо (от 0201, от 0202, от 0206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7 95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ржентина – 17 000 тона, САЩ/Канада – 11 500 тона, Австралия – 7 150 тона, Уругвай – 2 300 тона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исококачествено говеждо месо (специфично описание от 0201, от 0202, от 0206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 3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исококачествено говеждо месо (специфично описание от 02013000, 02061095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1 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ржентин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исококачествено говеждо месо (специфично описание от 02013000, 02023090, 02061095, 02062991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 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разили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исококачествено говеждо месо (специфично описание от 02013000, 02023090, 02061095, 02062991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 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ругвай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овеждо месо (от 020210 до 02023090, 02062991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3 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безкостено говеждо месо (02023090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 25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встрали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винско месо (02031110, 02032110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5 06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68 евро/т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винско месо (от 020312, 020319, 020329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 53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33 евро/т - 434 евро/т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винско месо (от 02031913,02032915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 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винско месо (от 02031955, 02032955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5 26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50 евро/т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винско месо (от 02031955, 02032955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 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00 евро/т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винско месо (от 02031955, 02032955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 72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50 евро/т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АЩ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</a:tr>
            </a:tbl>
          </a:graphicData>
        </a:graphic>
      </p:graphicFrame>
      <p:sp>
        <p:nvSpPr>
          <p:cNvPr id="181" name=""/>
          <p:cNvSpPr/>
          <p:nvPr/>
        </p:nvSpPr>
        <p:spPr>
          <a:xfrm>
            <a:off x="24840" y="0"/>
            <a:ext cx="113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 u="sng">
                <a:solidFill>
                  <a:srgbClr val="ffffff"/>
                </a:solidFill>
                <a:uFillTx/>
                <a:latin typeface="Verdana"/>
              </a:rPr>
              <a:t>Пример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07552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Износ за страните, с които ЕС има сключени споразумения за свободна търговия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-360" y="1125360"/>
            <a:ext cx="889308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Verdana"/>
              </a:rPr>
              <a:t>Б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ългарските доставчици от 1.1.2007 г. ползват по-благоприятни условия за достъп до пазарите на страните, с които ЕС има сключени споразумения за свободна търговия.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i="1" lang="bg-BG" sz="1400" spc="-1" strike="noStrike" u="sng">
                <a:solidFill>
                  <a:srgbClr val="ffffff"/>
                </a:solidFill>
                <a:uFillTx/>
                <a:latin typeface="Verdana"/>
              </a:rPr>
              <a:t>Споразумения на ЕС: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ffffff"/>
                </a:solidFill>
                <a:latin typeface="Verdana"/>
              </a:rPr>
              <a:t>Споразумение за създаване на Европейското икономическо пространство, по което страни са  Норвегия, Лихтенщайн, Исландия;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ffffff"/>
                </a:solidFill>
                <a:latin typeface="Verdana"/>
              </a:rPr>
              <a:t>споразумения с Швейцария;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ffffff"/>
                </a:solidFill>
                <a:latin typeface="Verdana"/>
              </a:rPr>
              <a:t>споразумения за свободна търговия с Чили, Мексико, Южна Африка;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ffffff"/>
                </a:solidFill>
                <a:latin typeface="Verdana"/>
              </a:rPr>
              <a:t>влезли в сила споразумения за стабилизация и асоцииране с Македония, Хърватия и договорено ново споразумение и с Албания;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ffffff"/>
                </a:solidFill>
                <a:latin typeface="Verdana"/>
              </a:rPr>
              <a:t>споразумение със страните от Средиземно море – Египет, Израел, Йордания, Мароко, Тунис;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bg-BG" sz="1400" spc="-1" strike="noStrike">
                <a:solidFill>
                  <a:srgbClr val="ffffff"/>
                </a:solidFill>
                <a:latin typeface="Verdana"/>
              </a:rPr>
              <a:t>споразумение за сътрудничество с Алжир, Сирия;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bg-BG" sz="1400" spc="-1" strike="noStrike">
                <a:solidFill>
                  <a:srgbClr val="ffffff"/>
                </a:solidFill>
                <a:latin typeface="Verdana"/>
              </a:rPr>
              <a:t>временно споразумение с Ливан, Палестина; 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ffffff"/>
                </a:solidFill>
                <a:latin typeface="Verdana"/>
              </a:rPr>
              <a:t>ЕС е в митнически съюз с Турция, Сан Марино, Андора (единствено за индустриалните стоки)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4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i="1" lang="bg-BG" sz="1400" spc="-1" strike="noStrike" u="sng">
                <a:solidFill>
                  <a:srgbClr val="ffffff"/>
                </a:solidFill>
                <a:uFillTx/>
                <a:latin typeface="Verdana"/>
              </a:rPr>
              <a:t>В процес на преговори между ЕС и партньорските страни са следните споразумения: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ffffff"/>
                </a:solidFill>
                <a:latin typeface="Verdana"/>
              </a:rPr>
              <a:t>Споразумение за свободна търговия между ЕС и страните от 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Mercosur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 (Аржентина, Бразилия, Уругвай, Парагвай) – преговорите са започнали от 2000 г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ffffff"/>
                </a:solidFill>
                <a:latin typeface="Verdana"/>
              </a:rPr>
              <a:t>Споразумение за партньорство и свободна търговия между ЕС и страните от 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GCC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 - Съвет за сътрудничество в Залива (Бахрейн, Кувейт, Оман, Катар, Саудитска Арабия, Обединени Арабски Емирства) – преговорите са започнали от 1990 г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ffffff"/>
                </a:solidFill>
                <a:latin typeface="Verdana"/>
              </a:rPr>
              <a:t>Споразумения за икономическа партньорство между ЕС и страните от АСР 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(Африка, Карибския и Тихоокеанския региони) - преговорите са започнали след 2003 г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ffffff"/>
                </a:solidFill>
                <a:latin typeface="Verdana"/>
              </a:rPr>
              <a:t>Споразумение за асоцииране между ЕС и Сърбия и Черна гора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39280" y="0"/>
            <a:ext cx="81471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нформация за прилаганите мита при реализиране на внос от трети страни на стоки с произход от ЕС е достъпна в Интернет чрез Базата данни на ЕС за достъп до пазара:</a:t>
            </a:r>
            <a:br>
              <a:rPr sz="2000"/>
            </a:br>
            <a:br>
              <a:rPr sz="2000"/>
            </a:br>
            <a:r>
              <a:rPr b="0" lang="bg-BG" sz="2000" spc="-1" strike="noStrike" u="sng">
                <a:solidFill>
                  <a:srgbClr val="ffffff"/>
                </a:solidFill>
                <a:uFillTx/>
                <a:latin typeface="Arial"/>
              </a:rPr>
              <a:t>http://madb.europa.eu/mkaccdb2/datasetPreviewFormATpubli.htm?datacat_id=AT&amp;from=publi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1258920" y="2421000"/>
            <a:ext cx="66960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50560" y="404280"/>
            <a:ext cx="2601720" cy="4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Пример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: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68000" y="980640"/>
            <a:ext cx="821844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bg-BG" sz="1600" spc="-1" strike="noStrike">
                <a:solidFill>
                  <a:srgbClr val="ffffff"/>
                </a:solidFill>
                <a:latin typeface="Verdana"/>
              </a:rPr>
              <a:t>по-долу са изведени някои продукти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,</a:t>
            </a:r>
            <a:r>
              <a:rPr b="0" lang="bg-BG" sz="1600" spc="-1" strike="noStrike">
                <a:solidFill>
                  <a:srgbClr val="ffffff"/>
                </a:solidFill>
                <a:latin typeface="Verdana"/>
              </a:rPr>
              <a:t> за които българските доставчици реализират износ за търговски партньори, с които ЕС има преференциални договорености и вносът с произход от ЕС се облага с по-ниски мита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611280" y="2421000"/>
          <a:ext cx="7931160" cy="2897280"/>
        </p:xfrm>
        <a:graphic>
          <a:graphicData uri="http://schemas.openxmlformats.org/drawingml/2006/table">
            <a:tbl>
              <a:tblPr/>
              <a:tblGrid>
                <a:gridCol w="2622600"/>
                <a:gridCol w="1193760"/>
                <a:gridCol w="2449440"/>
                <a:gridCol w="1665360"/>
              </a:tblGrid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одук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трана на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нос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ито при внос при третиране "най-облагодетелствана нация"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ито при внос с произход от ЕС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части за машин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Чил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рансформатор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Египе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електрическа апаратура</a:t>
                      </a:r>
                      <a:r>
                        <a:rPr b="0" lang="bg-BG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екъсвачи, др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ексико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5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ластмасови тръби и маркучи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ексико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5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18440" cy="13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Износ за страни, с които ЕС има договорености в рамките на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ТО</a:t>
            </a: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 за доставки при </a:t>
            </a:r>
            <a:br>
              <a:rPr sz="2400"/>
            </a:b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подобрен достъп до пазара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50560" y="1844280"/>
            <a:ext cx="843588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Възможно е ползване на дялове от </a:t>
            </a:r>
            <a:r>
              <a:rPr b="0" i="1" lang="ru-RU" sz="2400" spc="-1" strike="noStrike">
                <a:solidFill>
                  <a:srgbClr val="ffffff"/>
                </a:solidFill>
                <a:latin typeface="Verdana"/>
              </a:rPr>
              <a:t>тарифни квоти, 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договорени от ЕС за внос в трети страни при намалени мита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Verdana"/>
              </a:rPr>
              <a:t>Пример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- преференциална квота за внос в САЩ на </a:t>
            </a:r>
            <a:r>
              <a:rPr b="0" i="1" lang="ru-RU" sz="2000" spc="-1" strike="noStrike">
                <a:solidFill>
                  <a:srgbClr val="ffffff"/>
                </a:solidFill>
                <a:latin typeface="Verdana"/>
              </a:rPr>
              <a:t>сирена от краве мляко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при намалено мито (тарифната квота е в размер на 27.8 хил. тона за внос по тарифни номера 04061004, 04061084, 04062089, 04063089, 04069095 при мито 10%)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Verdana"/>
              </a:rPr>
              <a:t>- от 1.1.2007 г. българските износители на сирена имат възможност при интерес да ползват дял от квотата за внос на сирена в САЩ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4000" y="260280"/>
            <a:ext cx="800244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Система на експортно субсидиране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24000" y="1052280"/>
            <a:ext cx="842472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Verdana"/>
              </a:rPr>
              <a:t>ЕС прилага система на експортно субсидиране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(т.нар. “възстановявания при износ”)</a:t>
            </a:r>
            <a:r>
              <a:rPr b="0" lang="bg-BG" sz="1800" spc="-1" strike="noStrike">
                <a:solidFill>
                  <a:srgbClr val="ffffff"/>
                </a:solidFill>
                <a:latin typeface="Verdana"/>
              </a:rPr>
              <a:t> за широк кръг от селскостопански стоки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4572000" y="2492280"/>
            <a:ext cx="4392720" cy="2933640"/>
          </a:xfrm>
          <a:prstGeom prst="rect">
            <a:avLst/>
          </a:prstGeom>
          <a:ln w="9360">
            <a:solidFill>
              <a:srgbClr val="0066cc"/>
            </a:solidFill>
            <a:miter/>
          </a:ln>
        </p:spPr>
      </p:pic>
      <p:sp>
        <p:nvSpPr>
          <p:cNvPr id="194" name=""/>
          <p:cNvSpPr/>
          <p:nvPr/>
        </p:nvSpPr>
        <p:spPr>
          <a:xfrm>
            <a:off x="324000" y="5516640"/>
            <a:ext cx="8424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за получаване на експортна субсидия е необходим лиценз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молби за издаване на експортни лицензи в България се подават в ДФ „Земеделие”.</a:t>
            </a:r>
            <a:r>
              <a:rPr b="0" lang="bg-BG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68360" y="2205000"/>
            <a:ext cx="3924360" cy="13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 u="sng">
                <a:solidFill>
                  <a:srgbClr val="ffffff"/>
                </a:solidFill>
                <a:uFillTx/>
                <a:latin typeface="Verdana"/>
              </a:rPr>
              <a:t>Пример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ffffff"/>
                </a:solidFill>
                <a:latin typeface="Verdana"/>
              </a:rPr>
              <a:t>Справка за конкретни продукти и размер на експортната субсидия може да бъде направена в Интернет чрез 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система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TARIC </a:t>
            </a:r>
            <a:r>
              <a:rPr b="0" lang="bg-BG" sz="1600" spc="-1" strike="noStrike">
                <a:solidFill>
                  <a:srgbClr val="ffffff"/>
                </a:solidFill>
                <a:latin typeface="Verdana"/>
              </a:rPr>
              <a:t>на ЕС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9280" y="0"/>
            <a:ext cx="821844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ffff"/>
                </a:solidFill>
                <a:uFillTx/>
                <a:latin typeface="Arial"/>
              </a:rPr>
              <a:t>ИНФОРМАЦИОННИ РЕСУРСИ НА ЕС, КОИТО МОГАТ ДА СЕ ПОЛЗВАТ ОТ ТЪРГОВСКИТЕ ОПЕРАТОРИ</a:t>
            </a:r>
            <a:endParaRPr b="0" lang="en-US" sz="1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-360" y="549000"/>
            <a:ext cx="889308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Възможностите и процедурите за внос или износ при ползване на дялове от тарифни квоти са разписани в Регламентите на ЕС по групи продукти. Регламентите са публикувани в Официалния вестник (</a:t>
            </a:r>
            <a:r>
              <a:rPr b="0" lang="bg-BG" sz="1800" spc="-1" strike="noStrike">
                <a:solidFill>
                  <a:srgbClr val="ffffff"/>
                </a:solidFill>
                <a:latin typeface="Verdana"/>
              </a:rPr>
              <a:t>Official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bg-BG" sz="1800" spc="-1" strike="noStrike">
                <a:solidFill>
                  <a:srgbClr val="ffffff"/>
                </a:solidFill>
                <a:latin typeface="Verdana"/>
              </a:rPr>
              <a:t>Journal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) </a:t>
            </a:r>
            <a:r>
              <a:rPr b="0" lang="bg-BG" sz="1800" spc="-1" strike="noStrike">
                <a:solidFill>
                  <a:srgbClr val="ffffff"/>
                </a:solidFill>
                <a:latin typeface="Verdana"/>
              </a:rPr>
              <a:t>на ЕС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ОТ 1 ЯНУАРИ 2007 Г. ЕВРОПЕЙСКИТЕ РЕГЛАМЕНТИ НАПЪЛНО ВАЖАТ И ЗА БЪЛГАРИЯ. </a:t>
            </a:r>
            <a:r>
              <a:rPr b="0" lang="bg-BG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ffcc"/>
                </a:solidFill>
                <a:uFillTx/>
                <a:latin typeface="Verdana"/>
                <a:hlinkClick r:id="rId1"/>
              </a:rPr>
              <a:t>http</a:t>
            </a:r>
            <a:r>
              <a:rPr b="0" lang="bg-BG" sz="1600" spc="-1" strike="noStrike" u="sng">
                <a:solidFill>
                  <a:srgbClr val="ffffcc"/>
                </a:solidFill>
                <a:uFillTx/>
                <a:latin typeface="Verdana"/>
                <a:hlinkClick r:id="rId2"/>
              </a:rPr>
              <a:t>://</a:t>
            </a:r>
            <a:r>
              <a:rPr b="0" lang="en-US" sz="1600" spc="-1" strike="noStrike" u="sng">
                <a:solidFill>
                  <a:srgbClr val="ffffcc"/>
                </a:solidFill>
                <a:uFillTx/>
                <a:latin typeface="Verdana"/>
                <a:hlinkClick r:id="rId3"/>
              </a:rPr>
              <a:t>europa</a:t>
            </a:r>
            <a:r>
              <a:rPr b="0" lang="bg-BG" sz="1600" spc="-1" strike="noStrike" u="sng">
                <a:solidFill>
                  <a:srgbClr val="ffffcc"/>
                </a:solidFill>
                <a:uFillTx/>
                <a:latin typeface="Verdana"/>
                <a:hlinkClick r:id="rId4"/>
              </a:rPr>
              <a:t>.</a:t>
            </a:r>
            <a:r>
              <a:rPr b="0" lang="en-US" sz="1600" spc="-1" strike="noStrike" u="sng">
                <a:solidFill>
                  <a:srgbClr val="ffffcc"/>
                </a:solidFill>
                <a:uFillTx/>
                <a:latin typeface="Verdana"/>
                <a:hlinkClick r:id="rId5"/>
              </a:rPr>
              <a:t>eu</a:t>
            </a:r>
            <a:r>
              <a:rPr b="0" lang="bg-BG" sz="1600" spc="-1" strike="noStrike" u="sng">
                <a:solidFill>
                  <a:srgbClr val="ffffcc"/>
                </a:solidFill>
                <a:uFillTx/>
                <a:latin typeface="Verdana"/>
                <a:hlinkClick r:id="rId6"/>
              </a:rPr>
              <a:t>.</a:t>
            </a:r>
            <a:r>
              <a:rPr b="0" lang="en-US" sz="1600" spc="-1" strike="noStrike" u="sng">
                <a:solidFill>
                  <a:srgbClr val="ffffcc"/>
                </a:solidFill>
                <a:uFillTx/>
                <a:latin typeface="Verdana"/>
                <a:hlinkClick r:id="rId7"/>
              </a:rPr>
              <a:t>int</a:t>
            </a:r>
            <a:r>
              <a:rPr b="0" lang="bg-BG" sz="1600" spc="-1" strike="noStrike" u="sng">
                <a:solidFill>
                  <a:srgbClr val="ffffcc"/>
                </a:solidFill>
                <a:uFillTx/>
                <a:latin typeface="Verdana"/>
                <a:hlinkClick r:id="rId8"/>
              </a:rPr>
              <a:t>/</a:t>
            </a:r>
            <a:r>
              <a:rPr b="0" lang="en-US" sz="1600" spc="-1" strike="noStrike" u="sng">
                <a:solidFill>
                  <a:srgbClr val="ffffcc"/>
                </a:solidFill>
                <a:uFillTx/>
                <a:latin typeface="Verdana"/>
                <a:hlinkClick r:id="rId9"/>
              </a:rPr>
              <a:t>eur</a:t>
            </a:r>
            <a:r>
              <a:rPr b="0" lang="bg-BG" sz="1600" spc="-1" strike="noStrike" u="sng">
                <a:solidFill>
                  <a:srgbClr val="ffffcc"/>
                </a:solidFill>
                <a:uFillTx/>
                <a:latin typeface="Verdana"/>
                <a:hlinkClick r:id="rId10"/>
              </a:rPr>
              <a:t>-</a:t>
            </a:r>
            <a:r>
              <a:rPr b="0" lang="en-US" sz="1600" spc="-1" strike="noStrike" u="sng">
                <a:solidFill>
                  <a:srgbClr val="ffffcc"/>
                </a:solidFill>
                <a:uFillTx/>
                <a:latin typeface="Verdana"/>
                <a:hlinkClick r:id="rId11"/>
              </a:rPr>
              <a:t>lex</a:t>
            </a:r>
            <a:r>
              <a:rPr b="0" lang="bg-BG" sz="1600" spc="-1" strike="noStrike" u="sng">
                <a:solidFill>
                  <a:srgbClr val="ffffcc"/>
                </a:solidFill>
                <a:uFillTx/>
                <a:latin typeface="Verdana"/>
                <a:hlinkClick r:id="rId12"/>
              </a:rPr>
              <a:t>/</a:t>
            </a:r>
            <a:r>
              <a:rPr b="0" lang="en-US" sz="1600" spc="-1" strike="noStrike" u="sng">
                <a:solidFill>
                  <a:srgbClr val="ffffcc"/>
                </a:solidFill>
                <a:uFillTx/>
                <a:latin typeface="Verdana"/>
                <a:hlinkClick r:id="rId13"/>
              </a:rPr>
              <a:t>en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bg-BG" sz="1600" spc="-1" strike="noStrike">
                <a:solidFill>
                  <a:srgbClr val="ffffff"/>
                </a:solidFill>
                <a:latin typeface="Verdana"/>
              </a:rPr>
              <a:t>или </a:t>
            </a:r>
            <a:r>
              <a:rPr b="0" lang="bg-BG" sz="1600" spc="-1" strike="noStrike" u="sng">
                <a:solidFill>
                  <a:srgbClr val="ffffcc"/>
                </a:solidFill>
                <a:uFillTx/>
                <a:latin typeface="Verdana"/>
                <a:hlinkClick r:id="rId14"/>
              </a:rPr>
              <a:t>http://eur-lex.europa.eu/en/index.htm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Изчерпателна информация за митата и тарифните преференции, предоставяни при внос в ЕС на стоки с произход от трети страни </a:t>
            </a:r>
            <a:r>
              <a:rPr b="0" lang="bg-BG" sz="1800" spc="-1" strike="noStrike">
                <a:solidFill>
                  <a:srgbClr val="ffffff"/>
                </a:solidFill>
                <a:latin typeface="Verdana"/>
              </a:rPr>
              <a:t>са достъпни в Интернет чрез базата данни на ЕС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- </a:t>
            </a:r>
            <a:r>
              <a:rPr b="1" lang="bg-BG" sz="2000" spc="-1" strike="noStrike">
                <a:solidFill>
                  <a:srgbClr val="ffffff"/>
                </a:solidFill>
                <a:latin typeface="Verdana"/>
              </a:rPr>
              <a:t>TARIC</a:t>
            </a: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ffcc"/>
                </a:solidFill>
                <a:uFillTx/>
                <a:latin typeface="Verdana"/>
                <a:hlinkClick r:id="rId15"/>
              </a:rPr>
              <a:t>http</a:t>
            </a:r>
            <a:r>
              <a:rPr b="0" lang="bg-BG" sz="1600" spc="-1" strike="noStrike" u="sng">
                <a:solidFill>
                  <a:srgbClr val="ffffcc"/>
                </a:solidFill>
                <a:uFillTx/>
                <a:latin typeface="Verdana"/>
                <a:hlinkClick r:id="rId16"/>
              </a:rPr>
              <a:t>://</a:t>
            </a:r>
            <a:r>
              <a:rPr b="0" lang="en-US" sz="1600" spc="-1" strike="noStrike" u="sng">
                <a:solidFill>
                  <a:srgbClr val="ffffcc"/>
                </a:solidFill>
                <a:uFillTx/>
                <a:latin typeface="Verdana"/>
                <a:hlinkClick r:id="rId17"/>
              </a:rPr>
              <a:t>ec</a:t>
            </a:r>
            <a:r>
              <a:rPr b="0" lang="bg-BG" sz="1600" spc="-1" strike="noStrike" u="sng">
                <a:solidFill>
                  <a:srgbClr val="ffffcc"/>
                </a:solidFill>
                <a:uFillTx/>
                <a:latin typeface="Verdana"/>
                <a:hlinkClick r:id="rId18"/>
              </a:rPr>
              <a:t>.</a:t>
            </a:r>
            <a:r>
              <a:rPr b="0" lang="en-US" sz="1600" spc="-1" strike="noStrike" u="sng">
                <a:solidFill>
                  <a:srgbClr val="ffffcc"/>
                </a:solidFill>
                <a:uFillTx/>
                <a:latin typeface="Verdana"/>
                <a:hlinkClick r:id="rId19"/>
              </a:rPr>
              <a:t>europa</a:t>
            </a:r>
            <a:r>
              <a:rPr b="0" lang="bg-BG" sz="1600" spc="-1" strike="noStrike" u="sng">
                <a:solidFill>
                  <a:srgbClr val="ffffcc"/>
                </a:solidFill>
                <a:uFillTx/>
                <a:latin typeface="Verdana"/>
                <a:hlinkClick r:id="rId20"/>
              </a:rPr>
              <a:t>.</a:t>
            </a:r>
            <a:r>
              <a:rPr b="0" lang="en-US" sz="1600" spc="-1" strike="noStrike" u="sng">
                <a:solidFill>
                  <a:srgbClr val="ffffcc"/>
                </a:solidFill>
                <a:uFillTx/>
                <a:latin typeface="Verdana"/>
                <a:hlinkClick r:id="rId21"/>
              </a:rPr>
              <a:t>eu</a:t>
            </a:r>
            <a:r>
              <a:rPr b="0" lang="bg-BG" sz="1600" spc="-1" strike="noStrike" u="sng">
                <a:solidFill>
                  <a:srgbClr val="ffffcc"/>
                </a:solidFill>
                <a:uFillTx/>
                <a:latin typeface="Verdana"/>
                <a:hlinkClick r:id="rId22"/>
              </a:rPr>
              <a:t>/</a:t>
            </a:r>
            <a:r>
              <a:rPr b="0" lang="en-US" sz="1600" spc="-1" strike="noStrike" u="sng">
                <a:solidFill>
                  <a:srgbClr val="ffffcc"/>
                </a:solidFill>
                <a:uFillTx/>
                <a:latin typeface="Verdana"/>
                <a:hlinkClick r:id="rId23"/>
              </a:rPr>
              <a:t>taxation</a:t>
            </a:r>
            <a:r>
              <a:rPr b="0" lang="bg-BG" sz="1600" spc="-1" strike="noStrike" u="sng">
                <a:solidFill>
                  <a:srgbClr val="ffffcc"/>
                </a:solidFill>
                <a:uFillTx/>
                <a:latin typeface="Verdana"/>
                <a:hlinkClick r:id="rId24"/>
              </a:rPr>
              <a:t>_</a:t>
            </a:r>
            <a:r>
              <a:rPr b="0" lang="en-US" sz="1600" spc="-1" strike="noStrike" u="sng">
                <a:solidFill>
                  <a:srgbClr val="ffffcc"/>
                </a:solidFill>
                <a:uFillTx/>
                <a:latin typeface="Verdana"/>
                <a:hlinkClick r:id="rId25"/>
              </a:rPr>
              <a:t>customs</a:t>
            </a:r>
            <a:r>
              <a:rPr b="0" lang="bg-BG" sz="1600" spc="-1" strike="noStrike" u="sng">
                <a:solidFill>
                  <a:srgbClr val="ffffcc"/>
                </a:solidFill>
                <a:uFillTx/>
                <a:latin typeface="Verdana"/>
                <a:hlinkClick r:id="rId26"/>
              </a:rPr>
              <a:t>/</a:t>
            </a:r>
            <a:r>
              <a:rPr b="0" lang="en-US" sz="1600" spc="-1" strike="noStrike" u="sng">
                <a:solidFill>
                  <a:srgbClr val="ffffcc"/>
                </a:solidFill>
                <a:uFillTx/>
                <a:latin typeface="Verdana"/>
                <a:hlinkClick r:id="rId27"/>
              </a:rPr>
              <a:t>dds</a:t>
            </a:r>
            <a:r>
              <a:rPr b="0" lang="bg-BG" sz="1600" spc="-1" strike="noStrike" u="sng">
                <a:solidFill>
                  <a:srgbClr val="ffffcc"/>
                </a:solidFill>
                <a:uFillTx/>
                <a:latin typeface="Verdana"/>
                <a:hlinkClick r:id="rId28"/>
              </a:rPr>
              <a:t>/</a:t>
            </a:r>
            <a:r>
              <a:rPr b="0" lang="en-US" sz="1600" spc="-1" strike="noStrike" u="sng">
                <a:solidFill>
                  <a:srgbClr val="ffffcc"/>
                </a:solidFill>
                <a:uFillTx/>
                <a:latin typeface="Verdana"/>
                <a:hlinkClick r:id="rId29"/>
              </a:rPr>
              <a:t>cgi</a:t>
            </a:r>
            <a:r>
              <a:rPr b="0" lang="bg-BG" sz="1600" spc="-1" strike="noStrike" u="sng">
                <a:solidFill>
                  <a:srgbClr val="ffffcc"/>
                </a:solidFill>
                <a:uFillTx/>
                <a:latin typeface="Verdana"/>
                <a:hlinkClick r:id="rId30"/>
              </a:rPr>
              <a:t>-</a:t>
            </a:r>
            <a:r>
              <a:rPr b="0" lang="en-US" sz="1600" spc="-1" strike="noStrike" u="sng">
                <a:solidFill>
                  <a:srgbClr val="ffffcc"/>
                </a:solidFill>
                <a:uFillTx/>
                <a:latin typeface="Verdana"/>
                <a:hlinkClick r:id="rId31"/>
              </a:rPr>
              <a:t>bin</a:t>
            </a:r>
            <a:r>
              <a:rPr b="0" lang="bg-BG" sz="1600" spc="-1" strike="noStrike" u="sng">
                <a:solidFill>
                  <a:srgbClr val="ffffcc"/>
                </a:solidFill>
                <a:uFillTx/>
                <a:latin typeface="Verdana"/>
                <a:hlinkClick r:id="rId32"/>
              </a:rPr>
              <a:t>/</a:t>
            </a:r>
            <a:r>
              <a:rPr b="0" lang="en-US" sz="1600" spc="-1" strike="noStrike" u="sng">
                <a:solidFill>
                  <a:srgbClr val="ffffcc"/>
                </a:solidFill>
                <a:uFillTx/>
                <a:latin typeface="Verdana"/>
                <a:hlinkClick r:id="rId33"/>
              </a:rPr>
              <a:t>tarchap</a:t>
            </a:r>
            <a:r>
              <a:rPr b="0" lang="bg-BG" sz="1600" spc="-1" strike="noStrike" u="sng">
                <a:solidFill>
                  <a:srgbClr val="ffffcc"/>
                </a:solidFill>
                <a:uFillTx/>
                <a:latin typeface="Verdana"/>
                <a:hlinkClick r:id="rId34"/>
              </a:rPr>
              <a:t>?</a:t>
            </a:r>
            <a:r>
              <a:rPr b="0" lang="en-US" sz="1600" spc="-1" strike="noStrike" u="sng">
                <a:solidFill>
                  <a:srgbClr val="ffffcc"/>
                </a:solidFill>
                <a:uFillTx/>
                <a:latin typeface="Verdana"/>
                <a:hlinkClick r:id="rId35"/>
              </a:rPr>
              <a:t>Lang</a:t>
            </a:r>
            <a:r>
              <a:rPr b="0" lang="bg-BG" sz="1600" spc="-1" strike="noStrike" u="sng">
                <a:solidFill>
                  <a:srgbClr val="ffffcc"/>
                </a:solidFill>
                <a:uFillTx/>
                <a:latin typeface="Verdana"/>
                <a:hlinkClick r:id="rId36"/>
              </a:rPr>
              <a:t>=</a:t>
            </a:r>
            <a:r>
              <a:rPr b="0" lang="en-US" sz="1600" spc="-1" strike="noStrike" u="sng">
                <a:solidFill>
                  <a:srgbClr val="ffffcc"/>
                </a:solidFill>
                <a:uFillTx/>
                <a:latin typeface="Verdana"/>
                <a:hlinkClick r:id="rId37"/>
              </a:rPr>
              <a:t>EN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Информация за прилаганите мита при реализиране на внос от трети страни на стоки с произход от ЕС е достъпна в Интернет чрез Базата данни на ЕС за достъп до пазара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 u="sng">
                <a:solidFill>
                  <a:srgbClr val="ffffcc"/>
                </a:solidFill>
                <a:uFillTx/>
                <a:latin typeface="Verdana"/>
                <a:hlinkClick r:id="rId38"/>
              </a:rPr>
              <a:t>http://madb.europa.eu/mkaccdb2/datasetPreviewFormATpubli.htm?datacat_id=AT&amp;from=publi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39"/>
          <a:stretch/>
        </p:blipFill>
        <p:spPr>
          <a:xfrm>
            <a:off x="4859280" y="4635360"/>
            <a:ext cx="3673440" cy="222264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40"/>
          <a:stretch/>
        </p:blipFill>
        <p:spPr>
          <a:xfrm>
            <a:off x="755640" y="4643280"/>
            <a:ext cx="3527280" cy="22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2819520" y="260280"/>
            <a:ext cx="6324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lang="bg-BG" sz="2000" spc="-1" strike="noStrike" u="sng">
                <a:solidFill>
                  <a:srgbClr val="ffffff"/>
                </a:solidFill>
                <a:uFillTx/>
                <a:latin typeface="Arial"/>
              </a:rPr>
              <a:t>Други полезни адреси в Интернет</a:t>
            </a:r>
            <a:r>
              <a:rPr b="0" lang="bg-BG" sz="14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906360" y="3357720"/>
            <a:ext cx="522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http://europa.eu.int/comm/trade/index_en.ht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429000" y="2852640"/>
            <a:ext cx="531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Arial Narrow"/>
              </a:rPr>
              <a:t>Генерална Дирекция “Търговия” на Европейската Комис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21080" y="5008680"/>
            <a:ext cx="383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Arial Narrow"/>
              </a:rPr>
              <a:t>Световна търговска организация</a:t>
            </a:r>
            <a:r>
              <a:rPr b="0" lang="bg-BG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bg-BG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216320" y="5589720"/>
            <a:ext cx="230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http://www.wto.org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501720" y="906480"/>
            <a:ext cx="419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Arial Narrow"/>
              </a:rPr>
              <a:t>Министерство на икономиката и енергетикат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074120" y="1413000"/>
            <a:ext cx="371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http://www.m</a:t>
            </a:r>
            <a:r>
              <a:rPr b="0" lang="bg-BG" sz="2400" spc="-1" strike="noStrike">
                <a:solidFill>
                  <a:srgbClr val="ffffff"/>
                </a:solidFill>
                <a:latin typeface="Arial Narrow"/>
              </a:rPr>
              <a:t>ее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.government.bg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0" y="2349360"/>
            <a:ext cx="3276720" cy="219888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2"/>
          <a:stretch/>
        </p:blipFill>
        <p:spPr>
          <a:xfrm>
            <a:off x="0" y="4562640"/>
            <a:ext cx="3276720" cy="229536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3"/>
          <a:stretch/>
        </p:blipFill>
        <p:spPr>
          <a:xfrm>
            <a:off x="0" y="0"/>
            <a:ext cx="3276720" cy="24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94920" y="260280"/>
            <a:ext cx="821844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т 1.1.2007 г. като член на ЕС, България: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Verdana"/>
              </a:rPr>
              <a:t>осъществява свободен търговски обмен с останалите страни членки на ЕС, без заплащане на мита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Verdana"/>
              </a:rPr>
              <a:t>при реализирането на 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внос</a:t>
            </a:r>
            <a:r>
              <a:rPr b="0" lang="bg-BG" sz="2000" spc="-1" strike="noStrike">
                <a:solidFill>
                  <a:srgbClr val="ffffff"/>
                </a:solidFill>
                <a:latin typeface="Verdana"/>
              </a:rPr>
              <a:t> от контрагенти от трети страни се заплащат мита, съгласно Общата митническа тарифа на ЕС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Verdana"/>
              </a:rPr>
              <a:t>прилага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Общата система за преференции (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GSP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), възпрета от ЕС</a:t>
            </a:r>
            <a:r>
              <a:rPr b="0" lang="bg-BG" sz="2000" spc="-1" strike="noStrike">
                <a:solidFill>
                  <a:srgbClr val="ffffff"/>
                </a:solidFill>
                <a:latin typeface="Verdana"/>
              </a:rPr>
              <a:t> в полза на развиващите се и най-слабо развитите страни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Verdana"/>
              </a:rPr>
              <a:t>по отношение на търговския обмен със страни, с които ЕС има подписани преференциални търговски споразумения се прилагат условията на достъп до пазара, в съответствие със споразуменията, тъй като България от 1.1.2007 г. е страна по търговските споразумения, приети от ЕС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Verdana"/>
              </a:rPr>
              <a:t>прилага системата на ЕС за експортно субсидиране 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(т.нар. “възстановявания при износ”)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Verdana"/>
              </a:rPr>
              <a:t>възприети са и прилаганите от ЕС антидъмпингови и защитни мита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280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ъв връзка с членството на България в ЕС могат да бъдат разгледани три основни аспекта, касаещи достъпа до пазара: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23640" y="2205000"/>
            <a:ext cx="856908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Verdana"/>
              </a:rPr>
              <a:t>Доставки за страните членки на ЕС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Verdana"/>
              </a:rPr>
              <a:t>По-брагоприятни възможности за износ за страните, с които ЕС има сключени споразумения за свободна търговия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Verdana"/>
              </a:rPr>
              <a:t>Износ за други страни, с които ЕС има договорености в рамките на Световната търговска организация 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(СТО)</a:t>
            </a:r>
            <a:r>
              <a:rPr b="0" lang="bg-BG" sz="2000" spc="-1" strike="noStrike">
                <a:solidFill>
                  <a:srgbClr val="ffffff"/>
                </a:solidFill>
                <a:latin typeface="Verdana"/>
              </a:rPr>
              <a:t> за доставки при подобрен достъп до пазара, както и договорени възможности за заплащане на експортни субсидии.</a:t>
            </a:r>
            <a:r>
              <a:rPr b="0" lang="bg-BG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11280" y="980640"/>
            <a:ext cx="8291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 u="sng">
                <a:solidFill>
                  <a:srgbClr val="ffffff"/>
                </a:solidFill>
                <a:uFillTx/>
                <a:latin typeface="Arial"/>
              </a:rPr>
              <a:t>Доставки за страните членки на ЕС</a:t>
            </a: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042560" y="2204640"/>
            <a:ext cx="7201080" cy="15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 algn="just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Verdana"/>
              </a:rPr>
              <a:t>Разширяват се възможностите за български доставки за потребителите на другите страни членки на ЕС - стоките се движат свободно в рамките на единния европейски пазар, състоящ се от около 500 млн. потребители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8440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8440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84400" indent="-284400" algn="just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Verdana"/>
              </a:rPr>
              <a:t>при доставки между страните членки на ЕС мита не се заплащат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10920" y="-360"/>
            <a:ext cx="821844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инамиката на </a:t>
            </a:r>
            <a:r>
              <a:rPr b="1" lang="bg-BG" sz="1800" spc="-1" strike="noStrike">
                <a:solidFill>
                  <a:srgbClr val="ffffff"/>
                </a:solidFill>
                <a:latin typeface="Arial"/>
              </a:rPr>
              <a:t>доставките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за партньорите от страните - членки на ЕС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6840" y="5805000"/>
            <a:ext cx="8218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През 2005 г. в сравнение с 2004 г. стойностите на </a:t>
            </a:r>
            <a:r>
              <a:rPr b="0" lang="bg-BG" sz="1800" spc="-1" strike="noStrike">
                <a:solidFill>
                  <a:srgbClr val="ffffff"/>
                </a:solidFill>
                <a:latin typeface="Verdana"/>
              </a:rPr>
              <a:t>доставките от България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за всички страни от ЕС нарастват, с изключение на малък спад в обева на доставките за Ирландия и Латвия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324000" y="620640"/>
            <a:ext cx="8820000" cy="503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8146800" cy="8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 u="sng">
                <a:solidFill>
                  <a:srgbClr val="ffffff"/>
                </a:solidFill>
                <a:uFillTx/>
                <a:latin typeface="Arial"/>
              </a:rPr>
              <a:t>Доставки за страните членки на ЕС</a:t>
            </a:r>
            <a:r>
              <a:rPr b="1" lang="bg-BG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(2)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23640" y="1989000"/>
            <a:ext cx="8435880" cy="34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Verdana"/>
              </a:rPr>
              <a:t>от 1.1.2007 г. условията за достъп до нашия пазар са еквивалентни на условя на достъп до единния европейски пазар - всяка доставка за нашите потребители означава доставка за общия европейски пазар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Verdana"/>
              </a:rPr>
              <a:t>при 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внос</a:t>
            </a:r>
            <a:r>
              <a:rPr b="0" lang="bg-BG" sz="2000" spc="-1" strike="noStrike">
                <a:solidFill>
                  <a:srgbClr val="ffffff"/>
                </a:solidFill>
                <a:latin typeface="Verdana"/>
              </a:rPr>
              <a:t> в ЕС от трети страни се заплащат мита, съгласно Общата митническа тарифа на ЕС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възможно е ползване на дялове от тарифни квоти за внос в ЕС </a:t>
            </a:r>
            <a:r>
              <a:rPr b="0" lang="ru-RU" sz="2000" spc="-1" strike="noStrike" u="sng">
                <a:solidFill>
                  <a:srgbClr val="ffffff"/>
                </a:solidFill>
                <a:uFillTx/>
                <a:latin typeface="Verdana"/>
              </a:rPr>
              <a:t>при намалени мита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Тарифен профил на България и ЕС , при третиране „най-облагодетелствана нация” през 2006 г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0" y="2565360"/>
            <a:ext cx="9144000" cy="305280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1636200" y="1916280"/>
            <a:ext cx="561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400" spc="-1" strike="noStrike" u="sng">
                <a:solidFill>
                  <a:srgbClr val="ffffff"/>
                </a:solidFill>
                <a:uFillTx/>
                <a:latin typeface="Verdana"/>
              </a:rPr>
              <a:t>Селскостопански стоки </a:t>
            </a:r>
            <a:r>
              <a:rPr b="0" i="1" lang="en-US" sz="1400" spc="-1" strike="noStrike" u="sng">
                <a:solidFill>
                  <a:srgbClr val="ffffff"/>
                </a:solidFill>
                <a:uFillTx/>
                <a:latin typeface="Verdana"/>
              </a:rPr>
              <a:t>(</a:t>
            </a:r>
            <a:r>
              <a:rPr b="0" i="1" lang="bg-BG" sz="1400" spc="-1" strike="noStrike" u="sng">
                <a:solidFill>
                  <a:srgbClr val="ffffff"/>
                </a:solidFill>
                <a:uFillTx/>
                <a:latin typeface="Verdana"/>
              </a:rPr>
              <a:t>глава 1-24 на Митническата тарифа</a:t>
            </a:r>
            <a:r>
              <a:rPr b="0" i="1" lang="en-US" sz="1400" spc="-1" strike="noStrike" u="sng">
                <a:solidFill>
                  <a:srgbClr val="ffffff"/>
                </a:solidFill>
                <a:uFillTx/>
                <a:latin typeface="Verdana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Тарифен профил на България и ЕС , при третиране „най-облагодетелствана нация” през 2006 г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(2)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0" y="2565360"/>
            <a:ext cx="9144000" cy="33847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614960" y="1916280"/>
            <a:ext cx="549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400" spc="-1" strike="noStrike" u="sng">
                <a:solidFill>
                  <a:srgbClr val="ffffff"/>
                </a:solidFill>
                <a:uFillTx/>
                <a:latin typeface="Verdana"/>
              </a:rPr>
              <a:t>Индустриални стоки </a:t>
            </a:r>
            <a:r>
              <a:rPr b="0" i="1" lang="en-US" sz="1400" spc="-1" strike="noStrike" u="sng">
                <a:solidFill>
                  <a:srgbClr val="ffffff"/>
                </a:solidFill>
                <a:uFillTx/>
                <a:latin typeface="Verdana"/>
              </a:rPr>
              <a:t>(</a:t>
            </a:r>
            <a:r>
              <a:rPr b="0" i="1" lang="bg-BG" sz="1400" spc="-1" strike="noStrike" u="sng">
                <a:solidFill>
                  <a:srgbClr val="ffffff"/>
                </a:solidFill>
                <a:uFillTx/>
                <a:latin typeface="Verdana"/>
              </a:rPr>
              <a:t>глава 25-97 на Митническата тарифа</a:t>
            </a:r>
            <a:r>
              <a:rPr b="0" i="1" lang="en-US" sz="1400" spc="-1" strike="noStrike" u="sng">
                <a:solidFill>
                  <a:srgbClr val="ffffff"/>
                </a:solidFill>
                <a:uFillTx/>
                <a:latin typeface="Verdana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арифни квоти за внос в ЕС при намалени мита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68360" y="1933200"/>
            <a:ext cx="8207280" cy="38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ЕС прилага тарифни квоти за внос от трети страни при намалени мита за продуктови групи меса, риби, млечни продукти, плодове, зеленчуци, зърнени култури, колбаси, сурова захар за рафиниране, шокол</a:t>
            </a:r>
            <a:r>
              <a:rPr b="0" lang="bg-BG" sz="2000" spc="-1" strike="noStrike">
                <a:solidFill>
                  <a:srgbClr val="ffffff"/>
                </a:solidFill>
                <a:latin typeface="Verdana"/>
              </a:rPr>
              <a:t>а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д, макаронени изделия, консервирани храни и др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Вносът в рамките на тарифните квоти е предмет на лицензиране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Заявления за кандидатстване за дялове за внос в рамките на тарифни квоти в България се подават в Министерството на земеделието и горите, дирекция “</a:t>
            </a:r>
            <a:r>
              <a:rPr b="0" lang="bg-BG" sz="2000" spc="-1" strike="noStrike">
                <a:solidFill>
                  <a:srgbClr val="ffffff"/>
                </a:solidFill>
                <a:latin typeface="Verdana"/>
              </a:rPr>
              <a:t>Маркетинг и регулаторни и режими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”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5T09:50:04Z</dcterms:created>
  <dc:creator>ME</dc:creator>
  <dc:description/>
  <dc:language>en-US</dc:language>
  <cp:lastModifiedBy>Rumi Hristova</cp:lastModifiedBy>
  <dcterms:modified xsi:type="dcterms:W3CDTF">2007-01-23T15:32:51Z</dcterms:modified>
  <cp:revision>70</cp:revision>
  <dc:subject/>
  <dc:title>ВЪЗМОЖНОСТИ ЗА ДОСТЪП ДО ПАЗАРА ВЪВ ВРЪЗКА С ПРИСЪЕДИНЯВАНЕТО НА БЪЛГАРИЯ КЪМ ЕС </dc:title>
</cp:coreProperties>
</file>