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56388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D9A-99B9-45D9-8821-B183EE50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B79-1E8E-481B-8C4B-3FE19BD5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5E9-6DD5-425A-9141-95D3611E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FD3-6C55-424B-9B90-E821F2B4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1744-FDD6-41B9-A766-AA0A967E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9F53-1717-424E-95C7-0D18E204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00AF-F13A-4C96-822E-8D47B96A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E032-AFD1-4319-969F-305C9140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3B07-EE70-4A48-B2FD-C11E4421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FF30-ADC1-4162-AD76-CA6D01F6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D95C-CFA5-4F37-99A1-DAC7FB25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635-7595-471D-86B7-4918A4A4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272A-0ACC-4931-8C76-E78644E7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BDA6-3810-42D9-AB54-6A45E23F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A25E-6585-4600-88F0-A93DD700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6F04-F7E5-40F4-8ABC-1134879A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3D4F-2038-410D-B69D-789283A9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236-8D01-4879-8DD1-D69ECBE4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0FA-CB86-476C-B5FB-C3C6B9FB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48B-65CC-485D-97AC-A0D26D35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885-E2D0-4B47-9E46-598A5A78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ECE-B0C3-414B-9EB4-F112839E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C735-B147-494C-A7E7-9BDC9920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0D5-AFA1-4D9B-8FCD-FEC2EB31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F5B1-F4AD-45A0-B8B9-3DE2FA6B03E4}" type="slidenum">
              <a:rPr b="0" lang="bg-BG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9825-7435-4F6B-9F39-E7AE40793805}" type="slidenum">
              <a:rPr b="0" lang="bg-BG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uropa.eu.int/eur-lex/en" TargetMode="External"/><Relationship Id="rId2" Type="http://schemas.openxmlformats.org/officeDocument/2006/relationships/hyperlink" Target="http://europa.eu.int/eur-lex/en" TargetMode="External"/><Relationship Id="rId3" Type="http://schemas.openxmlformats.org/officeDocument/2006/relationships/hyperlink" Target="http://europa.eu.int/eur-lex/en" TargetMode="External"/><Relationship Id="rId4" Type="http://schemas.openxmlformats.org/officeDocument/2006/relationships/hyperlink" Target="http://europa.eu.int/eur-lex/en" TargetMode="External"/><Relationship Id="rId5" Type="http://schemas.openxmlformats.org/officeDocument/2006/relationships/hyperlink" Target="http://europa.eu.int/eur-lex/en" TargetMode="External"/><Relationship Id="rId6" Type="http://schemas.openxmlformats.org/officeDocument/2006/relationships/hyperlink" Target="http://europa.eu.int/eur-lex/en" TargetMode="External"/><Relationship Id="rId7" Type="http://schemas.openxmlformats.org/officeDocument/2006/relationships/hyperlink" Target="http://europa.eu.int/eur-lex/en" TargetMode="External"/><Relationship Id="rId8" Type="http://schemas.openxmlformats.org/officeDocument/2006/relationships/hyperlink" Target="http://europa.eu.int/eur-lex/en" TargetMode="External"/><Relationship Id="rId9" Type="http://schemas.openxmlformats.org/officeDocument/2006/relationships/hyperlink" Target="http://europa.eu.int/eur-lex/en" TargetMode="External"/><Relationship Id="rId10" Type="http://schemas.openxmlformats.org/officeDocument/2006/relationships/hyperlink" Target="http://europa.eu.int/eur-lex/en" TargetMode="External"/><Relationship Id="rId11" Type="http://schemas.openxmlformats.org/officeDocument/2006/relationships/hyperlink" Target="http://europa.eu.int/eur-lex/en" TargetMode="External"/><Relationship Id="rId12" Type="http://schemas.openxmlformats.org/officeDocument/2006/relationships/hyperlink" Target="http://europa.eu.int/eur-lex/en" TargetMode="External"/><Relationship Id="rId13" Type="http://schemas.openxmlformats.org/officeDocument/2006/relationships/hyperlink" Target="http://europa.eu.int/eur-lex/en" TargetMode="External"/><Relationship Id="rId14" Type="http://schemas.openxmlformats.org/officeDocument/2006/relationships/hyperlink" Target="http://eur-lex.europa.eu/en/index.htm" TargetMode="External"/><Relationship Id="rId15" Type="http://schemas.openxmlformats.org/officeDocument/2006/relationships/hyperlink" Target="http://ec.europa.eu/taxation_customs/dds/cgi-bin/tarchap?Lang=EN" TargetMode="External"/><Relationship Id="rId16" Type="http://schemas.openxmlformats.org/officeDocument/2006/relationships/hyperlink" Target="http://ec.europa.eu/taxation_customs/dds/cgi-bin/tarchap?Lang=EN" TargetMode="External"/><Relationship Id="rId17" Type="http://schemas.openxmlformats.org/officeDocument/2006/relationships/hyperlink" Target="http://ec.europa.eu/taxation_customs/dds/cgi-bin/tarchap?Lang=EN" TargetMode="External"/><Relationship Id="rId18" Type="http://schemas.openxmlformats.org/officeDocument/2006/relationships/hyperlink" Target="http://ec.europa.eu/taxation_customs/dds/cgi-bin/tarchap?Lang=EN" TargetMode="External"/><Relationship Id="rId19" Type="http://schemas.openxmlformats.org/officeDocument/2006/relationships/hyperlink" Target="http://ec.europa.eu/taxation_customs/dds/cgi-bin/tarchap?Lang=EN" TargetMode="External"/><Relationship Id="rId20" Type="http://schemas.openxmlformats.org/officeDocument/2006/relationships/hyperlink" Target="http://ec.europa.eu/taxation_customs/dds/cgi-bin/tarchap?Lang=EN" TargetMode="External"/><Relationship Id="rId21" Type="http://schemas.openxmlformats.org/officeDocument/2006/relationships/hyperlink" Target="http://ec.europa.eu/taxation_customs/dds/cgi-bin/tarchap?Lang=EN" TargetMode="External"/><Relationship Id="rId22" Type="http://schemas.openxmlformats.org/officeDocument/2006/relationships/hyperlink" Target="http://ec.europa.eu/taxation_customs/dds/cgi-bin/tarchap?Lang=EN" TargetMode="External"/><Relationship Id="rId23" Type="http://schemas.openxmlformats.org/officeDocument/2006/relationships/hyperlink" Target="http://ec.europa.eu/taxation_customs/dds/cgi-bin/tarchap?Lang=EN" TargetMode="External"/><Relationship Id="rId24" Type="http://schemas.openxmlformats.org/officeDocument/2006/relationships/hyperlink" Target="http://ec.europa.eu/taxation_customs/dds/cgi-bin/tarchap?Lang=EN" TargetMode="External"/><Relationship Id="rId25" Type="http://schemas.openxmlformats.org/officeDocument/2006/relationships/hyperlink" Target="http://ec.europa.eu/taxation_customs/dds/cgi-bin/tarchap?Lang=EN" TargetMode="External"/><Relationship Id="rId26" Type="http://schemas.openxmlformats.org/officeDocument/2006/relationships/hyperlink" Target="http://ec.europa.eu/taxation_customs/dds/cgi-bin/tarchap?Lang=EN" TargetMode="External"/><Relationship Id="rId27" Type="http://schemas.openxmlformats.org/officeDocument/2006/relationships/hyperlink" Target="http://ec.europa.eu/taxation_customs/dds/cgi-bin/tarchap?Lang=EN" TargetMode="External"/><Relationship Id="rId28" Type="http://schemas.openxmlformats.org/officeDocument/2006/relationships/hyperlink" Target="http://ec.europa.eu/taxation_customs/dds/cgi-bin/tarchap?Lang=EN" TargetMode="External"/><Relationship Id="rId29" Type="http://schemas.openxmlformats.org/officeDocument/2006/relationships/hyperlink" Target="http://ec.europa.eu/taxation_customs/dds/cgi-bin/tarchap?Lang=EN" TargetMode="External"/><Relationship Id="rId30" Type="http://schemas.openxmlformats.org/officeDocument/2006/relationships/hyperlink" Target="http://ec.europa.eu/taxation_customs/dds/cgi-bin/tarchap?Lang=EN" TargetMode="External"/><Relationship Id="rId31" Type="http://schemas.openxmlformats.org/officeDocument/2006/relationships/hyperlink" Target="http://ec.europa.eu/taxation_customs/dds/cgi-bin/tarchap?Lang=EN" TargetMode="External"/><Relationship Id="rId32" Type="http://schemas.openxmlformats.org/officeDocument/2006/relationships/hyperlink" Target="http://ec.europa.eu/taxation_customs/dds/cgi-bin/tarchap?Lang=EN" TargetMode="External"/><Relationship Id="rId33" Type="http://schemas.openxmlformats.org/officeDocument/2006/relationships/hyperlink" Target="http://ec.europa.eu/taxation_customs/dds/cgi-bin/tarchap?Lang=EN" TargetMode="External"/><Relationship Id="rId34" Type="http://schemas.openxmlformats.org/officeDocument/2006/relationships/hyperlink" Target="http://ec.europa.eu/taxation_customs/dds/cgi-bin/tarchap?Lang=EN" TargetMode="External"/><Relationship Id="rId35" Type="http://schemas.openxmlformats.org/officeDocument/2006/relationships/hyperlink" Target="http://ec.europa.eu/taxation_customs/dds/cgi-bin/tarchap?Lang=EN" TargetMode="External"/><Relationship Id="rId36" Type="http://schemas.openxmlformats.org/officeDocument/2006/relationships/hyperlink" Target="http://ec.europa.eu/taxation_customs/dds/cgi-bin/tarchap?Lang=EN" TargetMode="External"/><Relationship Id="rId37" Type="http://schemas.openxmlformats.org/officeDocument/2006/relationships/hyperlink" Target="http://ec.europa.eu/taxation_customs/dds/cgi-bin/tarchap?Lang=EN" TargetMode="External"/><Relationship Id="rId38" Type="http://schemas.openxmlformats.org/officeDocument/2006/relationships/hyperlink" Target="http://madb.europa.eu/mkaccdb2/datasetPreviewFormATpubli.htm?datacat_id=AT&amp;from=publi" TargetMode="External"/><Relationship Id="rId39" Type="http://schemas.openxmlformats.org/officeDocument/2006/relationships/image" Target="../media/image7.png"/><Relationship Id="rId40" Type="http://schemas.openxmlformats.org/officeDocument/2006/relationships/image" Target="../media/image8.png"/><Relationship Id="rId4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ЪЗМОЖНОСТИ ЗА ДОСТЪП ДО ПАЗАРА ВЪВ ВРЪЗКА С ПРИСЪЕДИНЯВАНЕТО НА БЪЛГАРИЯ КЪМ ЕС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76000" y="5949720"/>
            <a:ext cx="62643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Verdana"/>
              </a:rPr>
              <a:t>Министерство на икономиката и енергетиката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ffffff"/>
                </a:solidFill>
                <a:latin typeface="Verdana"/>
              </a:rPr>
              <a:t>БТПП, семинар “Външнотърговски аспекти на присъединяването на България към ЕС”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ffffff"/>
                </a:solidFill>
                <a:latin typeface="Verdana"/>
              </a:rPr>
              <a:t>София, 18 януари 2007 г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84360" y="4724280"/>
            <a:ext cx="41054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якои тарифни квоти* прилагани през 2007 г.  за внос в ЕС при намалени мита, съгласно договореностите по ГАТТ 1994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42920" y="649044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0" lang="bg-BG" sz="1200" spc="-1" strike="noStrike">
                <a:solidFill>
                  <a:srgbClr val="ffffff"/>
                </a:solidFill>
                <a:latin typeface="Verdana"/>
              </a:rPr>
              <a:t>тарифните квоти са изчерпателно представени в Общата митническа тарифа на ЕС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692280"/>
          <a:ext cx="9144000" cy="5898960"/>
        </p:xfrm>
        <a:graphic>
          <a:graphicData uri="http://schemas.openxmlformats.org/drawingml/2006/table">
            <a:tbl>
              <a:tblPr/>
              <a:tblGrid>
                <a:gridCol w="3778200"/>
                <a:gridCol w="1863720"/>
                <a:gridCol w="1106640"/>
                <a:gridCol w="23954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тническа ставка в рамките на квот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пределение на количествата по произход на вно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в тонове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кокачествено говеждо месо (от 0201, от 0202, от 020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 9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жентина – 17 000 тона, САЩ/Канада – 11 500 тона, Австралия – 7 150 тона, Уругвай – 2 300 тон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кокачествено говеждо месо (специфично описание от 0201, от 0202, от 020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кокачествено говеждо месо (специфично описание от 02013000, 0206109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жент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кокачествено говеждо месо (специфично описание от 02013000, 02023090, 02061095, 0206299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кокачествено говеждо месо (специфично описание от 02013000, 02023090, 02061095, 0206299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угв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веждо месо (от 020210 до 02023090, 0206299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езкостено говеждо месо (0202309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инско месо (02031110, 0203211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0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8 евро/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инско месо (от 020312, 020319, 020329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5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3 евро/т - 434 евро/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инско месо (от 02031913,0203291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инско месо (от 02031955, 0203295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 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 евро/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инско месо (от 02031955, 0203295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 евро/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инско месо (от 02031955, 0203295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7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 евро/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24840" y="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ffffff"/>
                </a:solidFill>
                <a:uFillTx/>
                <a:latin typeface="Verdana"/>
              </a:rPr>
              <a:t>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07552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знос за страните, с които ЕС има сключени споразумения за свободна търгови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ългарските доставчици от 1.1.2007 г. ползват по-благоприятни условия за достъп до пазарите на страните, с които ЕС има сключени споразумения за свободна търговия.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bg-BG" sz="1400" spc="-1" strike="noStrike" u="sng">
                <a:solidFill>
                  <a:srgbClr val="ffffff"/>
                </a:solidFill>
                <a:uFillTx/>
                <a:latin typeface="Verdana"/>
              </a:rPr>
              <a:t>Споразумения на ЕС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е за създаване на Европейското икономическо пространство, по което страни са  Норвегия, Лихтенщайн, Исландия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я с Швейцария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я за свободна търговия с Чили, Мексико, Южна Африка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влезли в сила споразумения за стабилизация и асоцииране с Македония, Хърватия и договорено ново споразумение и с Албания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е със страните от Средиземно море – Египет, Израел, Йордания, Мароко, Тунис;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е за сътрудничество с Алжир, Сирия;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временно споразумение с Ливан, Палестина;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ЕС е в митнически съюз с Турция, Сан Марино, Андора (единствено за индустриалните стоки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bg-BG" sz="1400" spc="-1" strike="noStrike" u="sng">
                <a:solidFill>
                  <a:srgbClr val="ffffff"/>
                </a:solidFill>
                <a:uFillTx/>
                <a:latin typeface="Verdana"/>
              </a:rPr>
              <a:t>В процес на преговори между ЕС и партньорските страни са следните споразумения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е за свободна търговия между ЕС и страните от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ercosur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(Аржентина, Бразилия, Уругвай, Парагвай) – преговорите са започнали от 2000 г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е за партньорство и свободна търговия между ЕС и страните от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CC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- Съвет за сътрудничество в Залива (Бахрейн, Кувейт, Оман, Катар, Саудитска Арабия, Обединени Арабски Емирства) – преговорите са започнали от 1990 г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я за икономическа партньорство между ЕС и страните от АСР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Африка, Карибския и Тихоокеанския региони) - преговорите са започнали след 2003 г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Verdana"/>
              </a:rPr>
              <a:t>Споразумение за асоцииране между ЕС и Сърбия и Черна гора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я за прилаганите мита при реализиране на внос от трети страни на стоки с произход от ЕС е достъпна в Интернет чрез Базата данни на ЕС за достъп до пазара:</a:t>
            </a:r>
            <a:br>
              <a:rPr sz="2000"/>
            </a:br>
            <a:br>
              <a:rPr sz="2000"/>
            </a:b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http://madb.europa.eu/mkaccdb2/datasetPreviewFormATpubli.htm?datacat_id=AT&amp;from=publi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69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26017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риме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2184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по-долу са изведени някои продукти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за които българските доставчици реализират износ за търговски партньори, с които ЕС има преференциални договорености и вносът с произход от ЕС се облага с по-ниски мит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11280" y="2421000"/>
          <a:ext cx="7931160" cy="2897280"/>
        </p:xfrm>
        <a:graphic>
          <a:graphicData uri="http://schemas.openxmlformats.org/drawingml/2006/table">
            <a:tbl>
              <a:tblPr/>
              <a:tblGrid>
                <a:gridCol w="2622600"/>
                <a:gridCol w="1193760"/>
                <a:gridCol w="2449440"/>
                <a:gridCol w="166536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а н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о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то при внос при третиране "най-облагодетелствана нация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то при внос с произход от 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и за маши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нсформатор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гип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ктрическа апаратура</a:t>
                      </a:r>
                      <a:r>
                        <a:rPr b="0" lang="bg-BG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късвачи, д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кси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стмасови тръби и маркуч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кси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Износ за страни, с които ЕС има договорености в рамките н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О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за доставки при </a:t>
            </a:r>
            <a:br>
              <a:rPr sz="2400"/>
            </a:b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подобрен достъп до пазар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435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ъзможно е ползване на дялове от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тарифни квоти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оговорени от ЕС за внос в трети страни при намалени мит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Пример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преференциална квота за внос в САЩ на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сирена от краве мляко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при намалено мито (тарифната квота е в размер на 27.8 хил. тона за внос по тарифни номера 04061004, 04061084, 04062089, 04063089, 04069095 при мито 10%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- от 1.1.2007 г. българските износители на сирена имат възможност при интерес да ползват дял от квотата за внос на сирена в САЩ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2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истема на експортно субсидиране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24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ЕС прилага система на експортно субсидиран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т.нар. “възстановявания при износ”)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за широк кръг от селскостопански сток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4392720" cy="293364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324000" y="551664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 получаване на експортна субсидия е необходим лиценз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лби за издаване на експортни лицензи в България се подават в ДФ „Земеделие”.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205000"/>
            <a:ext cx="3924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ffffff"/>
                </a:solidFill>
                <a:uFillTx/>
                <a:latin typeface="Verdana"/>
              </a:rPr>
              <a:t>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Справка за конкретни продукти и размер на експортната субсидия може да бъде направена в Интернет чрез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истема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RIC 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на Е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ИНФОРМАЦИОННИ РЕСУРСИ НА ЕС, КОИТО МОГАТ ДА СЕ ПОЛЗВАТ ОТ ТЪРГОВСКИТЕ ОПЕРАТОРИ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549000"/>
            <a:ext cx="8893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ъзможностите и процедурите за внос или износ при ползване на дялове от тарифни квоти са разписани в Регламентите на ЕС по групи продукти. Регламентите са публикувани в Официалния вестник (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Officia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Journa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на ЕС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 1 ЯНУАРИ 2007 Г. ЕВРОПЕЙСКИТЕ РЕГЛАМЕНТИ НАПЪЛНО ВАЖАТ И ЗА БЪЛГАРИЯ. 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europa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.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eu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.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int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eur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lex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e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14"/>
              </a:rPr>
              <a:t>http://eur-lex.europa.eu/en/index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черпателна информация за митата и тарифните преференции, предоставяни при внос в ЕС на стоки с произход от трети страни 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са достъпни в Интернет чрез базата данни на ЕС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bg-BG" sz="2000" spc="-1" strike="noStrike">
                <a:solidFill>
                  <a:srgbClr val="ffffff"/>
                </a:solidFill>
                <a:latin typeface="Verdana"/>
              </a:rPr>
              <a:t>TARIC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5"/>
              </a:rPr>
              <a:t>http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16"/>
              </a:rPr>
              <a:t>:/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7"/>
              </a:rPr>
              <a:t>ec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18"/>
              </a:rPr>
              <a:t>.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9"/>
              </a:rPr>
              <a:t>europa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20"/>
              </a:rPr>
              <a:t>.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1"/>
              </a:rPr>
              <a:t>eu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22"/>
              </a:rPr>
              <a:t>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3"/>
              </a:rPr>
              <a:t>taxation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24"/>
              </a:rPr>
              <a:t>_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5"/>
              </a:rPr>
              <a:t>customs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26"/>
              </a:rPr>
              <a:t>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7"/>
              </a:rPr>
              <a:t>dds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28"/>
              </a:rPr>
              <a:t>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9"/>
              </a:rPr>
              <a:t>cgi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30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1"/>
              </a:rPr>
              <a:t>bin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32"/>
              </a:rPr>
              <a:t>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3"/>
              </a:rPr>
              <a:t>tarchap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34"/>
              </a:rPr>
              <a:t>?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5"/>
              </a:rPr>
              <a:t>Lang</a:t>
            </a: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36"/>
              </a:rPr>
              <a:t>=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7"/>
              </a:rPr>
              <a:t>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ормация за прилаганите мита при реализиране на внос от трети страни на стоки с произход от ЕС е достъпна в Интернет чрез Базата данни на ЕС за достъп до пазар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ffffcc"/>
                </a:solidFill>
                <a:uFillTx/>
                <a:latin typeface="Verdana"/>
                <a:hlinkClick r:id="rId38"/>
              </a:rPr>
              <a:t>http://madb.europa.eu/mkaccdb2/datasetPreviewFormATpubli.htm?datacat_id=AT&amp;from=publ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9"/>
          <a:stretch/>
        </p:blipFill>
        <p:spPr>
          <a:xfrm>
            <a:off x="4859280" y="4635360"/>
            <a:ext cx="3673440" cy="2222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0"/>
          <a:stretch/>
        </p:blipFill>
        <p:spPr>
          <a:xfrm>
            <a:off x="755640" y="4643280"/>
            <a:ext cx="3527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819520" y="260280"/>
            <a:ext cx="6324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Други полезни адреси в Интернет</a:t>
            </a:r>
            <a:r>
              <a:rPr b="0" lang="bg-BG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06360" y="3357720"/>
            <a:ext cx="52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ttp://europa.eu.int/comm/trade/index_e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285264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 Narrow"/>
              </a:rPr>
              <a:t>Генерална Дирекция “Търговия” на Европейската Коми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21080" y="50086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 Narrow"/>
              </a:rPr>
              <a:t>Световна търговска организация</a:t>
            </a:r>
            <a:r>
              <a:rPr b="0" lang="bg-BG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6320" y="55897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ttp://www.wto.org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01720" y="906480"/>
            <a:ext cx="41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 Narrow"/>
              </a:rPr>
              <a:t>Министерство на икономиката и енергетик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74120" y="141300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ttp://www.m</a:t>
            </a:r>
            <a:r>
              <a:rPr b="0" lang="bg-BG" sz="2400" spc="-1" strike="noStrike">
                <a:solidFill>
                  <a:srgbClr val="ffffff"/>
                </a:solidFill>
                <a:latin typeface="Arial Narrow"/>
              </a:rPr>
              <a:t>ее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government.bg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3276720" cy="2198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4562640"/>
            <a:ext cx="3276720" cy="2295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 1.1.2007 г. като член на ЕС, Българ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осъществява свободен търговски обмен с останалите страни членки на ЕС, без заплащане на мит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при реализирането на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нос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 от контрагенти от трети страни се заплащат мита, съгласно Общата митническа тарифа на ЕС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прилаг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бщата система за преференции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SP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, възпрета от ЕС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 в полза на развиващите се и най-слабо развитите стран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по отношение на търговския обмен със страни, с които ЕС има подписани преференциални търговски споразумения се прилагат условията на достъп до пазара, в съответствие със споразуменията, тъй като България от 1.1.2007 г. е страна по търговските споразумения, приети от ЕС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прилага системата на ЕС за експортно субсидиране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т.нар. “възстановявания при износ”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възприети са и прилаганите от ЕС антидъмпингови и защитни мит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ъв връзка с членството на България в ЕС могат да бъдат разгледани три основни аспекта, касаещи достъпа до пазара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Доставки за страните членки на ЕС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По-брагоприятни възможности за износ за страните, с които ЕС има сключени споразумения за свободна търгов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Износ за други страни, с които ЕС има договорености в рамките на Световната търговска организация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СТО)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 за доставки при подобрен достъп до пазара, както и договорени възможности за заплащане на експортни субсидии.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9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ffffff"/>
                </a:solidFill>
                <a:uFillTx/>
                <a:latin typeface="Arial"/>
              </a:rPr>
              <a:t>Доставки за страните членки на ЕС</a:t>
            </a: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560" y="2204640"/>
            <a:ext cx="72010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Разширяват се възможностите за български доставки за потребителите на другите страни членки на ЕС - стоките се движат свободно в рамките на единния европейски пазар, състоящ се от около 500 млн. потребител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при доставки между страните членки на ЕС мита не се заплаща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21844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намиката на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оставкит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 партньорите от страните - членки на ЕС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5805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з 2005 г. в сравнение с 2004 г. стойностите на 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доставките от България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за всички страни от ЕС нарастват, с изключение на малък спад в обева на доставките за Ирландия и Латв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820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1468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 u="sng">
                <a:solidFill>
                  <a:srgbClr val="ffffff"/>
                </a:solidFill>
                <a:uFillTx/>
                <a:latin typeface="Arial"/>
              </a:rPr>
              <a:t>Доставки за страните членки на ЕС</a:t>
            </a: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43588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от 1.1.2007 г. условията за достъп до нашия пазар са еквивалентни на условя на достъп до единния европейски пазар - всяка доставка за нашите потребители означава доставка за общия европейски пазар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нос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 в ЕС от трети страни се заплащат мита, съгласно Общата митническа тарифа на ЕС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ъзможно е ползване на дялове от тарифни квоти за внос в ЕС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при намалени ми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арифен профил на България и ЕС , при третиране „най-облагодетелствана нация” през 2006 г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052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636200" y="1916280"/>
            <a:ext cx="56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 u="sng">
                <a:solidFill>
                  <a:srgbClr val="ffffff"/>
                </a:solidFill>
                <a:uFillTx/>
                <a:latin typeface="Verdana"/>
              </a:rPr>
              <a:t>Селскостопански стоки 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(</a:t>
            </a:r>
            <a:r>
              <a:rPr b="0" i="1" lang="bg-BG" sz="1400" spc="-1" strike="noStrike" u="sng">
                <a:solidFill>
                  <a:srgbClr val="ffffff"/>
                </a:solidFill>
                <a:uFillTx/>
                <a:latin typeface="Verdana"/>
              </a:rPr>
              <a:t>глава 1-24 на Митническата тарифа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Тарифен профил на България и ЕС , при третиране „най-облагодетелствана нация” през 2006 г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2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384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614960" y="1916280"/>
            <a:ext cx="549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 u="sng">
                <a:solidFill>
                  <a:srgbClr val="ffffff"/>
                </a:solidFill>
                <a:uFillTx/>
                <a:latin typeface="Verdana"/>
              </a:rPr>
              <a:t>Индустриални стоки 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(</a:t>
            </a:r>
            <a:r>
              <a:rPr b="0" i="1" lang="bg-BG" sz="1400" spc="-1" strike="noStrike" u="sng">
                <a:solidFill>
                  <a:srgbClr val="ffffff"/>
                </a:solidFill>
                <a:uFillTx/>
                <a:latin typeface="Verdana"/>
              </a:rPr>
              <a:t>глава 25-97 на Митническата тарифа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рифни квоти за внос в ЕС при намалени мит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933200"/>
            <a:ext cx="820728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ЕС прилага тарифни квоти за внос от трети страни при намалени мита за продуктови групи меса, риби, млечни продукти, плодове, зеленчуци, зърнени култури, колбаси, сурова захар за рафиниране, шокол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, макаронени изделия, консервирани храни и др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носът в рамките на тарифните квоти е предмет на лицензиран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явления за кандидатстване за дялове за внос в рамките на тарифни квоти в България се подават в Министерството на земеделието и горите, дирекция “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Маркетинг и регулаторни и режи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”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9:50:04Z</dcterms:created>
  <dc:creator>ME</dc:creator>
  <dc:description/>
  <dc:language>en-US</dc:language>
  <cp:lastModifiedBy>Rumi Hristova</cp:lastModifiedBy>
  <dcterms:modified xsi:type="dcterms:W3CDTF">2007-01-23T15:32:51Z</dcterms:modified>
  <cp:revision>70</cp:revision>
  <dc:subject/>
  <dc:title>ВЪЗМОЖНОСТИ ЗА ДОСТЪП ДО ПАЗАРА ВЪВ ВРЪЗКА С ПРИСЪЕДИНЯВАНЕТО НА БЪЛГАРИЯ КЪМ ЕС </dc:title>
</cp:coreProperties>
</file>