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A860-F9AB-489E-897F-76A1058A6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B459-6D44-483E-97CC-61F4BFC2D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CBCF-4D77-443F-BEAE-8D0AF8F3B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04F2-58C5-4306-9D2A-3D782691A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70E51-2567-4F3C-8956-D3A6BFD93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1F7FF-8B8E-4E7E-B842-05636F6AB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8FC00-47DA-4CD7-82FD-667CC3585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F84E5-9B44-49C0-BDFD-9B751E487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2453B-AA6B-450D-929E-65CAA0392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D70FE-1072-481B-9D0A-89775119A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59D73-B27A-4BBF-9AA8-71743579D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83D0-6E74-4BD8-8CB6-A9801A803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74C11-0CB0-4479-8366-190366B5E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C69BB-2AAD-4A53-BE99-CAF2402C0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5FE97-3863-4617-A9BC-7898ADFA9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31D75-9627-441F-A33A-159A511F3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5EFD7-EB22-453C-95F2-EFDBF1EF8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4149-4AF0-47E0-82D0-F250C6CF0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4FC3-CC91-4750-9517-961CAD306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8F65-5C6F-4265-9BF2-17627821B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ACD1-34BF-4241-A97E-F107A0237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1462-988C-49A0-85DD-84785C25B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BB10-0A24-448F-BDD2-96AB77BBA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95CD-A754-456C-824F-2E278601E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D94BF-109B-4E78-87BA-E10C7F0CF5F7}" type="slidenum">
              <a:rPr b="0" lang="bg-BG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C617B-EE73-49C3-8D45-9CAB60CC773E}" type="slidenum">
              <a:rPr b="0" lang="bg-BG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21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Verdana"/>
              </a:rPr>
              <a:t>ВЪНШНОТЪРГОВСКИ АСПЕКТИ НА ПРИСЪЕДИНЯВАНЕТО НА БЪЛГАРИЯ КЪМ ЕВРОПЕЙСКИЯ СЪЮЗ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2924280"/>
            <a:ext cx="8229600" cy="31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Verdana"/>
              </a:rPr>
              <a:t>18.01.2007 г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Verdana"/>
              </a:rPr>
              <a:t>СОФИЯ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Arial"/>
              </a:rPr>
              <a:t>Оптични дискове и дискове за четящи системи чрез сноп лазерни лъчи, различни от изтриваемите</a:t>
            </a:r>
            <a:endParaRPr b="0" lang="en-US" sz="20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468360" y="692280"/>
          <a:ext cx="8207280" cy="1658880"/>
        </p:xfrm>
        <a:graphic>
          <a:graphicData uri="http://schemas.openxmlformats.org/drawingml/2006/table">
            <a:tbl>
              <a:tblPr/>
              <a:tblGrid>
                <a:gridCol w="3992400"/>
                <a:gridCol w="2127240"/>
                <a:gridCol w="2087640"/>
              </a:tblGrid>
              <a:tr h="430560"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ериод на действие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5.06.2008 - Инд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8.06.2007 - Тайван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Размер на антидъмпинговото мито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7,3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7,7%  -  38,5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рилагани мита в ЕС - 200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рилагани мита в България - 200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5" name=""/>
          <p:cNvGraphicFramePr/>
          <p:nvPr/>
        </p:nvGraphicFramePr>
        <p:xfrm>
          <a:off x="179280" y="2421000"/>
          <a:ext cx="8569440" cy="3659040"/>
        </p:xfrm>
        <a:graphic>
          <a:graphicData uri="http://schemas.openxmlformats.org/drawingml/2006/table">
            <a:tbl>
              <a:tblPr/>
              <a:tblGrid>
                <a:gridCol w="1109880"/>
                <a:gridCol w="3046320"/>
                <a:gridCol w="957240"/>
                <a:gridCol w="527040"/>
                <a:gridCol w="957240"/>
                <a:gridCol w="473040"/>
                <a:gridCol w="957240"/>
                <a:gridCol w="54144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5 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4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3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8523 90 00 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BG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7 88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5 39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 55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EC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 50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 59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 02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Други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 38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8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 79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7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 53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KИТАЙ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 84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6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7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............ТАЙВАH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1 74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2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1 00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69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2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ХОHKОH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2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0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2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............ИHД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62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31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ЯПОH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6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1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МАЛАЙЗ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8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3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ОАЕ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77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85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4400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Arial"/>
              </a:rPr>
              <a:t>Цифрови интегрални схеми и електронни микрокомплекси. Памети. Части и принадлежности за пишешти машини</a:t>
            </a:r>
            <a:r>
              <a:rPr b="0" lang="en-US" sz="2400" spc="-1" strike="noStrike">
                <a:solidFill>
                  <a:srgbClr val="006666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324000" y="765000"/>
          <a:ext cx="8435880" cy="1577880"/>
        </p:xfrm>
        <a:graphic>
          <a:graphicData uri="http://schemas.openxmlformats.org/drawingml/2006/table">
            <a:tbl>
              <a:tblPr/>
              <a:tblGrid>
                <a:gridCol w="4330800"/>
                <a:gridCol w="4105080"/>
              </a:tblGrid>
              <a:tr h="36828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ериод на действие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3.08.200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Размер на антидъмпинговото мито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% - 34,8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рилагани мита в ЕС - 200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рилагани мита в България - 200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8" name=""/>
          <p:cNvSpPr/>
          <p:nvPr/>
        </p:nvSpPr>
        <p:spPr>
          <a:xfrm>
            <a:off x="539640" y="2852640"/>
            <a:ext cx="792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55640" y="3227400"/>
            <a:ext cx="806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247840" y="4092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179280" y="2492280"/>
          <a:ext cx="8496360" cy="3903840"/>
        </p:xfrm>
        <a:graphic>
          <a:graphicData uri="http://schemas.openxmlformats.org/drawingml/2006/table">
            <a:tbl>
              <a:tblPr/>
              <a:tblGrid>
                <a:gridCol w="1136880"/>
                <a:gridCol w="2825640"/>
                <a:gridCol w="981000"/>
                <a:gridCol w="539640"/>
                <a:gridCol w="978120"/>
                <a:gridCol w="485640"/>
                <a:gridCol w="981000"/>
                <a:gridCol w="56844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5 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4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3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8542 21 11   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BG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2 64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4 57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4 98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8542 21 13   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EC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8 19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8 29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7 19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8542 21 15   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Други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4 44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8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6 28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7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7 79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7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8542 21 17   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KИТАЙ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8 53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 13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 28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8542 21 01   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ТАЙВАH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2 04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3 61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7 69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8542 21 05    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ХОHKОH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86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 37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 59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8548 90 10   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ЯПОH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9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7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1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8473 30 10  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............РЕПУБЛИKА KОРЕ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77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37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26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8473 50 10 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МАЛАЙЗ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6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8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6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САЩ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8 37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5 39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 31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42800" y="333000"/>
            <a:ext cx="82440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Arial"/>
              </a:rPr>
              <a:t>Феромолибден</a:t>
            </a:r>
            <a:endParaRPr b="0" lang="en-US" sz="20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250920" y="2637000"/>
          <a:ext cx="8497800" cy="3455640"/>
        </p:xfrm>
        <a:graphic>
          <a:graphicData uri="http://schemas.openxmlformats.org/drawingml/2006/table">
            <a:tbl>
              <a:tblPr/>
              <a:tblGrid>
                <a:gridCol w="1138680"/>
                <a:gridCol w="2832840"/>
                <a:gridCol w="982800"/>
                <a:gridCol w="536760"/>
                <a:gridCol w="983160"/>
                <a:gridCol w="487440"/>
                <a:gridCol w="982800"/>
                <a:gridCol w="553320"/>
              </a:tblGrid>
              <a:tr h="345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5 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4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3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5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7202 70 00 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BG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 51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 05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8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EC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51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Други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99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 00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9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8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9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АРМЕH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............KИТАЙ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84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5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98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9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25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8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KАЗАХСТАH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ШВЕЙЦАР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0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ТУРЦ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4" name=""/>
          <p:cNvGraphicFramePr/>
          <p:nvPr/>
        </p:nvGraphicFramePr>
        <p:xfrm>
          <a:off x="324000" y="836640"/>
          <a:ext cx="8435880" cy="1515960"/>
        </p:xfrm>
        <a:graphic>
          <a:graphicData uri="http://schemas.openxmlformats.org/drawingml/2006/table">
            <a:tbl>
              <a:tblPr/>
              <a:tblGrid>
                <a:gridCol w="5270400"/>
                <a:gridCol w="316548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ериод на действие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7.02.200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Размер на антидъмпинговото мито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2,5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рилагани мита в ЕС - 200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,7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рилагани мита в България - 200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,7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Arial"/>
              </a:rPr>
              <a:t>Обувки с външни ходила от естествена кожа и горна част, състояща се от каишки от естествена кожа</a:t>
            </a:r>
            <a:endParaRPr b="0" lang="en-US" sz="20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250920" y="836640"/>
          <a:ext cx="8578800" cy="1577880"/>
        </p:xfrm>
        <a:graphic>
          <a:graphicData uri="http://schemas.openxmlformats.org/drawingml/2006/table">
            <a:tbl>
              <a:tblPr/>
              <a:tblGrid>
                <a:gridCol w="4545000"/>
                <a:gridCol w="4033800"/>
              </a:tblGrid>
              <a:tr h="36828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ериод на действие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Временна мярка до 07.10.200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Размер на антидъмпинговото мито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от 12,6% до 19,4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рилагани мита в ЕС - 200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,5% и 8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рилагани мита в България - 200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9,6% и 20,8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7" name=""/>
          <p:cNvGraphicFramePr/>
          <p:nvPr/>
        </p:nvGraphicFramePr>
        <p:xfrm>
          <a:off x="324000" y="2565360"/>
          <a:ext cx="8496000" cy="3742920"/>
        </p:xfrm>
        <a:graphic>
          <a:graphicData uri="http://schemas.openxmlformats.org/drawingml/2006/table">
            <a:tbl>
              <a:tblPr/>
              <a:tblGrid>
                <a:gridCol w="1137960"/>
                <a:gridCol w="2830680"/>
                <a:gridCol w="979560"/>
                <a:gridCol w="542880"/>
                <a:gridCol w="981000"/>
                <a:gridCol w="487440"/>
                <a:gridCol w="982440"/>
                <a:gridCol w="554040"/>
              </a:tblGrid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5 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4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3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8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403 20 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BG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2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7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2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405 10 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EC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3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5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5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Други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9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1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7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9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БРАЗИЛ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............KИТАЙ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6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2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РУМЪH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............ВИЕТHАМ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ТАЙЛАHД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ТУРЦ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0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9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8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Arial"/>
              </a:rPr>
              <a:t>Обувки с предна лицева част съставена от каишки или изрязана на едно или повече места</a:t>
            </a:r>
            <a:endParaRPr b="0" lang="en-US" sz="20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539640" y="765000"/>
          <a:ext cx="8218440" cy="1720800"/>
        </p:xfrm>
        <a:graphic>
          <a:graphicData uri="http://schemas.openxmlformats.org/drawingml/2006/table">
            <a:tbl>
              <a:tblPr/>
              <a:tblGrid>
                <a:gridCol w="4336920"/>
                <a:gridCol w="3881520"/>
              </a:tblGrid>
              <a:tr h="39816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0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ериод на действие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9.04.201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Размер на антидъмпинговото мито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52 E/T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рилагани мита в ЕС - 200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8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рилагани мита в България - 200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,8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0" name=""/>
          <p:cNvGraphicFramePr/>
          <p:nvPr/>
        </p:nvGraphicFramePr>
        <p:xfrm>
          <a:off x="250920" y="2781360"/>
          <a:ext cx="8435520" cy="3670200"/>
        </p:xfrm>
        <a:graphic>
          <a:graphicData uri="http://schemas.openxmlformats.org/drawingml/2006/table">
            <a:tbl>
              <a:tblPr/>
              <a:tblGrid>
                <a:gridCol w="1107720"/>
                <a:gridCol w="2927520"/>
                <a:gridCol w="951840"/>
                <a:gridCol w="527760"/>
                <a:gridCol w="955080"/>
                <a:gridCol w="469800"/>
                <a:gridCol w="955080"/>
                <a:gridCol w="54072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5 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4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3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6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403 59 3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BG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 10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89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52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403 59 9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EC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6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6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5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2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403 59 9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Други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3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5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3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5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BULGARIA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............KИТАЙ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45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4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14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6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ИHД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РУМЪH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СИРИЙСKА АРАБСKА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ТУРЦ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6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Arial"/>
              </a:rPr>
              <a:t>Обувки с предна лицева част съставена от каишки или изрязана на едно или повече места, чиято най-голяма височина на тока превишава 3 см</a:t>
            </a:r>
            <a:br>
              <a:rPr sz="2000"/>
            </a:br>
            <a:endParaRPr b="0" lang="en-US" sz="20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468360" y="907920"/>
          <a:ext cx="8435880" cy="1577880"/>
        </p:xfrm>
        <a:graphic>
          <a:graphicData uri="http://schemas.openxmlformats.org/drawingml/2006/table">
            <a:tbl>
              <a:tblPr/>
              <a:tblGrid>
                <a:gridCol w="3746520"/>
                <a:gridCol w="2367000"/>
                <a:gridCol w="2322360"/>
              </a:tblGrid>
              <a:tr h="368280"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ериод на действие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6.10.200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Размер на антидъмпинговото мито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84 - 250 E/T - Китай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1.3% - Япон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рилагани мита в ЕС - 200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8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рилагани мита в България - 200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,8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13" name=""/>
          <p:cNvGraphicFramePr/>
          <p:nvPr/>
        </p:nvGraphicFramePr>
        <p:xfrm>
          <a:off x="324000" y="2637000"/>
          <a:ext cx="8362440" cy="3562200"/>
        </p:xfrm>
        <a:graphic>
          <a:graphicData uri="http://schemas.openxmlformats.org/drawingml/2006/table">
            <a:tbl>
              <a:tblPr/>
              <a:tblGrid>
                <a:gridCol w="1098000"/>
                <a:gridCol w="2902320"/>
                <a:gridCol w="943560"/>
                <a:gridCol w="523080"/>
                <a:gridCol w="946800"/>
                <a:gridCol w="465840"/>
                <a:gridCol w="946800"/>
                <a:gridCol w="53604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5 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4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3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403 59 9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BG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 53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 10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 84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403 91 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EC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 93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 53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 38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Други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 59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5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 56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5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 46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BULGARIA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8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............KИТАЙ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86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25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3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ИHДОHЕЗ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РУМЪH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5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3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4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ВИЕТHАМ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3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............ЯПОH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87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Arial"/>
              </a:rPr>
              <a:t>Обувки с предна лицева част съставена от каишки или изрязана на едно или повече места, покриващи глезена но непокриващи пръсеца</a:t>
            </a:r>
            <a:endParaRPr b="0" lang="en-US" sz="20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468360" y="765000"/>
          <a:ext cx="8362800" cy="1577880"/>
        </p:xfrm>
        <a:graphic>
          <a:graphicData uri="http://schemas.openxmlformats.org/drawingml/2006/table">
            <a:tbl>
              <a:tblPr/>
              <a:tblGrid>
                <a:gridCol w="3713040"/>
                <a:gridCol w="4649760"/>
              </a:tblGrid>
              <a:tr h="36828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ериод на действие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1.10.200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Размер на антидъмпинговото мито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9.9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рилагани мита в ЕС - 200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5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рилагани мита в България - 200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,8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6" name=""/>
          <p:cNvGraphicFramePr/>
          <p:nvPr/>
        </p:nvGraphicFramePr>
        <p:xfrm>
          <a:off x="179280" y="2421000"/>
          <a:ext cx="8713440" cy="4247640"/>
        </p:xfrm>
        <a:graphic>
          <a:graphicData uri="http://schemas.openxmlformats.org/drawingml/2006/table">
            <a:tbl>
              <a:tblPr/>
              <a:tblGrid>
                <a:gridCol w="1144080"/>
                <a:gridCol w="3024720"/>
                <a:gridCol w="983160"/>
                <a:gridCol w="543960"/>
                <a:gridCol w="987840"/>
                <a:gridCol w="484920"/>
                <a:gridCol w="986760"/>
                <a:gridCol w="558000"/>
              </a:tblGrid>
              <a:tr h="326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5 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4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3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6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403 99 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BG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0 07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 59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 83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EC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 96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 25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 35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Други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7 10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7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 34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 47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7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............KИТАЙ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3 24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1 43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2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58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7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............ТАЙВАH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3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ХОHKОH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9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6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ИHДОHЕЗ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7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8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............МАЛАЙЗ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7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РУМЪH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7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ВИЕТHАМ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76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7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6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ТУРЦ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 87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 74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 45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5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Arial"/>
              </a:rPr>
              <a:t>Други обувки различни от обувките с предна лицева част съставена от каишки или изрязана на едно или повече места, покриващи глезена но непокриващи прасеца</a:t>
            </a:r>
            <a:br>
              <a:rPr sz="2000"/>
            </a:br>
            <a:endParaRPr b="0" lang="en-US" sz="20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250920" y="2708280"/>
          <a:ext cx="8569080" cy="3816000"/>
        </p:xfrm>
        <a:graphic>
          <a:graphicData uri="http://schemas.openxmlformats.org/drawingml/2006/table">
            <a:tbl>
              <a:tblPr/>
              <a:tblGrid>
                <a:gridCol w="1123920"/>
                <a:gridCol w="2975040"/>
                <a:gridCol w="970560"/>
                <a:gridCol w="532800"/>
                <a:gridCol w="968760"/>
                <a:gridCol w="481680"/>
                <a:gridCol w="967320"/>
                <a:gridCol w="549000"/>
              </a:tblGrid>
              <a:tr h="317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5 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4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3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8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405 10 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BG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9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5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EC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5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Други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9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8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8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BULGARIA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7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KИТАЙ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1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ВИЕТHАМ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ТУРЦ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8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МАKЕДОH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............САЩ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............РУСКА ФЕДЕРАЦ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250920" y="907920"/>
          <a:ext cx="8688240" cy="1577880"/>
        </p:xfrm>
        <a:graphic>
          <a:graphicData uri="http://schemas.openxmlformats.org/drawingml/2006/table">
            <a:tbl>
              <a:tblPr/>
              <a:tblGrid>
                <a:gridCol w="4005000"/>
                <a:gridCol w="2333160"/>
                <a:gridCol w="2350080"/>
              </a:tblGrid>
              <a:tr h="368280"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ериод на действие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8.08.201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Размер на антидъмпинговото мито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 - 11,5% - Рус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1,5 - 37,8% - САЩ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рилагани мита в ЕС - 200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,5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рилагани мита в България - 200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9,6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Arial"/>
              </a:rPr>
              <a:t>Тефлон</a:t>
            </a:r>
            <a:endParaRPr b="0" lang="en-US" sz="20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250920" y="2060640"/>
          <a:ext cx="8569080" cy="3995640"/>
        </p:xfrm>
        <a:graphic>
          <a:graphicData uri="http://schemas.openxmlformats.org/drawingml/2006/table">
            <a:tbl>
              <a:tblPr/>
              <a:tblGrid>
                <a:gridCol w="1124280"/>
                <a:gridCol w="2975400"/>
                <a:gridCol w="969120"/>
                <a:gridCol w="532800"/>
                <a:gridCol w="969120"/>
                <a:gridCol w="482040"/>
                <a:gridCol w="966240"/>
                <a:gridCol w="550080"/>
              </a:tblGrid>
              <a:tr h="391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5 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4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3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2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904 61 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BG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9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8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9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EC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5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7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8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Други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KИТАЙ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............РУСКА ФЕДЕРАЦ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ТУРЦ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САЩ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2" name=""/>
          <p:cNvGraphicFramePr/>
          <p:nvPr/>
        </p:nvGraphicFramePr>
        <p:xfrm>
          <a:off x="324000" y="260280"/>
          <a:ext cx="8362800" cy="1800000"/>
        </p:xfrm>
        <a:graphic>
          <a:graphicData uri="http://schemas.openxmlformats.org/drawingml/2006/table">
            <a:tbl>
              <a:tblPr/>
              <a:tblGrid>
                <a:gridCol w="5005080"/>
                <a:gridCol w="3357720"/>
              </a:tblGrid>
              <a:tr h="538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ериод на действие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9.12.201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Размер на антидъмпинговото мито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6.60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рилагани мита в ЕС - 200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,5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рилагани мита в България - 200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,5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87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Графитни електроди и четки, въглени лампи и батерии от видовете използвани за пещи</a:t>
            </a:r>
            <a:endParaRPr b="0" lang="en-US" sz="20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250920" y="2997360"/>
          <a:ext cx="8497440" cy="3406680"/>
        </p:xfrm>
        <a:graphic>
          <a:graphicData uri="http://schemas.openxmlformats.org/drawingml/2006/table">
            <a:tbl>
              <a:tblPr/>
              <a:tblGrid>
                <a:gridCol w="1114560"/>
                <a:gridCol w="2949120"/>
                <a:gridCol w="961920"/>
                <a:gridCol w="529920"/>
                <a:gridCol w="961920"/>
                <a:gridCol w="475560"/>
                <a:gridCol w="960480"/>
                <a:gridCol w="54396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5 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4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3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4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8545 11 00  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BG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7 15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7 50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 78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8545 90 90 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EC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 89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 41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8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 43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9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Други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 25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 08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4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KИТАЙ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 00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9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............ИHД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57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31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ЯПОH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9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2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3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РУМЪH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8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9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8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УKРАЙHА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9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4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9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5" name=""/>
          <p:cNvGraphicFramePr/>
          <p:nvPr/>
        </p:nvGraphicFramePr>
        <p:xfrm>
          <a:off x="468360" y="907920"/>
          <a:ext cx="8280000" cy="1860840"/>
        </p:xfrm>
        <a:graphic>
          <a:graphicData uri="http://schemas.openxmlformats.org/drawingml/2006/table">
            <a:tbl>
              <a:tblPr/>
              <a:tblGrid>
                <a:gridCol w="3847680"/>
                <a:gridCol w="4432320"/>
              </a:tblGrid>
              <a:tr h="36828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9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ериод на действие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9.09.200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Размер на антидъмпинговото мито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7 - 15,7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рилагани мита в ЕС - 200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,5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рилагани мита в България - 200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,7% и 8,2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Амониев нитрат и смеси на амониев нитрат</a:t>
            </a:r>
            <a:endParaRPr b="1" lang="en-US" sz="20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324000" y="692280"/>
          <a:ext cx="8410320" cy="1501560"/>
        </p:xfrm>
        <a:graphic>
          <a:graphicData uri="http://schemas.openxmlformats.org/drawingml/2006/table">
            <a:tbl>
              <a:tblPr/>
              <a:tblGrid>
                <a:gridCol w="4003560"/>
                <a:gridCol w="1950840"/>
                <a:gridCol w="2455920"/>
              </a:tblGrid>
              <a:tr h="273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ериод на действие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9.04.2007 - Рус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6.01.2006 - Украйна (SR)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Размер на антидъмпинговото мито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1,42 - 47,07 EUR/T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9,26 - 33,25 EUR/T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рилагани мита в ЕС - 200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,5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рилагани мита в България - 200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,5%  и  25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1" name=""/>
          <p:cNvGraphicFramePr/>
          <p:nvPr/>
        </p:nvGraphicFramePr>
        <p:xfrm>
          <a:off x="250920" y="2349360"/>
          <a:ext cx="8424720" cy="4032000"/>
        </p:xfrm>
        <a:graphic>
          <a:graphicData uri="http://schemas.openxmlformats.org/drawingml/2006/table">
            <a:tbl>
              <a:tblPr/>
              <a:tblGrid>
                <a:gridCol w="1146240"/>
                <a:gridCol w="2598480"/>
                <a:gridCol w="935280"/>
                <a:gridCol w="649080"/>
                <a:gridCol w="1008000"/>
                <a:gridCol w="576360"/>
                <a:gridCol w="934920"/>
                <a:gridCol w="576360"/>
              </a:tblGrid>
              <a:tr h="325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5 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4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3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5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102 30 90  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BG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 16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 18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 27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102 40 90 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EC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 24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5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7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Други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92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 71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8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 27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6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BULGARIA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ХЪРВАТСKО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6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РУМЪH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0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 20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 72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8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............РУСKА ФЕДЕРАЦ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6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ТУРЦ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9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6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............УKРАЙHА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28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13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9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ЕГИПЕТ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42800" y="259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Arial"/>
              </a:rPr>
              <a:t>Кари-високоповдигачи и части за тях</a:t>
            </a:r>
            <a:br>
              <a:rPr sz="2800"/>
            </a:br>
            <a:endParaRPr b="0" lang="en-US" sz="20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324000" y="2565360"/>
          <a:ext cx="8424360" cy="3722760"/>
        </p:xfrm>
        <a:graphic>
          <a:graphicData uri="http://schemas.openxmlformats.org/drawingml/2006/table">
            <a:tbl>
              <a:tblPr/>
              <a:tblGrid>
                <a:gridCol w="1105920"/>
                <a:gridCol w="2923560"/>
                <a:gridCol w="954720"/>
                <a:gridCol w="523440"/>
                <a:gridCol w="951120"/>
                <a:gridCol w="475200"/>
                <a:gridCol w="951120"/>
                <a:gridCol w="53928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5 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4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3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8427 90 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BG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5 09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 97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 32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8431 20 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EC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 27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8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 70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9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 90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8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Други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81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7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1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BULGARIA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8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9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............KИТАЙ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17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ТУРЦ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2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САЩ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ЮГОСЛАВ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8" name=""/>
          <p:cNvGraphicFramePr/>
          <p:nvPr/>
        </p:nvGraphicFramePr>
        <p:xfrm>
          <a:off x="395280" y="549360"/>
          <a:ext cx="8362800" cy="1784160"/>
        </p:xfrm>
        <a:graphic>
          <a:graphicData uri="http://schemas.openxmlformats.org/drawingml/2006/table">
            <a:tbl>
              <a:tblPr/>
              <a:tblGrid>
                <a:gridCol w="4829040"/>
                <a:gridCol w="3533760"/>
              </a:tblGrid>
              <a:tr h="535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ериод на действие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8.07.201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3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Размер на антидъмпинговото мито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7,6 - 46,7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3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рилагани мита в ЕС - 200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рилагани мита в България - 200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3,5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Arial"/>
              </a:rPr>
              <a:t>Флуоресцентни лампи, различни от тези с два катода</a:t>
            </a:r>
            <a:endParaRPr b="0" lang="en-US" sz="20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250920" y="2421000"/>
          <a:ext cx="8497440" cy="4103280"/>
        </p:xfrm>
        <a:graphic>
          <a:graphicData uri="http://schemas.openxmlformats.org/drawingml/2006/table">
            <a:tbl>
              <a:tblPr/>
              <a:tblGrid>
                <a:gridCol w="1116000"/>
                <a:gridCol w="2949120"/>
                <a:gridCol w="962280"/>
                <a:gridCol w="527760"/>
                <a:gridCol w="961200"/>
                <a:gridCol w="478080"/>
                <a:gridCol w="959400"/>
                <a:gridCol w="543600"/>
              </a:tblGrid>
              <a:tr h="342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5 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4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3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5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8539 31 90 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BG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 55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 38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 14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EC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 04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99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7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84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7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Други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51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9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5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............KИТАЙ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42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2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25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2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РЕПУБЛИKА KОРЕ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............ПАKИСТАH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............ФИЛИПИHИ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5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ТУРЦ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5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............ВИЕТНАМ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1" name=""/>
          <p:cNvGraphicFramePr/>
          <p:nvPr/>
        </p:nvGraphicFramePr>
        <p:xfrm>
          <a:off x="468360" y="620640"/>
          <a:ext cx="8291520" cy="1800000"/>
        </p:xfrm>
        <a:graphic>
          <a:graphicData uri="http://schemas.openxmlformats.org/drawingml/2006/table">
            <a:tbl>
              <a:tblPr/>
              <a:tblGrid>
                <a:gridCol w="4084560"/>
                <a:gridCol w="4206960"/>
              </a:tblGrid>
              <a:tr h="41616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5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ериод на действие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.07.200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6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Размер на антидъмпинговото мито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% - 66,1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рилагани мита в ЕС - 200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,7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рилагани мита в България - 200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3,2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Arial"/>
              </a:rPr>
              <a:t>Машинки за събиране на подвижни листа или за класьори от метал</a:t>
            </a:r>
            <a:endParaRPr b="0" lang="en-US" sz="20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250920" y="2349360"/>
          <a:ext cx="8353080" cy="4103640"/>
        </p:xfrm>
        <a:graphic>
          <a:graphicData uri="http://schemas.openxmlformats.org/drawingml/2006/table">
            <a:tbl>
              <a:tblPr/>
              <a:tblGrid>
                <a:gridCol w="1096920"/>
                <a:gridCol w="2899080"/>
                <a:gridCol w="945360"/>
                <a:gridCol w="519480"/>
                <a:gridCol w="945720"/>
                <a:gridCol w="468720"/>
                <a:gridCol w="942480"/>
                <a:gridCol w="535320"/>
              </a:tblGrid>
              <a:tr h="334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5 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4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3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2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8305 10 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BG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8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5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7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EC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8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5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1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Други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2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7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5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............KИТАЙ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8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4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5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3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2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ТАЙВАH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ХОHKОH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ЯПОH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............ВИЕТHАМ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............ИНДОНЕЗ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ТУРЦ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4" name=""/>
          <p:cNvGraphicFramePr/>
          <p:nvPr/>
        </p:nvGraphicFramePr>
        <p:xfrm>
          <a:off x="468360" y="549360"/>
          <a:ext cx="8074080" cy="1726920"/>
        </p:xfrm>
        <a:graphic>
          <a:graphicData uri="http://schemas.openxmlformats.org/drawingml/2006/table">
            <a:tbl>
              <a:tblPr/>
              <a:tblGrid>
                <a:gridCol w="5549760"/>
                <a:gridCol w="2524320"/>
              </a:tblGrid>
              <a:tr h="39924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1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ериод на действие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6.07.200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Размер на антидъмпинговото мито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3,3% и 48,1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рилагани мита в ЕС - 200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,7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рилагани мита в България - 200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9,7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42800" y="259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Arial"/>
              </a:rPr>
              <a:t>Газови джобни запалки за еднократна употреба и такива за многократна, но с различно запалване от електрическото</a:t>
            </a:r>
            <a:r>
              <a:rPr b="0" lang="en-US" sz="2000" spc="-1" strike="noStrike">
                <a:solidFill>
                  <a:srgbClr val="006666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468360" y="1125360"/>
          <a:ext cx="8291520" cy="1515960"/>
        </p:xfrm>
        <a:graphic>
          <a:graphicData uri="http://schemas.openxmlformats.org/drawingml/2006/table">
            <a:tbl>
              <a:tblPr/>
              <a:tblGrid>
                <a:gridCol w="3851280"/>
                <a:gridCol w="4440240"/>
              </a:tblGrid>
              <a:tr h="30708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ериод на действие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9.09.200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Размер на антидъмпинговото мито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,065 Eвро/бр.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рилагани мита в ЕС - 200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,7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рилагани мита в България - 200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,4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7" name=""/>
          <p:cNvGraphicFramePr/>
          <p:nvPr/>
        </p:nvGraphicFramePr>
        <p:xfrm>
          <a:off x="250920" y="2781360"/>
          <a:ext cx="8569080" cy="3670200"/>
        </p:xfrm>
        <a:graphic>
          <a:graphicData uri="http://schemas.openxmlformats.org/drawingml/2006/table">
            <a:tbl>
              <a:tblPr/>
              <a:tblGrid>
                <a:gridCol w="1123920"/>
                <a:gridCol w="2976480"/>
                <a:gridCol w="965160"/>
                <a:gridCol w="534960"/>
                <a:gridCol w="970200"/>
                <a:gridCol w="480960"/>
                <a:gridCol w="969840"/>
                <a:gridCol w="54756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5 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4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3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9613 10 00   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BG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 23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 41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 40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6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9613 10 00 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EC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3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7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3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6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9613 20 90  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Други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90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7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 13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8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 17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8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6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9613 20 90  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KАHАДА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6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............KИТАЙ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87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7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1 09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7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1 04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7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6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............ТАЙВАH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ЯПОH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6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МАЛАЙЗ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САЩ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42800" y="333000"/>
            <a:ext cx="82440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Arial"/>
              </a:rPr>
              <a:t>Магнезиев оксид, калциниран до пълно обезводняване</a:t>
            </a:r>
            <a:endParaRPr b="0" lang="en-US" sz="20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179280" y="2492280"/>
          <a:ext cx="8496360" cy="3834000"/>
        </p:xfrm>
        <a:graphic>
          <a:graphicData uri="http://schemas.openxmlformats.org/drawingml/2006/table">
            <a:tbl>
              <a:tblPr/>
              <a:tblGrid>
                <a:gridCol w="1116000"/>
                <a:gridCol w="2949840"/>
                <a:gridCol w="961920"/>
                <a:gridCol w="525600"/>
                <a:gridCol w="961920"/>
                <a:gridCol w="477720"/>
                <a:gridCol w="959040"/>
                <a:gridCol w="544320"/>
              </a:tblGrid>
              <a:tr h="387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5 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4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3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519 90 30 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BG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6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EC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Други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5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8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1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7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............KИТАЙ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2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РУСKА ФЕДЕРАЦ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7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ТУРЦ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7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САЩ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0" name=""/>
          <p:cNvGraphicFramePr/>
          <p:nvPr/>
        </p:nvGraphicFramePr>
        <p:xfrm>
          <a:off x="468360" y="620640"/>
          <a:ext cx="8147160" cy="1577880"/>
        </p:xfrm>
        <a:graphic>
          <a:graphicData uri="http://schemas.openxmlformats.org/drawingml/2006/table">
            <a:tbl>
              <a:tblPr/>
              <a:tblGrid>
                <a:gridCol w="3878280"/>
                <a:gridCol w="4268880"/>
              </a:tblGrid>
              <a:tr h="36828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ериод на действие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3.05.201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Размер на антидъмпинговото мито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-120 EUR/T и 63,3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рилагани мита в ЕС - 200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рилагани мита в България - 200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42800" y="333360"/>
            <a:ext cx="82440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Arial"/>
              </a:rPr>
              <a:t>Изделия от камъни или от други минерални материали, съдържащи матнезит, доломит или хромит</a:t>
            </a:r>
            <a:endParaRPr b="0" lang="en-US" sz="20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250920" y="2852640"/>
          <a:ext cx="8424720" cy="3238560"/>
        </p:xfrm>
        <a:graphic>
          <a:graphicData uri="http://schemas.openxmlformats.org/drawingml/2006/table">
            <a:tbl>
              <a:tblPr/>
              <a:tblGrid>
                <a:gridCol w="1116000"/>
                <a:gridCol w="2949480"/>
                <a:gridCol w="959040"/>
                <a:gridCol w="529920"/>
                <a:gridCol w="962280"/>
                <a:gridCol w="474480"/>
                <a:gridCol w="961920"/>
                <a:gridCol w="471600"/>
              </a:tblGrid>
              <a:tr h="345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5 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4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3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815 91 00 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BG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 46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2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3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815 99 1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EC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 44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9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1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9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1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9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Други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............KИТАЙ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ТАЙВАH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ЮГОСЛАВ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3" name=""/>
          <p:cNvGraphicFramePr/>
          <p:nvPr/>
        </p:nvGraphicFramePr>
        <p:xfrm>
          <a:off x="468360" y="836640"/>
          <a:ext cx="8136000" cy="1944720"/>
        </p:xfrm>
        <a:graphic>
          <a:graphicData uri="http://schemas.openxmlformats.org/drawingml/2006/table">
            <a:tbl>
              <a:tblPr/>
              <a:tblGrid>
                <a:gridCol w="4863240"/>
                <a:gridCol w="3272760"/>
              </a:tblGrid>
              <a:tr h="44928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4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ериод на действие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3.10.201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Размер на антидъмпинговото мито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Ценово споразумение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рилагани мита в ЕС - 200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рилагани мита в България - 200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9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Arial"/>
              </a:rPr>
              <a:t>Магнезиев оксид, различен от магнезиевия оксид, калциниран до пълно обезводняване</a:t>
            </a:r>
            <a:br>
              <a:rPr sz="2000"/>
            </a:br>
            <a:endParaRPr b="0" lang="en-US" sz="20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468360" y="907920"/>
          <a:ext cx="8291520" cy="1577880"/>
        </p:xfrm>
        <a:graphic>
          <a:graphicData uri="http://schemas.openxmlformats.org/drawingml/2006/table">
            <a:tbl>
              <a:tblPr/>
              <a:tblGrid>
                <a:gridCol w="4116240"/>
                <a:gridCol w="4175280"/>
              </a:tblGrid>
              <a:tr h="36828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ериод на действие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6.05.201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Размер на антидъмпинговото мито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-112 EUR/T и 27,1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рилагани мита в ЕС - 200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рилагани мита в България - 200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6" name=""/>
          <p:cNvGraphicFramePr/>
          <p:nvPr/>
        </p:nvGraphicFramePr>
        <p:xfrm>
          <a:off x="108000" y="2492280"/>
          <a:ext cx="8718480" cy="3528720"/>
        </p:xfrm>
        <a:graphic>
          <a:graphicData uri="http://schemas.openxmlformats.org/drawingml/2006/table">
            <a:tbl>
              <a:tblPr/>
              <a:tblGrid>
                <a:gridCol w="1144440"/>
                <a:gridCol w="3026520"/>
                <a:gridCol w="983160"/>
                <a:gridCol w="545400"/>
                <a:gridCol w="986400"/>
                <a:gridCol w="486360"/>
                <a:gridCol w="987840"/>
                <a:gridCol w="558360"/>
              </a:tblGrid>
              <a:tr h="358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5 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4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3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519 90 90 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BG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9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9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EC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Други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7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7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9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9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8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............KИТАЙ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6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ХОHKОH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ТУРЦ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5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5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УKРАЙHА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42800" y="549000"/>
            <a:ext cx="824400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Arial"/>
              </a:rPr>
              <a:t>Шперплат от червено меранти, бял лауан, сипо, лимба и др.</a:t>
            </a:r>
            <a:endParaRPr b="0" lang="en-US" sz="20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539640" y="620640"/>
          <a:ext cx="8147160" cy="1577880"/>
        </p:xfrm>
        <a:graphic>
          <a:graphicData uri="http://schemas.openxmlformats.org/drawingml/2006/table">
            <a:tbl>
              <a:tblPr/>
              <a:tblGrid>
                <a:gridCol w="4013280"/>
                <a:gridCol w="4133880"/>
              </a:tblGrid>
              <a:tr h="36828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ериод на действие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3.11.200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Размер на антидъмпинговото мито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,5 - 66,7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рилагани мита в ЕС - 200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0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рилагани мита в България - 200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1,5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9" name=""/>
          <p:cNvGraphicFramePr/>
          <p:nvPr/>
        </p:nvGraphicFramePr>
        <p:xfrm>
          <a:off x="250920" y="2205000"/>
          <a:ext cx="8353080" cy="4176360"/>
        </p:xfrm>
        <a:graphic>
          <a:graphicData uri="http://schemas.openxmlformats.org/drawingml/2006/table">
            <a:tbl>
              <a:tblPr/>
              <a:tblGrid>
                <a:gridCol w="1091520"/>
                <a:gridCol w="2882160"/>
                <a:gridCol w="942120"/>
                <a:gridCol w="543960"/>
                <a:gridCol w="940680"/>
                <a:gridCol w="466200"/>
                <a:gridCol w="942120"/>
                <a:gridCol w="544320"/>
              </a:tblGrid>
              <a:tr h="401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5 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4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3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1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3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412 13 10 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BG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EC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Други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5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............KИТАЙ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5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ИHДОHЕЗ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HОРВЕГ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ТУРЦ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Крезоли и техните соли</a:t>
            </a:r>
            <a:endParaRPr b="0" lang="en-US" sz="20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468360" y="981000"/>
          <a:ext cx="8136000" cy="1510920"/>
        </p:xfrm>
        <a:graphic>
          <a:graphicData uri="http://schemas.openxmlformats.org/drawingml/2006/table">
            <a:tbl>
              <a:tblPr/>
              <a:tblGrid>
                <a:gridCol w="4849920"/>
                <a:gridCol w="3286080"/>
              </a:tblGrid>
              <a:tr h="377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ериод на действие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1.09.200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Размер на антидъмпинговото мито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0,8 - 40,7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рилагани мита в ЕС - 200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,1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рилагани мита в България - 200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8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2" name=""/>
          <p:cNvGraphicFramePr/>
          <p:nvPr/>
        </p:nvGraphicFramePr>
        <p:xfrm>
          <a:off x="4648320" y="3284640"/>
          <a:ext cx="4038480" cy="181908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907 12 00 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3" name=""/>
          <p:cNvGraphicFramePr/>
          <p:nvPr/>
        </p:nvGraphicFramePr>
        <p:xfrm>
          <a:off x="250920" y="2781360"/>
          <a:ext cx="8893080" cy="3526920"/>
        </p:xfrm>
        <a:graphic>
          <a:graphicData uri="http://schemas.openxmlformats.org/drawingml/2006/table">
            <a:tbl>
              <a:tblPr/>
              <a:tblGrid>
                <a:gridCol w="1069920"/>
                <a:gridCol w="2603520"/>
                <a:gridCol w="1008000"/>
                <a:gridCol w="669960"/>
                <a:gridCol w="923760"/>
                <a:gridCol w="533520"/>
                <a:gridCol w="1041480"/>
                <a:gridCol w="574560"/>
                <a:gridCol w="468360"/>
              </a:tblGrid>
              <a:tr h="463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5 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4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3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59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907 12 00 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BG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72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EC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69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Други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59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............KИТАЙ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  <a:ea typeface="Arial"/>
              </a:rPr>
              <a:t>Различни тъкани от прежди от синтетични нишки</a:t>
            </a:r>
            <a:endParaRPr b="0" lang="en-US" sz="20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8360" y="692280"/>
          <a:ext cx="8435880" cy="1799640"/>
        </p:xfrm>
        <a:graphic>
          <a:graphicData uri="http://schemas.openxmlformats.org/drawingml/2006/table">
            <a:tbl>
              <a:tblPr/>
              <a:tblGrid>
                <a:gridCol w="4605480"/>
                <a:gridCol w="3830400"/>
              </a:tblGrid>
              <a:tr h="359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ериод на действие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7.09.201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9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Размер на антидъмпинговото мито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4,1 - 56,2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рилагани мита в ЕС - 200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8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рилагани мита в България - 200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6" name=""/>
          <p:cNvGraphicFramePr/>
          <p:nvPr/>
        </p:nvGraphicFramePr>
        <p:xfrm>
          <a:off x="250920" y="2349360"/>
          <a:ext cx="8424720" cy="4213440"/>
        </p:xfrm>
        <a:graphic>
          <a:graphicData uri="http://schemas.openxmlformats.org/drawingml/2006/table">
            <a:tbl>
              <a:tblPr/>
              <a:tblGrid>
                <a:gridCol w="1104840"/>
                <a:gridCol w="2925720"/>
                <a:gridCol w="949320"/>
                <a:gridCol w="527040"/>
                <a:gridCol w="954000"/>
                <a:gridCol w="468360"/>
                <a:gridCol w="955800"/>
                <a:gridCol w="539640"/>
              </a:tblGrid>
              <a:tr h="482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5 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4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3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8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5407 52 00 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BG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7 31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7 10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4 48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5407 54 00 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EC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7 29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5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8 77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8 85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5407 61 30 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Други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 01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8 33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5 63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5407 61 90 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............KИТАЙ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5 71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4 70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2 66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5407 69 9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ТАЙВАH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 08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 24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 34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ЯПОH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 61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5 05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5 38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K H Д Р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57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9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1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РЕПУБЛИKА KОРЕ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 87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 80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 76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ТАЙЛАHД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2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3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90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ТУРЦ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 73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 35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 83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88640"/>
            <a:ext cx="8244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Arial"/>
              </a:rPr>
              <a:t>Антибиотици (амоксицилин и ампицилини)</a:t>
            </a:r>
            <a:br>
              <a:rPr sz="2000"/>
            </a:br>
            <a:endParaRPr b="0" lang="en-US" sz="20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468360" y="404640"/>
          <a:ext cx="8218440" cy="1871640"/>
        </p:xfrm>
        <a:graphic>
          <a:graphicData uri="http://schemas.openxmlformats.org/drawingml/2006/table">
            <a:tbl>
              <a:tblPr/>
              <a:tblGrid>
                <a:gridCol w="5594400"/>
                <a:gridCol w="2624040"/>
              </a:tblGrid>
              <a:tr h="358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ериод на действие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4.05.201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Размер на антидъмпинговото мито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7,3 - 32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рилагани мита в ЕС - 200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рилагани мита в България - 200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,9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250920" y="2276640"/>
          <a:ext cx="8435520" cy="4031640"/>
        </p:xfrm>
        <a:graphic>
          <a:graphicData uri="http://schemas.openxmlformats.org/drawingml/2006/table">
            <a:tbl>
              <a:tblPr/>
              <a:tblGrid>
                <a:gridCol w="1128960"/>
                <a:gridCol w="2812680"/>
                <a:gridCol w="970920"/>
                <a:gridCol w="539640"/>
                <a:gridCol w="975960"/>
                <a:gridCol w="480600"/>
                <a:gridCol w="976320"/>
                <a:gridCol w="550440"/>
              </a:tblGrid>
              <a:tr h="322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5 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4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3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2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941 10 10   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BG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 81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 90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5 68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941 10 20  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EC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 36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7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 78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941 90 00 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Други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 44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5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 63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8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 90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АВСТРАЛ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BULGARIA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2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0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KИТАЙ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9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 34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7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 77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............ИHД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61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2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7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1 49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2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ИЗРАЕЛ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ЯПОH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Arial"/>
              </a:rPr>
              <a:t>Кабели от полиестери</a:t>
            </a:r>
            <a:br>
              <a:rPr sz="2000"/>
            </a:br>
            <a:endParaRPr b="0" lang="en-US" sz="20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468360" y="836640"/>
          <a:ext cx="8291520" cy="1515960"/>
        </p:xfrm>
        <a:graphic>
          <a:graphicData uri="http://schemas.openxmlformats.org/drawingml/2006/table">
            <a:tbl>
              <a:tblPr/>
              <a:tblGrid>
                <a:gridCol w="4795920"/>
                <a:gridCol w="349560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ериод на действие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2.10.200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Размер на антидъмпинговото мито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1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рилагани мита в ЕС - 200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рилагани мита в България - 200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5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9" name=""/>
          <p:cNvGraphicFramePr/>
          <p:nvPr/>
        </p:nvGraphicFramePr>
        <p:xfrm>
          <a:off x="250920" y="2492280"/>
          <a:ext cx="8893080" cy="3970080"/>
        </p:xfrm>
        <a:graphic>
          <a:graphicData uri="http://schemas.openxmlformats.org/drawingml/2006/table">
            <a:tbl>
              <a:tblPr/>
              <a:tblGrid>
                <a:gridCol w="1079280"/>
                <a:gridCol w="2863800"/>
                <a:gridCol w="933480"/>
                <a:gridCol w="513000"/>
                <a:gridCol w="933480"/>
                <a:gridCol w="463320"/>
                <a:gridCol w="933480"/>
                <a:gridCol w="540000"/>
                <a:gridCol w="633240"/>
              </a:tblGrid>
              <a:tr h="465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5 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4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3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3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3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5501 20 00 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BG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 81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 72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 36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3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EC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 69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9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 48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9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 36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3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Други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1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4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3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............БЕЛОРУС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4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3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ИHДОHЕЗ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3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ИЗРАЕЛ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3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РУМЪH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1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9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4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ТУРЦ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Arial"/>
              </a:rPr>
              <a:t>Необработени щапелни влакна от полиестери</a:t>
            </a:r>
            <a:br>
              <a:rPr sz="2000"/>
            </a:br>
            <a:endParaRPr b="0" lang="en-US" sz="20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395280" y="476280"/>
          <a:ext cx="8569440" cy="1728720"/>
        </p:xfrm>
        <a:graphic>
          <a:graphicData uri="http://schemas.openxmlformats.org/drawingml/2006/table">
            <a:tbl>
              <a:tblPr/>
              <a:tblGrid>
                <a:gridCol w="5011920"/>
                <a:gridCol w="355752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ериод на действие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       </a:t>
                      </a:r>
                      <a:r>
                        <a:rPr b="1" lang="bg-BG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2.10.2007 - Беларус                               18.03.2010 - Всички останали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Размер на антидъмпинговото мито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,9 - 49,7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рилагани мита в ЕС - 200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рилагани мита в България - 200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8,8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62" name=""/>
          <p:cNvGraphicFramePr/>
          <p:nvPr/>
        </p:nvGraphicFramePr>
        <p:xfrm>
          <a:off x="179280" y="2349360"/>
          <a:ext cx="9217080" cy="4070160"/>
        </p:xfrm>
        <a:graphic>
          <a:graphicData uri="http://schemas.openxmlformats.org/drawingml/2006/table">
            <a:tbl>
              <a:tblPr/>
              <a:tblGrid>
                <a:gridCol w="1122480"/>
                <a:gridCol w="2971800"/>
                <a:gridCol w="968400"/>
                <a:gridCol w="536400"/>
                <a:gridCol w="966960"/>
                <a:gridCol w="477720"/>
                <a:gridCol w="968400"/>
                <a:gridCol w="550800"/>
                <a:gridCol w="654120"/>
              </a:tblGrid>
              <a:tr h="38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5 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4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3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5503 20 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BG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8 55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 65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5 12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EC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 96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 05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 11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Други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 58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7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 60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 01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5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............БЕЛОРУС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24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15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............KИТАЙ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32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10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ТАЙВАH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 10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 50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51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............ИHДОHЕЗ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2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15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............РЕПУБЛИKА KОРЕ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1 41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1 56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1 36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2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............САУДИТСKА АРАБ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2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............ТАЙЛАHД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6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5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8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ТУРЦ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 60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 12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50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Arial"/>
              </a:rPr>
              <a:t>Прежди непригодени за продажба на дребно от полиестери</a:t>
            </a:r>
            <a:br>
              <a:rPr sz="2000"/>
            </a:br>
            <a:endParaRPr b="0" lang="en-US" sz="20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395280" y="692280"/>
          <a:ext cx="8497800" cy="1619280"/>
        </p:xfrm>
        <a:graphic>
          <a:graphicData uri="http://schemas.openxmlformats.org/drawingml/2006/table">
            <a:tbl>
              <a:tblPr/>
              <a:tblGrid>
                <a:gridCol w="4351320"/>
                <a:gridCol w="4146480"/>
              </a:tblGrid>
              <a:tr h="39096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ериод на действие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9.11.200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Размер на антидъмпинговото мито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 - 9,1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рилагани мита в ЕС - 200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рилагани мита в България - 200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8,9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65" name=""/>
          <p:cNvGraphicFramePr/>
          <p:nvPr/>
        </p:nvGraphicFramePr>
        <p:xfrm>
          <a:off x="179280" y="2492280"/>
          <a:ext cx="9145440" cy="3889080"/>
        </p:xfrm>
        <a:graphic>
          <a:graphicData uri="http://schemas.openxmlformats.org/drawingml/2006/table">
            <a:tbl>
              <a:tblPr/>
              <a:tblGrid>
                <a:gridCol w="1114200"/>
                <a:gridCol w="2949480"/>
                <a:gridCol w="958680"/>
                <a:gridCol w="531360"/>
                <a:gridCol w="960480"/>
                <a:gridCol w="474120"/>
                <a:gridCol w="958680"/>
                <a:gridCol w="547560"/>
                <a:gridCol w="650880"/>
              </a:tblGrid>
              <a:tr h="355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5 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4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3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5402 33 00 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BG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 90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 93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 67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EC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91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72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80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Други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 98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7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 21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8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 87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7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KИТАЙ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............ИHД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ИHДОHЕЗ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K H Д Р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ТУРЦ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 87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7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 06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8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 85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Arial"/>
                <a:ea typeface="Arial"/>
              </a:rPr>
              <a:t>Етилентерефталат с вискозитетен индекс 78 ml/g или повече</a:t>
            </a:r>
            <a:br>
              <a:rPr sz="1800"/>
            </a:br>
            <a:endParaRPr b="0" lang="en-US" sz="18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468360" y="765000"/>
          <a:ext cx="8280360" cy="1728720"/>
        </p:xfrm>
        <a:graphic>
          <a:graphicData uri="http://schemas.openxmlformats.org/drawingml/2006/table">
            <a:tbl>
              <a:tblPr/>
              <a:tblGrid>
                <a:gridCol w="4157640"/>
                <a:gridCol w="4122720"/>
              </a:tblGrid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ериод на действие</a:t>
                      </a: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       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        </a:t>
                      </a:r>
                      <a:r>
                        <a:rPr b="1" lang="bg-BG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9.10.2010 - Китай                                              (SR) - Всички останали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Размер на антидъмпинговото мито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88,9 - 223 EUR/T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рилагани мита в ЕС - 200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,5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рилагани мита в България - 200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9,1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66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6699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68" name=""/>
          <p:cNvGraphicFramePr/>
          <p:nvPr/>
        </p:nvGraphicFramePr>
        <p:xfrm>
          <a:off x="179280" y="2133720"/>
          <a:ext cx="8507520" cy="4589280"/>
        </p:xfrm>
        <a:graphic>
          <a:graphicData uri="http://schemas.openxmlformats.org/drawingml/2006/table">
            <a:tbl>
              <a:tblPr/>
              <a:tblGrid>
                <a:gridCol w="1116000"/>
                <a:gridCol w="2954520"/>
                <a:gridCol w="960480"/>
                <a:gridCol w="528480"/>
                <a:gridCol w="965160"/>
                <a:gridCol w="476280"/>
                <a:gridCol w="961920"/>
                <a:gridCol w="54468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5 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4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3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907 60 20 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BG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3 23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0 60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2 45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EC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3 13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9 76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 47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Други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0 10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7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 83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5 98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7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............KИТАЙ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11 57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2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13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............ТАЙВАH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3 81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1 75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3 39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............ИHД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3 09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4 17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24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............ИHДОHЕЗ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82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1 83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77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............РЕПУБЛИKА KОРЕ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7 56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9 81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8 83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3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............МАЛАЙЗ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73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61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38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ВИЕТHАМ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............ТАЙЛАHД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1 41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85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38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ТУРЦ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4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 35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 76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САЩ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5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5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440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Плочи, листа, фолио, ленти и пластини от етилентерефталат</a:t>
            </a:r>
            <a:endParaRPr b="0" lang="en-US" sz="20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468360" y="620640"/>
          <a:ext cx="8280360" cy="1643040"/>
        </p:xfrm>
        <a:graphic>
          <a:graphicData uri="http://schemas.openxmlformats.org/drawingml/2006/table">
            <a:tbl>
              <a:tblPr/>
              <a:tblGrid>
                <a:gridCol w="4152960"/>
                <a:gridCol w="4127400"/>
              </a:tblGrid>
              <a:tr h="41472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ериод на действие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4.08.200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Размер на антидъмпинговото мито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% - 62,6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рилагани мита в ЕС - 200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,5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рилагани мита в България - 200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9,6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1" name=""/>
          <p:cNvGraphicFramePr/>
          <p:nvPr/>
        </p:nvGraphicFramePr>
        <p:xfrm>
          <a:off x="250920" y="2276640"/>
          <a:ext cx="8569080" cy="4005000"/>
        </p:xfrm>
        <a:graphic>
          <a:graphicData uri="http://schemas.openxmlformats.org/drawingml/2006/table">
            <a:tbl>
              <a:tblPr/>
              <a:tblGrid>
                <a:gridCol w="1125360"/>
                <a:gridCol w="2973600"/>
                <a:gridCol w="966600"/>
                <a:gridCol w="536760"/>
                <a:gridCol w="969840"/>
                <a:gridCol w="477720"/>
                <a:gridCol w="970200"/>
                <a:gridCol w="54900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5 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4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3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920 62 19 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BG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81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86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6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EC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1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7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73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8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1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8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Други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9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3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............БРАЗИЛ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KИТАЙ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............ИНД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............ИЗРАЕЛ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............РЕПУБЛИKА KОРЕ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ТУРЦ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1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7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САЩ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10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Arial"/>
              </a:rPr>
              <a:t>Калиев хлорид и химични или минерални торове съдържащи азот, фосфор и калий</a:t>
            </a:r>
            <a:br>
              <a:rPr sz="2000"/>
            </a:br>
            <a:endParaRPr b="0" lang="en-US" sz="20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395280" y="1125360"/>
          <a:ext cx="8435880" cy="1355400"/>
        </p:xfrm>
        <a:graphic>
          <a:graphicData uri="http://schemas.openxmlformats.org/drawingml/2006/table">
            <a:tbl>
              <a:tblPr/>
              <a:tblGrid>
                <a:gridCol w="4230720"/>
                <a:gridCol w="4205160"/>
              </a:tblGrid>
              <a:tr h="339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ериод на действие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3.04.2006 (SR)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Размер на антидъмпинговото мито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9,51 - 48,19 EUR/T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рилагани мита в ЕС - 200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,2%, 6,5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рилагани мита в България - 200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%, 6,5%, 7.5% и 8,3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250920" y="2492280"/>
          <a:ext cx="8435880" cy="3960720"/>
        </p:xfrm>
        <a:graphic>
          <a:graphicData uri="http://schemas.openxmlformats.org/drawingml/2006/table">
            <a:tbl>
              <a:tblPr/>
              <a:tblGrid>
                <a:gridCol w="1108080"/>
                <a:gridCol w="2927160"/>
                <a:gridCol w="952560"/>
                <a:gridCol w="527040"/>
                <a:gridCol w="954000"/>
                <a:gridCol w="471600"/>
                <a:gridCol w="955800"/>
                <a:gridCol w="539640"/>
              </a:tblGrid>
              <a:tr h="344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5 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4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3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104 20 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BG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7 45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 67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 03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105 20 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EC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5 60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7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 17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 71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5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105 60 90 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Други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 84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 50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 32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105 90 91 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............БЕЛОРУС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41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16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2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105 90 99 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KАHАДА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ИЗРАЕЛ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8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9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2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РУМЪH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3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6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0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............РУСKА ФЕДЕРАЦ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88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92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САЩ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7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9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91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  <a:ea typeface="Arial"/>
              </a:rPr>
              <a:t>Активен въглен</a:t>
            </a:r>
            <a:br>
              <a:rPr sz="2000"/>
            </a:br>
            <a:endParaRPr b="0" lang="en-US" sz="20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468360" y="476280"/>
          <a:ext cx="8351640" cy="1872720"/>
        </p:xfrm>
        <a:graphic>
          <a:graphicData uri="http://schemas.openxmlformats.org/drawingml/2006/table">
            <a:tbl>
              <a:tblPr/>
              <a:tblGrid>
                <a:gridCol w="5040360"/>
                <a:gridCol w="3311280"/>
              </a:tblGrid>
              <a:tr h="374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ериод на действие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5.06.200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5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Размер на антидъмпинговото мито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23 EUR/T (net weight)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рилагани мита в ЕС - 200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,2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рилагани мита в България - 200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8,3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7" name=""/>
          <p:cNvGraphicFramePr/>
          <p:nvPr/>
        </p:nvGraphicFramePr>
        <p:xfrm>
          <a:off x="179280" y="2349360"/>
          <a:ext cx="8507520" cy="3908520"/>
        </p:xfrm>
        <a:graphic>
          <a:graphicData uri="http://schemas.openxmlformats.org/drawingml/2006/table">
            <a:tbl>
              <a:tblPr/>
              <a:tblGrid>
                <a:gridCol w="1243080"/>
                <a:gridCol w="2901960"/>
                <a:gridCol w="942840"/>
                <a:gridCol w="524160"/>
                <a:gridCol w="946080"/>
                <a:gridCol w="466560"/>
                <a:gridCol w="946440"/>
                <a:gridCol w="536400"/>
              </a:tblGrid>
              <a:tr h="328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5 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4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3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3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802 10 00 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BG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56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1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6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EC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2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6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5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3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Други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3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5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0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1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............KИТАЙ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3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3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ТАЙВАH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3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МАЛАЙЗ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3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РУМЪH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1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РУСKА ФЕДЕРАЦ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3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САЩ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7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4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5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7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Arial"/>
              </a:rPr>
              <a:t>Комбинации от хладилници и фризери, снабдени с отделни външни врати, различни от тези за домакински цели</a:t>
            </a:r>
            <a:endParaRPr b="0" lang="en-US" sz="20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250920" y="2133720"/>
          <a:ext cx="8291520" cy="4348080"/>
        </p:xfrm>
        <a:graphic>
          <a:graphicData uri="http://schemas.openxmlformats.org/drawingml/2006/table">
            <a:tbl>
              <a:tblPr/>
              <a:tblGrid>
                <a:gridCol w="1089000"/>
                <a:gridCol w="2878200"/>
                <a:gridCol w="938160"/>
                <a:gridCol w="514440"/>
                <a:gridCol w="939600"/>
                <a:gridCol w="465120"/>
                <a:gridCol w="934920"/>
                <a:gridCol w="532080"/>
              </a:tblGrid>
              <a:tr h="372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5 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4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3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8418 1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BG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9 81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9 06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7 21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EC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2 52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3 30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7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2 86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7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Други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7 29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5 75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 35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БРАЗИЛ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9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1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3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KИТАЙ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9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............РЕПУБЛИKА KОРЕ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4 12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3 7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2 62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РУМЪH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58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3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1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ТАЙЛАHД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2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8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8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ТУРЦ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 07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6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80" name=""/>
          <p:cNvGraphicFramePr/>
          <p:nvPr/>
        </p:nvGraphicFramePr>
        <p:xfrm>
          <a:off x="324000" y="620640"/>
          <a:ext cx="8291520" cy="1577880"/>
        </p:xfrm>
        <a:graphic>
          <a:graphicData uri="http://schemas.openxmlformats.org/drawingml/2006/table">
            <a:tbl>
              <a:tblPr/>
              <a:tblGrid>
                <a:gridCol w="6114960"/>
                <a:gridCol w="2176560"/>
              </a:tblGrid>
              <a:tr h="36828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ериод на действие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1.9.200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Размер на антидъмпинговото мито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,4% - 14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рилагани мита в ЕС - 200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,9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рилагани мита в България - 200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5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Arial"/>
              </a:rPr>
              <a:t>Пресни или охладени и замръзени пъстърви и сьомги</a:t>
            </a:r>
            <a:endParaRPr b="0" lang="en-US" sz="20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82" name=""/>
          <p:cNvGraphicFramePr/>
          <p:nvPr/>
        </p:nvGraphicFramePr>
        <p:xfrm>
          <a:off x="468360" y="620640"/>
          <a:ext cx="8075520" cy="2087280"/>
        </p:xfrm>
        <a:graphic>
          <a:graphicData uri="http://schemas.openxmlformats.org/drawingml/2006/table">
            <a:tbl>
              <a:tblPr/>
              <a:tblGrid>
                <a:gridCol w="4041720"/>
                <a:gridCol w="4033800"/>
              </a:tblGrid>
              <a:tr h="48276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1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ериод на действие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1.01.201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Размер на антидъмпинговото мито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Минимални цени + мита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рилагани мита в ЕС - 200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% и 12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рилагани мита в България - 200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5%, 10% и 12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83" name=""/>
          <p:cNvGraphicFramePr/>
          <p:nvPr/>
        </p:nvGraphicFramePr>
        <p:xfrm>
          <a:off x="324000" y="2637000"/>
          <a:ext cx="8362800" cy="3389040"/>
        </p:xfrm>
        <a:graphic>
          <a:graphicData uri="http://schemas.openxmlformats.org/drawingml/2006/table">
            <a:tbl>
              <a:tblPr/>
              <a:tblGrid>
                <a:gridCol w="1096920"/>
                <a:gridCol w="2903400"/>
                <a:gridCol w="942840"/>
                <a:gridCol w="524160"/>
                <a:gridCol w="946080"/>
                <a:gridCol w="468360"/>
                <a:gridCol w="944640"/>
                <a:gridCol w="536400"/>
              </a:tblGrid>
              <a:tr h="474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5 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4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3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302 1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BG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303 11 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EC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303 19 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Други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9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9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9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303 22 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ТУРЦ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9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9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9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304 10 1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............НОРВЕГ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304 20 1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44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Arial"/>
              </a:rPr>
              <a:t>Безшевни тръби и кухи профили от желязо или стомана</a:t>
            </a:r>
            <a:endParaRPr b="0" lang="en-US" sz="20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250920" y="2349360"/>
          <a:ext cx="8364600" cy="4103640"/>
        </p:xfrm>
        <a:graphic>
          <a:graphicData uri="http://schemas.openxmlformats.org/drawingml/2006/table">
            <a:tbl>
              <a:tblPr/>
              <a:tblGrid>
                <a:gridCol w="1098360"/>
                <a:gridCol w="2903760"/>
                <a:gridCol w="946080"/>
                <a:gridCol w="520560"/>
                <a:gridCol w="946080"/>
                <a:gridCol w="470160"/>
                <a:gridCol w="942840"/>
                <a:gridCol w="536760"/>
              </a:tblGrid>
              <a:tr h="506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5 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4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3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7304 10 10  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BG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0 01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9 12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2 43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7304 10 30 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EC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 22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5 14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 7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7304 31 99  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Други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3 78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7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3 98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7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9 73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7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7304 39 91 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............РУМЪH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1 47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61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21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7304 39 93 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............РУСKА ФЕДЕРАЦ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2 41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1 23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25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ТУРЦ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2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3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5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............УKРАЙHА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17 05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5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11 92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6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9 16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7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3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САЩ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 47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86" name=""/>
          <p:cNvGraphicFramePr/>
          <p:nvPr/>
        </p:nvGraphicFramePr>
        <p:xfrm>
          <a:off x="395280" y="620640"/>
          <a:ext cx="8218440" cy="1871280"/>
        </p:xfrm>
        <a:graphic>
          <a:graphicData uri="http://schemas.openxmlformats.org/drawingml/2006/table">
            <a:tbl>
              <a:tblPr/>
              <a:tblGrid>
                <a:gridCol w="4065480"/>
                <a:gridCol w="4152960"/>
              </a:tblGrid>
              <a:tr h="43272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9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ериод на действие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8.02.201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Размер на антидъмпинговото мито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9,8% - 38,2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9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рилагани мита в ЕС - 200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9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рилагани мита в България - 200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,5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42800" y="404640"/>
            <a:ext cx="82440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Arial"/>
              </a:rPr>
              <a:t>Бариев карбонат</a:t>
            </a:r>
            <a:br>
              <a:rPr sz="2000"/>
            </a:br>
            <a:endParaRPr b="0" lang="en-US" sz="20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457200" y="620640"/>
          <a:ext cx="8291160" cy="1728360"/>
        </p:xfrm>
        <a:graphic>
          <a:graphicData uri="http://schemas.openxmlformats.org/drawingml/2006/table">
            <a:tbl>
              <a:tblPr/>
              <a:tblGrid>
                <a:gridCol w="5420160"/>
                <a:gridCol w="2871000"/>
              </a:tblGrid>
              <a:tr h="257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ериод на действие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2.07.201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Размер на антидъмпинговото мито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,3 - 56,4 E/Т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рилагани мита в ЕС - 200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5,5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рилагани мита в България - 200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5,5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7" name=""/>
          <p:cNvGraphicFramePr/>
          <p:nvPr/>
        </p:nvGraphicFramePr>
        <p:xfrm>
          <a:off x="395280" y="2349360"/>
          <a:ext cx="8362800" cy="3625560"/>
        </p:xfrm>
        <a:graphic>
          <a:graphicData uri="http://schemas.openxmlformats.org/drawingml/2006/table">
            <a:tbl>
              <a:tblPr/>
              <a:tblGrid>
                <a:gridCol w="1120680"/>
                <a:gridCol w="2789280"/>
                <a:gridCol w="965160"/>
                <a:gridCol w="533520"/>
                <a:gridCol w="965160"/>
                <a:gridCol w="477720"/>
                <a:gridCol w="965160"/>
                <a:gridCol w="546120"/>
              </a:tblGrid>
              <a:tr h="459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5 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4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3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7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836 60 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BG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EC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Други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9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9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9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8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............KИТАЙ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2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2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2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8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РУСKА ФЕДЕРАЦ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7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7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7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42800" y="260280"/>
            <a:ext cx="82440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Arial"/>
              </a:rPr>
              <a:t>Силиций</a:t>
            </a:r>
            <a:endParaRPr b="0" lang="en-US" sz="20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250920" y="2565360"/>
          <a:ext cx="8424360" cy="3887640"/>
        </p:xfrm>
        <a:graphic>
          <a:graphicData uri="http://schemas.openxmlformats.org/drawingml/2006/table">
            <a:tbl>
              <a:tblPr/>
              <a:tblGrid>
                <a:gridCol w="1088640"/>
                <a:gridCol w="2879280"/>
                <a:gridCol w="939960"/>
                <a:gridCol w="546120"/>
                <a:gridCol w="940320"/>
                <a:gridCol w="542880"/>
                <a:gridCol w="941040"/>
                <a:gridCol w="546120"/>
              </a:tblGrid>
              <a:tr h="388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5 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4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3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6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804 69 00 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BG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7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76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2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EC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Други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7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76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2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............KИТАЙ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67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75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9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22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HОРВЕГ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ТУРЦ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............РУСКА ФЕДЕРАЦ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89" name=""/>
          <p:cNvGraphicFramePr/>
          <p:nvPr/>
        </p:nvGraphicFramePr>
        <p:xfrm>
          <a:off x="468360" y="476280"/>
          <a:ext cx="8280000" cy="1998720"/>
        </p:xfrm>
        <a:graphic>
          <a:graphicData uri="http://schemas.openxmlformats.org/drawingml/2006/table">
            <a:tbl>
              <a:tblPr/>
              <a:tblGrid>
                <a:gridCol w="4953600"/>
                <a:gridCol w="332640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ериод на действие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       </a:t>
                      </a:r>
                      <a:r>
                        <a:rPr b="1" lang="bg-BG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5.03.2009 - Китай                                     25.12.2008 - Рус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Размер на антидъмпинговото мито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       </a:t>
                      </a:r>
                      <a:r>
                        <a:rPr b="1" lang="bg-BG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9% - Китай                                                          22,7% - 23,6% Рус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рилагани мита в ЕС - 200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5,5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рилагани мита в България - 200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,3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4400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Arial"/>
              </a:rPr>
              <a:t>Силициеви карбиди</a:t>
            </a:r>
            <a:endParaRPr b="0" lang="en-US" sz="20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395280" y="476280"/>
          <a:ext cx="8208720" cy="1730520"/>
        </p:xfrm>
        <a:graphic>
          <a:graphicData uri="http://schemas.openxmlformats.org/drawingml/2006/table">
            <a:tbl>
              <a:tblPr/>
              <a:tblGrid>
                <a:gridCol w="5172480"/>
                <a:gridCol w="303624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ериод на действие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(SR)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Размер на антидъмпинговото мито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3,3% - 52,6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рилагани мита в ЕС - 200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5,5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рилагани мита в България - 200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8,9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92" name=""/>
          <p:cNvGraphicFramePr/>
          <p:nvPr/>
        </p:nvGraphicFramePr>
        <p:xfrm>
          <a:off x="324000" y="2276640"/>
          <a:ext cx="8289720" cy="4104720"/>
        </p:xfrm>
        <a:graphic>
          <a:graphicData uri="http://schemas.openxmlformats.org/drawingml/2006/table">
            <a:tbl>
              <a:tblPr/>
              <a:tblGrid>
                <a:gridCol w="1089000"/>
                <a:gridCol w="2877840"/>
                <a:gridCol w="933480"/>
                <a:gridCol w="517680"/>
                <a:gridCol w="939960"/>
                <a:gridCol w="461880"/>
                <a:gridCol w="938160"/>
                <a:gridCol w="531720"/>
              </a:tblGrid>
              <a:tr h="375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5 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4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3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849 20 00 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BG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5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6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EC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8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7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5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Други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6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8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7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1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............KИТАЙ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3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6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2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HОРВЕГ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РУМЪH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............РУСKА ФЕДЕРАЦ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............УKРАЙHА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9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3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6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6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3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Arial"/>
              </a:rPr>
              <a:t>Винтове, болтове, гайки, куки с резба, нитове, щивтове, шайби и др. подобни артикули от неръждаема стомана</a:t>
            </a:r>
            <a:endParaRPr b="0" lang="en-US" sz="20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250920" y="620640"/>
          <a:ext cx="8686800" cy="1577880"/>
        </p:xfrm>
        <a:graphic>
          <a:graphicData uri="http://schemas.openxmlformats.org/drawingml/2006/table">
            <a:tbl>
              <a:tblPr/>
              <a:tblGrid>
                <a:gridCol w="4476600"/>
                <a:gridCol w="4210200"/>
              </a:tblGrid>
              <a:tr h="36828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ериод на действие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.11.201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Размер на антидъмпинговото мито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7,7% - 27,4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рилагани мита в ЕС - 200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,7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рилагани мита в България - 200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2,2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95" name=""/>
          <p:cNvGraphicFramePr/>
          <p:nvPr/>
        </p:nvGraphicFramePr>
        <p:xfrm>
          <a:off x="250920" y="2276640"/>
          <a:ext cx="8435880" cy="4247640"/>
        </p:xfrm>
        <a:graphic>
          <a:graphicData uri="http://schemas.openxmlformats.org/drawingml/2006/table">
            <a:tbl>
              <a:tblPr/>
              <a:tblGrid>
                <a:gridCol w="1081080"/>
                <a:gridCol w="2954160"/>
                <a:gridCol w="952560"/>
                <a:gridCol w="525600"/>
                <a:gridCol w="955440"/>
                <a:gridCol w="471600"/>
                <a:gridCol w="955800"/>
                <a:gridCol w="539640"/>
              </a:tblGrid>
              <a:tr h="326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5 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4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3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6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7318 12 10 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BG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 11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 40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 07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7318 14 10 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EC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 27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 04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7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82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7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7318 15 30 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Други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84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5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4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7318 15 51 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............KИТАЙ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13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7318 15 61 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............ТАЙВАH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23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11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10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............ИHДОHЕЗ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............ВИЕТHАМ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............ТАЙЛАHД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ОАЕ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8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7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ТУРЦ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7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САЩ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1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Arial"/>
              </a:rPr>
              <a:t>Многожични кабели, без покритие или само поцинковани, превишаващи 3 мм</a:t>
            </a:r>
            <a:endParaRPr b="0" lang="en-US" sz="20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468360" y="692280"/>
          <a:ext cx="8362800" cy="1790640"/>
        </p:xfrm>
        <a:graphic>
          <a:graphicData uri="http://schemas.openxmlformats.org/drawingml/2006/table">
            <a:tbl>
              <a:tblPr/>
              <a:tblGrid>
                <a:gridCol w="4973760"/>
                <a:gridCol w="3389040"/>
              </a:tblGrid>
              <a:tr h="36828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ериод на действие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5.08.2006 - Русия и Турция                    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7.11.2010 - Всички останали                  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Размер на антидъмпинговото мито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7,8% - 60,4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рилагани мита в ЕС - 200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рилагани мита в България - 200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1,7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98" name=""/>
          <p:cNvGraphicFramePr/>
          <p:nvPr/>
        </p:nvGraphicFramePr>
        <p:xfrm>
          <a:off x="250920" y="2565360"/>
          <a:ext cx="8435880" cy="4060800"/>
        </p:xfrm>
        <a:graphic>
          <a:graphicData uri="http://schemas.openxmlformats.org/drawingml/2006/table">
            <a:tbl>
              <a:tblPr/>
              <a:tblGrid>
                <a:gridCol w="1108080"/>
                <a:gridCol w="2927160"/>
                <a:gridCol w="952560"/>
                <a:gridCol w="527040"/>
                <a:gridCol w="954000"/>
                <a:gridCol w="471600"/>
                <a:gridCol w="955800"/>
                <a:gridCol w="53964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5 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4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3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7312 10 8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BG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 58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 03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88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7312 10 83 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EC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7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9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4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7312 10 85       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Други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 31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8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84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8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3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7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7312 10 89       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АВСТРАЛ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7312 10 9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БЕЛОРУС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............ИНД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............МАРОKО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............РУСKА ФЕДЕРАЦ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1 25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8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78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7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46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5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............ТУРЦ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............УKРАЙHА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16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Arial"/>
              </a:rPr>
              <a:t>Халогено-, сулфо-, нитро-, нитрозопроизводни и техните соли</a:t>
            </a:r>
            <a:endParaRPr b="0" lang="en-US" sz="20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468360" y="549360"/>
          <a:ext cx="8435880" cy="1871280"/>
        </p:xfrm>
        <a:graphic>
          <a:graphicData uri="http://schemas.openxmlformats.org/drawingml/2006/table">
            <a:tbl>
              <a:tblPr/>
              <a:tblGrid>
                <a:gridCol w="4491000"/>
                <a:gridCol w="3944880"/>
              </a:tblGrid>
              <a:tr h="43056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7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ериод на действие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6.07.200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8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Размер на антидъмпинговото мито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7,1% - 34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8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рилагани мита в ЕС - 200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,5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рилагани мита в България - 200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,5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01" name=""/>
          <p:cNvGraphicFramePr/>
          <p:nvPr/>
        </p:nvGraphicFramePr>
        <p:xfrm>
          <a:off x="179280" y="2492280"/>
          <a:ext cx="8507160" cy="3651480"/>
        </p:xfrm>
        <a:graphic>
          <a:graphicData uri="http://schemas.openxmlformats.org/drawingml/2006/table">
            <a:tbl>
              <a:tblPr/>
              <a:tblGrid>
                <a:gridCol w="1117080"/>
                <a:gridCol w="2952360"/>
                <a:gridCol w="959040"/>
                <a:gridCol w="533160"/>
                <a:gridCol w="962640"/>
                <a:gridCol w="474480"/>
                <a:gridCol w="963000"/>
                <a:gridCol w="545400"/>
              </a:tblGrid>
              <a:tr h="360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5 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4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3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5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921 42 10 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BG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8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EC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8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9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Други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9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............KИТАЙ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............ИHД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САЩ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9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Arial"/>
              </a:rPr>
              <a:t>Канапи, промазани от полиетилен или полипропилен и от други синтетични влакна</a:t>
            </a:r>
            <a:endParaRPr b="0" lang="en-US" sz="20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395280" y="620640"/>
          <a:ext cx="8280360" cy="1577880"/>
        </p:xfrm>
        <a:graphic>
          <a:graphicData uri="http://schemas.openxmlformats.org/drawingml/2006/table">
            <a:tbl>
              <a:tblPr/>
              <a:tblGrid>
                <a:gridCol w="4611600"/>
                <a:gridCol w="3668760"/>
              </a:tblGrid>
              <a:tr h="36828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ериод на действие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9.10.200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Размер на антидъмпинговото мито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53,0% - 82,0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рилагани мита в ЕС - 200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8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рилагани мита в България - 200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7,3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04" name=""/>
          <p:cNvGraphicFramePr/>
          <p:nvPr/>
        </p:nvGraphicFramePr>
        <p:xfrm>
          <a:off x="395280" y="2421000"/>
          <a:ext cx="8280360" cy="4101840"/>
        </p:xfrm>
        <a:graphic>
          <a:graphicData uri="http://schemas.openxmlformats.org/drawingml/2006/table">
            <a:tbl>
              <a:tblPr/>
              <a:tblGrid>
                <a:gridCol w="1087200"/>
                <a:gridCol w="2874960"/>
                <a:gridCol w="932040"/>
                <a:gridCol w="517320"/>
                <a:gridCol w="938520"/>
                <a:gridCol w="461880"/>
                <a:gridCol w="937080"/>
                <a:gridCol w="531360"/>
              </a:tblGrid>
              <a:tr h="34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5 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4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3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5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5607 49 11 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BG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8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56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5607 49 19 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EC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58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8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52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9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6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8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5607 50 11 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Други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5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5607 50 19 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KИТАЙ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ТАЙВАH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............ИHД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РУМЪH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ТУРЦ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5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САЩ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Arial"/>
              </a:rPr>
              <a:t>Винена киселина</a:t>
            </a:r>
            <a:endParaRPr b="0" lang="en-US" sz="20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468360" y="476280"/>
          <a:ext cx="8291520" cy="1873080"/>
        </p:xfrm>
        <a:graphic>
          <a:graphicData uri="http://schemas.openxmlformats.org/drawingml/2006/table">
            <a:tbl>
              <a:tblPr/>
              <a:tblGrid>
                <a:gridCol w="5935680"/>
                <a:gridCol w="2355840"/>
              </a:tblGrid>
              <a:tr h="317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ериод на действие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8.01.201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91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Размер на антидъмпинговото мито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 - 34,9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рилагани мита в ЕС - 200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,5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рилагани мита в България - 200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,5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07" name=""/>
          <p:cNvGraphicFramePr/>
          <p:nvPr/>
        </p:nvGraphicFramePr>
        <p:xfrm>
          <a:off x="250920" y="2133720"/>
          <a:ext cx="8508600" cy="4122720"/>
        </p:xfrm>
        <a:graphic>
          <a:graphicData uri="http://schemas.openxmlformats.org/drawingml/2006/table">
            <a:tbl>
              <a:tblPr/>
              <a:tblGrid>
                <a:gridCol w="1117080"/>
                <a:gridCol w="2954160"/>
                <a:gridCol w="958320"/>
                <a:gridCol w="531720"/>
                <a:gridCol w="963720"/>
                <a:gridCol w="474840"/>
                <a:gridCol w="963360"/>
                <a:gridCol w="545400"/>
              </a:tblGrid>
              <a:tr h="636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5 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4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3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4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918 12 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BG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7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2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7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EC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6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7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3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7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3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8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7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Други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1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9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............KИТАЙ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11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8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2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3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4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ИHД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Arial"/>
              </a:rPr>
              <a:t>Телевизионни камери, цветни видеомонитори и определени части за тях</a:t>
            </a:r>
            <a:endParaRPr b="0" lang="en-US" sz="20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309" name=""/>
          <p:cNvGraphicFramePr/>
          <p:nvPr/>
        </p:nvGraphicFramePr>
        <p:xfrm>
          <a:off x="395280" y="549360"/>
          <a:ext cx="8291520" cy="1577880"/>
        </p:xfrm>
        <a:graphic>
          <a:graphicData uri="http://schemas.openxmlformats.org/drawingml/2006/table">
            <a:tbl>
              <a:tblPr/>
              <a:tblGrid>
                <a:gridCol w="4616280"/>
                <a:gridCol w="3675240"/>
              </a:tblGrid>
              <a:tr h="36828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ериод на действие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(SR)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Размер на антидъмпинговото мито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52,7% - 200,3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рилагани мита в ЕС - 200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,1%; 3,7%; 5% и 14% 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рилагани мита в България - 200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5%; 6,1% и 14,8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0" name=""/>
          <p:cNvGraphicFramePr/>
          <p:nvPr/>
        </p:nvGraphicFramePr>
        <p:xfrm>
          <a:off x="324000" y="2205000"/>
          <a:ext cx="8424360" cy="4366800"/>
        </p:xfrm>
        <a:graphic>
          <a:graphicData uri="http://schemas.openxmlformats.org/drawingml/2006/table">
            <a:tbl>
              <a:tblPr/>
              <a:tblGrid>
                <a:gridCol w="1105560"/>
                <a:gridCol w="2924280"/>
                <a:gridCol w="950760"/>
                <a:gridCol w="525960"/>
                <a:gridCol w="953640"/>
                <a:gridCol w="471600"/>
                <a:gridCol w="953640"/>
                <a:gridCol w="538920"/>
              </a:tblGrid>
              <a:tr h="319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5 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4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3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2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8525 30 90  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BG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8 7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4 17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8 05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8528 21 14 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EC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0 93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5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8 23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5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4 51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8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8528 21 16 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Други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7 76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5 93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 53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8528 21 90 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KАHАДА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0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5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8529 90 81 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KИТАЙ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 16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 57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8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8529 90 88 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ТАЙВАH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 27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59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5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8537 10 91 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............ЯПОH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1 63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1 19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82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8543 89 95 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РЕПУБЛИKА KОРЕ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1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3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6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ТУРЦ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5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8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2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САЩ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 00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81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59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Arial"/>
              </a:rPr>
              <a:t>Цветни телевизионни апарати</a:t>
            </a:r>
            <a:endParaRPr b="0" lang="en-US" sz="20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395280" y="476280"/>
          <a:ext cx="8291520" cy="1872720"/>
        </p:xfrm>
        <a:graphic>
          <a:graphicData uri="http://schemas.openxmlformats.org/drawingml/2006/table">
            <a:tbl>
              <a:tblPr/>
              <a:tblGrid>
                <a:gridCol w="5246640"/>
                <a:gridCol w="3044880"/>
              </a:tblGrid>
              <a:tr h="559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ериод на действие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0.08.200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Размер на антидъмпинговото мито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 - 25,1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7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рилагани мита в ЕС - 200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4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рилагани мита в България - 200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8,5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3" name=""/>
          <p:cNvGraphicFramePr/>
          <p:nvPr/>
        </p:nvGraphicFramePr>
        <p:xfrm>
          <a:off x="250920" y="2276640"/>
          <a:ext cx="8508960" cy="4176360"/>
        </p:xfrm>
        <a:graphic>
          <a:graphicData uri="http://schemas.openxmlformats.org/drawingml/2006/table">
            <a:tbl>
              <a:tblPr/>
              <a:tblGrid>
                <a:gridCol w="1117440"/>
                <a:gridCol w="2952720"/>
                <a:gridCol w="960480"/>
                <a:gridCol w="531720"/>
                <a:gridCol w="963720"/>
                <a:gridCol w="474840"/>
                <a:gridCol w="963360"/>
                <a:gridCol w="544680"/>
              </a:tblGrid>
              <a:tr h="407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5 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4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3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4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8528 12 52 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BG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7 26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54 75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50 30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8528 12 54  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EC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4 27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5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2 49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5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0 08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8528 12 56 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Други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2 98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2 26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 22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8528 12 58 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............KИТАЙ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2 88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4 27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84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8528 12 62 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ИHДОHЕЗ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5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8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4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8528 12 62  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............РЕПУБЛИKА KОРЕ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3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11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6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8528 12 66 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............МАЛАЙЗ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............ТАЙЛАHД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6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ТУРЦ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9 66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7 49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8 77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Arial"/>
              </a:rPr>
              <a:t>Дезинфекциозни средства на основата на халогенирани съединения</a:t>
            </a:r>
            <a:endParaRPr b="0" lang="en-US" sz="20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539640" y="836640"/>
          <a:ext cx="8064360" cy="1577880"/>
        </p:xfrm>
        <a:graphic>
          <a:graphicData uri="http://schemas.openxmlformats.org/drawingml/2006/table">
            <a:tbl>
              <a:tblPr/>
              <a:tblGrid>
                <a:gridCol w="4333680"/>
                <a:gridCol w="3730680"/>
              </a:tblGrid>
              <a:tr h="36828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ериод на действие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8.10.201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Размер на антидъмпинговото мито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7,4% - 42,6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рилагани мита в ЕС - 200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,5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рилагани мита в България - 200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,5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6" name=""/>
          <p:cNvGraphicFramePr/>
          <p:nvPr/>
        </p:nvGraphicFramePr>
        <p:xfrm>
          <a:off x="395280" y="2349360"/>
          <a:ext cx="8291520" cy="4174920"/>
        </p:xfrm>
        <a:graphic>
          <a:graphicData uri="http://schemas.openxmlformats.org/drawingml/2006/table">
            <a:tbl>
              <a:tblPr/>
              <a:tblGrid>
                <a:gridCol w="1089000"/>
                <a:gridCol w="2878200"/>
                <a:gridCol w="934920"/>
                <a:gridCol w="517680"/>
                <a:gridCol w="939600"/>
                <a:gridCol w="462240"/>
                <a:gridCol w="938160"/>
                <a:gridCol w="531720"/>
              </a:tblGrid>
              <a:tr h="544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5 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4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3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1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933 69 80 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BG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50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5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59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808 40 2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EC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3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53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8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52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8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7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Други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7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2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7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............KИТАЙ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12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9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7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ХЪРВАТСKО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ТУРЦ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7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............САЩ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02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Arial"/>
              </a:rPr>
              <a:t>Спално бельо, покривки и кърпи за маса, за тоалет или за кухня от памук</a:t>
            </a:r>
            <a:br>
              <a:rPr sz="2000"/>
            </a:br>
            <a:endParaRPr b="0" lang="en-US" sz="20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57200" y="620640"/>
          <a:ext cx="8362800" cy="1871280"/>
        </p:xfrm>
        <a:graphic>
          <a:graphicData uri="http://schemas.openxmlformats.org/drawingml/2006/table">
            <a:tbl>
              <a:tblPr/>
              <a:tblGrid>
                <a:gridCol w="3639960"/>
                <a:gridCol w="2332080"/>
                <a:gridCol w="2390760"/>
              </a:tblGrid>
              <a:tr h="374040"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4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ериод на действие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5.03.200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Размер на антидъмпинговото мито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,4 - 10,4% - Инд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3,1% - Пакистан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рилагани мита в ЕС - 200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2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4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рилагани мита в България - 200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8% и 21,8% 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324000" y="2421000"/>
          <a:ext cx="8424720" cy="4103280"/>
        </p:xfrm>
        <a:graphic>
          <a:graphicData uri="http://schemas.openxmlformats.org/drawingml/2006/table">
            <a:tbl>
              <a:tblPr/>
              <a:tblGrid>
                <a:gridCol w="1128600"/>
                <a:gridCol w="2806560"/>
                <a:gridCol w="973080"/>
                <a:gridCol w="535320"/>
                <a:gridCol w="974520"/>
                <a:gridCol w="482760"/>
                <a:gridCol w="974520"/>
                <a:gridCol w="549360"/>
              </a:tblGrid>
              <a:tr h="402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5 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4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3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302 21 00  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BG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73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7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7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302 22 90  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EC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1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5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3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302 31 00  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Други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1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5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7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4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302 32 90 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KИТАЙ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............ИHД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4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7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............ПАKИСТАH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РУМЪH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2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ТУРЦ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8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7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6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Принадлежности за тръбопроводи (съединителни елементи за челно заваряване)</a:t>
            </a:r>
            <a:endParaRPr b="0" lang="en-US" sz="20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318" name=""/>
          <p:cNvGraphicFramePr/>
          <p:nvPr/>
        </p:nvGraphicFramePr>
        <p:xfrm>
          <a:off x="395280" y="692280"/>
          <a:ext cx="8291520" cy="1577880"/>
        </p:xfrm>
        <a:graphic>
          <a:graphicData uri="http://schemas.openxmlformats.org/drawingml/2006/table">
            <a:tbl>
              <a:tblPr/>
              <a:tblGrid>
                <a:gridCol w="4883040"/>
                <a:gridCol w="3408480"/>
              </a:tblGrid>
              <a:tr h="36828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ериод на действие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7.06.200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Размер на антидъмпинговото мито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3,3%  - 75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рилагани мита в ЕС - 200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,7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рилагани мита в България - 200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2,2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9" name=""/>
          <p:cNvGraphicFramePr/>
          <p:nvPr/>
        </p:nvGraphicFramePr>
        <p:xfrm>
          <a:off x="250920" y="2276640"/>
          <a:ext cx="8506800" cy="4343400"/>
        </p:xfrm>
        <a:graphic>
          <a:graphicData uri="http://schemas.openxmlformats.org/drawingml/2006/table">
            <a:tbl>
              <a:tblPr/>
              <a:tblGrid>
                <a:gridCol w="1117080"/>
                <a:gridCol w="2952360"/>
                <a:gridCol w="959760"/>
                <a:gridCol w="532080"/>
                <a:gridCol w="963000"/>
                <a:gridCol w="474120"/>
                <a:gridCol w="963000"/>
                <a:gridCol w="54540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5 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4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3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6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7307 93 11 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BG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 81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 50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 95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7307 93 19 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EC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 22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7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 13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9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 67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8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7307 99 30 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Други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59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7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8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7307 99 90 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KИТАЙ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2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............ТАЙВАH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............ИHДОHЕЗ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............ФИЛИПИHИ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............РУСKА ФЕДЕРАЦ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5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19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6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............ТАЙЛАHД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ТУРЦ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5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5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УKРАЙHА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7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7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9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Arial"/>
              </a:rPr>
              <a:t>Волфрамови карбиди</a:t>
            </a:r>
            <a:endParaRPr b="0" lang="en-US" sz="20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395280" y="260280"/>
          <a:ext cx="8218440" cy="2160360"/>
        </p:xfrm>
        <a:graphic>
          <a:graphicData uri="http://schemas.openxmlformats.org/drawingml/2006/table">
            <a:tbl>
              <a:tblPr/>
              <a:tblGrid>
                <a:gridCol w="5237280"/>
                <a:gridCol w="2981160"/>
              </a:tblGrid>
              <a:tr h="646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ериод на действие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1.01.201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Размер на антидъмпинговото мито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3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рилагани мита в ЕС - 200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5,5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рилагани мита в България - 200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8,9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22" name=""/>
          <p:cNvGraphicFramePr/>
          <p:nvPr/>
        </p:nvGraphicFramePr>
        <p:xfrm>
          <a:off x="250920" y="2349360"/>
          <a:ext cx="8435880" cy="3926160"/>
        </p:xfrm>
        <a:graphic>
          <a:graphicData uri="http://schemas.openxmlformats.org/drawingml/2006/table">
            <a:tbl>
              <a:tblPr/>
              <a:tblGrid>
                <a:gridCol w="1104840"/>
                <a:gridCol w="2913120"/>
                <a:gridCol w="952560"/>
                <a:gridCol w="554040"/>
                <a:gridCol w="950760"/>
                <a:gridCol w="471600"/>
                <a:gridCol w="950760"/>
                <a:gridCol w="53820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5 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4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3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5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849 90 30 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BG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7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EC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71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Други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80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8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............KИТАЙ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6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80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САЩ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Arial"/>
              </a:rPr>
              <a:t>Карбамид</a:t>
            </a:r>
            <a:endParaRPr b="0" lang="en-US" sz="20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324" name=""/>
          <p:cNvGraphicFramePr/>
          <p:nvPr/>
        </p:nvGraphicFramePr>
        <p:xfrm>
          <a:off x="324000" y="2349360"/>
          <a:ext cx="8495640" cy="4032360"/>
        </p:xfrm>
        <a:graphic>
          <a:graphicData uri="http://schemas.openxmlformats.org/drawingml/2006/table">
            <a:tbl>
              <a:tblPr/>
              <a:tblGrid>
                <a:gridCol w="1101240"/>
                <a:gridCol w="2916000"/>
                <a:gridCol w="948600"/>
                <a:gridCol w="524160"/>
                <a:gridCol w="951120"/>
                <a:gridCol w="551880"/>
                <a:gridCol w="951120"/>
                <a:gridCol w="551520"/>
              </a:tblGrid>
              <a:tr h="347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5 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4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3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3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102 10 10 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BG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6 90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8 41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5 73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102 10 9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EC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3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6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Други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6 76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9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8 41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5 72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............РУМЪH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3 98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5 04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6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3 10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5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ШВЕЙЦАР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ТУРЦ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8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............УKРАЙHА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12 68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7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3 32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2 62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4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6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............БЕЛОРУС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............ХЪРВАТСКО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25" name=""/>
          <p:cNvGraphicFramePr/>
          <p:nvPr/>
        </p:nvGraphicFramePr>
        <p:xfrm>
          <a:off x="468360" y="476280"/>
          <a:ext cx="8218440" cy="1730520"/>
        </p:xfrm>
        <a:graphic>
          <a:graphicData uri="http://schemas.openxmlformats.org/drawingml/2006/table">
            <a:tbl>
              <a:tblPr/>
              <a:tblGrid>
                <a:gridCol w="5362560"/>
                <a:gridCol w="285588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ериод на действие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9.01.201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Размер на антидъмпинговото мито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7,81 EUR/T - 21,43EUR/T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рилагани мита в ЕС - 200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,5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рилагани мита в България - 200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5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64216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Arial"/>
              </a:rPr>
              <a:t>Тръби, заварени с кръгло напречно сечение от желязо или нелегирани стомани - "водогазопроводни"</a:t>
            </a:r>
            <a:endParaRPr b="0" lang="en-US" sz="20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327" name=""/>
          <p:cNvGraphicFramePr/>
          <p:nvPr/>
        </p:nvGraphicFramePr>
        <p:xfrm>
          <a:off x="324000" y="2421000"/>
          <a:ext cx="8495640" cy="4084560"/>
        </p:xfrm>
        <a:graphic>
          <a:graphicData uri="http://schemas.openxmlformats.org/drawingml/2006/table">
            <a:tbl>
              <a:tblPr/>
              <a:tblGrid>
                <a:gridCol w="1116000"/>
                <a:gridCol w="2948040"/>
                <a:gridCol w="961200"/>
                <a:gridCol w="528840"/>
                <a:gridCol w="961200"/>
                <a:gridCol w="477720"/>
                <a:gridCol w="957960"/>
                <a:gridCol w="544680"/>
              </a:tblGrid>
              <a:tr h="312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5 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4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3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2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7306 30 41 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BG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7 24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 90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 94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7306 30 49 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EC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 74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 93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9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7306 30 72 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Други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5 50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7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 97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7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 45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8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7306 30 77 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ТАЙЛАНД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KИТАЙ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ЯПОH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8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РУМЪH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81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 11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РУСKА ФЕДЕРАЦ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1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............ТУРЦ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2 55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3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1 70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1 35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4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............УKРАЙHА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1 54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1 99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1 05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3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28" name=""/>
          <p:cNvGraphicFramePr/>
          <p:nvPr/>
        </p:nvGraphicFramePr>
        <p:xfrm>
          <a:off x="468360" y="765000"/>
          <a:ext cx="8218440" cy="1577880"/>
        </p:xfrm>
        <a:graphic>
          <a:graphicData uri="http://schemas.openxmlformats.org/drawingml/2006/table">
            <a:tbl>
              <a:tblPr/>
              <a:tblGrid>
                <a:gridCol w="4692600"/>
                <a:gridCol w="3525840"/>
              </a:tblGrid>
              <a:tr h="36828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ериод на действие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8.09.200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Размер на антидъмпинговото мито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% - 44,1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рилагани мита в ЕС - 200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рилагани мита в България - 200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9,8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Arial"/>
              </a:rPr>
              <a:t>Цинков оксид, цинков пероксид</a:t>
            </a:r>
            <a:endParaRPr b="0" lang="en-US" sz="20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330" name=""/>
          <p:cNvGraphicFramePr/>
          <p:nvPr/>
        </p:nvGraphicFramePr>
        <p:xfrm>
          <a:off x="250920" y="2276640"/>
          <a:ext cx="8424720" cy="4125600"/>
        </p:xfrm>
        <a:graphic>
          <a:graphicData uri="http://schemas.openxmlformats.org/drawingml/2006/table">
            <a:tbl>
              <a:tblPr/>
              <a:tblGrid>
                <a:gridCol w="1106280"/>
                <a:gridCol w="2921040"/>
                <a:gridCol w="957240"/>
                <a:gridCol w="522360"/>
                <a:gridCol w="954000"/>
                <a:gridCol w="473040"/>
                <a:gridCol w="951120"/>
                <a:gridCol w="539640"/>
              </a:tblGrid>
              <a:tr h="409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5 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4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3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2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817 00 00 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BG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0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3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7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EC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4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5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8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Други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5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5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8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9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............KИТАЙ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2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9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2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8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ИHД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ТУРЦ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2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8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............ВИЕТНАМ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31" name=""/>
          <p:cNvGraphicFramePr/>
          <p:nvPr/>
        </p:nvGraphicFramePr>
        <p:xfrm>
          <a:off x="395280" y="476280"/>
          <a:ext cx="8218440" cy="1730520"/>
        </p:xfrm>
        <a:graphic>
          <a:graphicData uri="http://schemas.openxmlformats.org/drawingml/2006/table">
            <a:tbl>
              <a:tblPr/>
              <a:tblGrid>
                <a:gridCol w="5702400"/>
                <a:gridCol w="251604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ериод на действие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6.03.200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Размер на антидъмпинговото мито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,9% - 28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рилагани мита в ЕС - 200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5,5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рилагани мита в България - 200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5,5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Arial"/>
              </a:rPr>
              <a:t>Цинков оксид смесен със силициев двуокис</a:t>
            </a:r>
            <a:endParaRPr b="0" lang="en-US" sz="20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468360" y="476280"/>
          <a:ext cx="8218440" cy="1730520"/>
        </p:xfrm>
        <a:graphic>
          <a:graphicData uri="http://schemas.openxmlformats.org/drawingml/2006/table">
            <a:tbl>
              <a:tblPr/>
              <a:tblGrid>
                <a:gridCol w="5865840"/>
                <a:gridCol w="235260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ериод на действие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1.9.200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Размер на антидъмпинговото мито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8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рилагани мита в ЕС - 200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,50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рилагани мита в България - 200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,5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34" name=""/>
          <p:cNvGraphicFramePr/>
          <p:nvPr/>
        </p:nvGraphicFramePr>
        <p:xfrm>
          <a:off x="179280" y="2276640"/>
          <a:ext cx="8507520" cy="4122720"/>
        </p:xfrm>
        <a:graphic>
          <a:graphicData uri="http://schemas.openxmlformats.org/drawingml/2006/table">
            <a:tbl>
              <a:tblPr/>
              <a:tblGrid>
                <a:gridCol w="1117800"/>
                <a:gridCol w="2952720"/>
                <a:gridCol w="957240"/>
                <a:gridCol w="533520"/>
                <a:gridCol w="961920"/>
                <a:gridCol w="476280"/>
                <a:gridCol w="961920"/>
                <a:gridCol w="546120"/>
              </a:tblGrid>
              <a:tr h="388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5 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4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3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824 90 99 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BG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3 85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 57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5 24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EC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2 46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9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9 91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9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4 70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9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Други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 38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6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53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............KИТАЙ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4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РУМЪH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9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ШВЕЙЦАР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2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4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1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ТУРЦ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2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2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САЩ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0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1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440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Arial"/>
              </a:rPr>
              <a:t>Велосипеди</a:t>
            </a:r>
            <a:endParaRPr b="0" lang="en-US" sz="20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179280" y="2421000"/>
          <a:ext cx="8569080" cy="3960360"/>
        </p:xfrm>
        <a:graphic>
          <a:graphicData uri="http://schemas.openxmlformats.org/drawingml/2006/table">
            <a:tbl>
              <a:tblPr/>
              <a:tblGrid>
                <a:gridCol w="1144800"/>
                <a:gridCol w="2860920"/>
                <a:gridCol w="990000"/>
                <a:gridCol w="545040"/>
                <a:gridCol w="987120"/>
                <a:gridCol w="491760"/>
                <a:gridCol w="990000"/>
                <a:gridCol w="559440"/>
              </a:tblGrid>
              <a:tr h="359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5 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4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3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8712 00  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BG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51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4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4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EC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7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8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0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Други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4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8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5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8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54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8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BULGARIA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KАHАДА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............KИТАЙ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37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7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29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6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51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8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............ВИЕТHАМ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ТУРЦ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САЩ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3" name=""/>
          <p:cNvGraphicFramePr/>
          <p:nvPr/>
        </p:nvGraphicFramePr>
        <p:xfrm>
          <a:off x="611280" y="692280"/>
          <a:ext cx="8137440" cy="1558800"/>
        </p:xfrm>
        <a:graphic>
          <a:graphicData uri="http://schemas.openxmlformats.org/drawingml/2006/table">
            <a:tbl>
              <a:tblPr/>
              <a:tblGrid>
                <a:gridCol w="4038480"/>
                <a:gridCol w="1989000"/>
                <a:gridCol w="2109960"/>
              </a:tblGrid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ериод на действие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5.07.201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Размер на антидъмпинговото мито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8,5% - Китай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5,8 - 34,5% - Виетнам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рилагани мита в ЕС - 200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5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рилагани мита в България - 200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2,5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42800" y="259920"/>
            <a:ext cx="8244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Arial"/>
              </a:rPr>
              <a:t>Части за велосипеди (рамки и ви                                                                                                                 лки, главини, спирачки и педали</a:t>
            </a:r>
            <a:r>
              <a:rPr b="0" lang="en-US" sz="2000" spc="-1" strike="noStrike">
                <a:solidFill>
                  <a:srgbClr val="006666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250920" y="2421000"/>
          <a:ext cx="8497800" cy="3884400"/>
        </p:xfrm>
        <a:graphic>
          <a:graphicData uri="http://schemas.openxmlformats.org/drawingml/2006/table">
            <a:tbl>
              <a:tblPr/>
              <a:tblGrid>
                <a:gridCol w="1138320"/>
                <a:gridCol w="2831760"/>
                <a:gridCol w="984240"/>
                <a:gridCol w="536760"/>
                <a:gridCol w="984240"/>
                <a:gridCol w="485640"/>
                <a:gridCol w="982800"/>
                <a:gridCol w="554040"/>
              </a:tblGrid>
              <a:tr h="359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5 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4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3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8714 91    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BG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4 82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3 96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0 89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8714 93 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EC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81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92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88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8714 94 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Други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4 01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9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3 03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9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0 01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9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8714 96  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............KИТАЙ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11 66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7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10 70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7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7 80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7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8714 99 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ТАЙВАH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7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4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95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ЯПОH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7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8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0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МАЛАЙЗ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59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70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4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СИHГАПУР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 04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90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7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6" name=""/>
          <p:cNvGraphicFramePr/>
          <p:nvPr/>
        </p:nvGraphicFramePr>
        <p:xfrm>
          <a:off x="324000" y="692280"/>
          <a:ext cx="8362800" cy="1577880"/>
        </p:xfrm>
        <a:graphic>
          <a:graphicData uri="http://schemas.openxmlformats.org/drawingml/2006/table">
            <a:tbl>
              <a:tblPr/>
              <a:tblGrid>
                <a:gridCol w="4592520"/>
                <a:gridCol w="3770280"/>
              </a:tblGrid>
              <a:tr h="36828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ериод на действие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5.07.201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Размер на антидъмпинговото мито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8,5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рилагани мита в ЕС - 200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,7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рилагани мита в България - 200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8,7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44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Arial"/>
              </a:rPr>
              <a:t>Изделия отляти от чугун, желязо или стомана (люкове за шахти и артикули използвани за канализационни системи)</a:t>
            </a:r>
            <a:endParaRPr b="0" lang="en-US" sz="20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324000" y="2924280"/>
          <a:ext cx="8424720" cy="3528720"/>
        </p:xfrm>
        <a:graphic>
          <a:graphicData uri="http://schemas.openxmlformats.org/drawingml/2006/table">
            <a:tbl>
              <a:tblPr/>
              <a:tblGrid>
                <a:gridCol w="1152360"/>
                <a:gridCol w="2784600"/>
                <a:gridCol w="974520"/>
                <a:gridCol w="532080"/>
                <a:gridCol w="974520"/>
                <a:gridCol w="484200"/>
                <a:gridCol w="973080"/>
                <a:gridCol w="549360"/>
              </a:tblGrid>
              <a:tr h="339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5 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4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3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8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7325 10 50 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BG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 35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88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52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7325 10 92 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EC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80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5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80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9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4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8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0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7325 10 9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Други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55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7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8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BULGARIA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............KИТАЙ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РУМЪH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ШВЕЙЦАР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ТУРЦ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9" name=""/>
          <p:cNvGraphicFramePr/>
          <p:nvPr/>
        </p:nvGraphicFramePr>
        <p:xfrm>
          <a:off x="395280" y="981000"/>
          <a:ext cx="8291520" cy="1881360"/>
        </p:xfrm>
        <a:graphic>
          <a:graphicData uri="http://schemas.openxmlformats.org/drawingml/2006/table">
            <a:tbl>
              <a:tblPr/>
              <a:tblGrid>
                <a:gridCol w="4133880"/>
                <a:gridCol w="4157640"/>
              </a:tblGrid>
              <a:tr h="30708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4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ериод на действие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0.07.201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Размер на антидъмпинговото мито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 - 47,8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4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рилагани мита в ЕС - 200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,7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рилагани мита в България - 200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1,7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42800" y="333000"/>
            <a:ext cx="82440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Arial"/>
              </a:rPr>
              <a:t>Гюдерии</a:t>
            </a:r>
            <a:endParaRPr b="0" lang="en-US" sz="20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250920" y="2421000"/>
          <a:ext cx="8424360" cy="3838680"/>
        </p:xfrm>
        <a:graphic>
          <a:graphicData uri="http://schemas.openxmlformats.org/drawingml/2006/table">
            <a:tbl>
              <a:tblPr/>
              <a:tblGrid>
                <a:gridCol w="1128960"/>
                <a:gridCol w="2809080"/>
                <a:gridCol w="973440"/>
                <a:gridCol w="533520"/>
                <a:gridCol w="973080"/>
                <a:gridCol w="483480"/>
                <a:gridCol w="973080"/>
                <a:gridCol w="549720"/>
              </a:tblGrid>
              <a:tr h="372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5 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4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03 г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SD'00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114 10 10</a:t>
                      </a:r>
                      <a:br>
                        <a:rPr sz="1400"/>
                      </a:b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BG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 00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2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8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114 10 9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EC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57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5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1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9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6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9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5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Други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3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BULGARIA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............KИТАЙ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ТАЙВАH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ОАЕ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5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...........ТУРЦ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2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395280" y="765000"/>
          <a:ext cx="8291520" cy="1511280"/>
        </p:xfrm>
        <a:graphic>
          <a:graphicData uri="http://schemas.openxmlformats.org/drawingml/2006/table">
            <a:tbl>
              <a:tblPr/>
              <a:tblGrid>
                <a:gridCol w="4721400"/>
                <a:gridCol w="3570120"/>
              </a:tblGrid>
              <a:tr h="229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ериод на действие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Временна мярка до 16.09.200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Размер на антидъмпинговото мито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2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рилагани мита в ЕС - 200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,5% 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Прилагани мита в България - 2006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,4%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6T09:51:12Z</dcterms:created>
  <dc:creator>ME</dc:creator>
  <dc:description/>
  <dc:language>en-US</dc:language>
  <cp:lastModifiedBy>Rumi Hristova</cp:lastModifiedBy>
  <dcterms:modified xsi:type="dcterms:W3CDTF">2007-01-23T15:33:24Z</dcterms:modified>
  <cp:revision>83</cp:revision>
  <dc:subject/>
  <dc:title>Slide 1</dc:title>
</cp:coreProperties>
</file>