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48A-D1B5-47D5-B7A5-7AD085E2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0F7-6BFE-408D-B195-A1D5BF6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CE-7215-4CA9-874B-CC3D8D43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9A4-8435-4C37-9B20-678B10F1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D84-27B0-40A3-81D5-812FA032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8A94-6E76-4C27-BFAF-731EE72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2E53-0349-436A-AE05-5B0DFE2F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7547-7E81-427B-B9ED-32C1118A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6A8-A42D-4367-A106-C164981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C226-544F-4566-9FCF-34C58988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208B-7E20-4AC7-B596-D155F2FD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957-E77B-4331-A116-58DBF8A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2501-FF60-435A-ABEA-C2EC6542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8F4-BCA9-44DD-945D-B96161D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684B-7E49-4251-AE38-8CBD721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75A5-F1F6-4F41-A791-D9BBBE21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7E0-BC49-46D7-9866-5527A7F2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24D-EECE-4B6C-AE69-AA571A1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ECA-C635-43B0-9C5D-AF6DDD8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AFF-837B-401A-BE0A-D17FB01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15D-6262-4F64-BFAA-E997454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BBB-8E0F-4BB3-9D4E-3387B47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B3-4818-493F-9F54-F1D0452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901-66D9-447E-80E4-49F838D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AC4B-7BB5-4CC5-979C-72A9781C72D4}" type="slidenum">
              <a:rPr b="0" lang="bg-BG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625-6543-4732-8DDB-2DAF210AB22A}" type="slidenum">
              <a:rPr b="0" lang="bg-BG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ВЪНШНОТЪРГОВСКИ АСПЕКТИ НА ПРИСЪЕДИНЯВАНЕТО НА БЪЛГАРИЯ КЪМ ЕВРОПЕЙСКИЯ СЪЮЗ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18.01.2007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ОФ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птични дискове и дискове за четящи системи чрез сноп лазерни лъчи, различни от изтриваемите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692280"/>
          <a:ext cx="8207280" cy="1658880"/>
        </p:xfrm>
        <a:graphic>
          <a:graphicData uri="http://schemas.openxmlformats.org/drawingml/2006/table">
            <a:tbl>
              <a:tblPr/>
              <a:tblGrid>
                <a:gridCol w="3992400"/>
                <a:gridCol w="2127240"/>
                <a:gridCol w="2087640"/>
              </a:tblGrid>
              <a:tr h="43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6.2008 - 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6.2007 - Тайва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7%  -  3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9280" y="2421000"/>
          <a:ext cx="8569440" cy="3659040"/>
        </p:xfrm>
        <a:graphic>
          <a:graphicData uri="http://schemas.openxmlformats.org/drawingml/2006/table">
            <a:tbl>
              <a:tblPr/>
              <a:tblGrid>
                <a:gridCol w="1109880"/>
                <a:gridCol w="3046320"/>
                <a:gridCol w="957240"/>
                <a:gridCol w="527040"/>
                <a:gridCol w="957240"/>
                <a:gridCol w="473040"/>
                <a:gridCol w="957240"/>
                <a:gridCol w="541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3 9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8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5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3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7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фрови интегрални схеми и електронни микрокомплекси. Памети. Части и принадлежности за пишешти машини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765000"/>
          <a:ext cx="8435880" cy="1577880"/>
        </p:xfrm>
        <a:graphic>
          <a:graphicData uri="http://schemas.openxmlformats.org/drawingml/2006/table">
            <a:tbl>
              <a:tblPr/>
              <a:tblGrid>
                <a:gridCol w="4330800"/>
                <a:gridCol w="41050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.08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34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9640" y="2852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32274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4784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2492280"/>
          <a:ext cx="8496360" cy="3903840"/>
        </p:xfrm>
        <a:graphic>
          <a:graphicData uri="http://schemas.openxmlformats.org/drawingml/2006/table">
            <a:tbl>
              <a:tblPr/>
              <a:tblGrid>
                <a:gridCol w="1136880"/>
                <a:gridCol w="2825640"/>
                <a:gridCol w="981000"/>
                <a:gridCol w="539640"/>
                <a:gridCol w="978120"/>
                <a:gridCol w="485640"/>
                <a:gridCol w="981000"/>
                <a:gridCol w="568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1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 6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 5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 9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3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2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5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 4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 2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7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7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5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01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0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6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6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05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8 90 1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73 30 1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73 50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3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3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Феромолибден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2637000"/>
          <a:ext cx="8497800" cy="3455640"/>
        </p:xfrm>
        <a:graphic>
          <a:graphicData uri="http://schemas.openxmlformats.org/drawingml/2006/table">
            <a:tbl>
              <a:tblPr/>
              <a:tblGrid>
                <a:gridCol w="1138680"/>
                <a:gridCol w="2832840"/>
                <a:gridCol w="982800"/>
                <a:gridCol w="536760"/>
                <a:gridCol w="983160"/>
                <a:gridCol w="487440"/>
                <a:gridCol w="982800"/>
                <a:gridCol w="553320"/>
              </a:tblGrid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02 7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РМЕ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ЗАХ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24000" y="836640"/>
          <a:ext cx="8435880" cy="1515960"/>
        </p:xfrm>
        <a:graphic>
          <a:graphicData uri="http://schemas.openxmlformats.org/drawingml/2006/table">
            <a:tbl>
              <a:tblPr/>
              <a:tblGrid>
                <a:gridCol w="5270400"/>
                <a:gridCol w="3165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7.02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външни ходила от естествена кожа и горна част, състояща се от каишки от естествена кож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836640"/>
          <a:ext cx="8578800" cy="1577880"/>
        </p:xfrm>
        <a:graphic>
          <a:graphicData uri="http://schemas.openxmlformats.org/drawingml/2006/table">
            <a:tbl>
              <a:tblPr/>
              <a:tblGrid>
                <a:gridCol w="4545000"/>
                <a:gridCol w="40338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Временна мярка до 07.10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от 12,6% до 19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5% и 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6% и 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2565360"/>
          <a:ext cx="8496000" cy="3742920"/>
        </p:xfrm>
        <a:graphic>
          <a:graphicData uri="http://schemas.openxmlformats.org/drawingml/2006/table">
            <a:tbl>
              <a:tblPr/>
              <a:tblGrid>
                <a:gridCol w="1137960"/>
                <a:gridCol w="2830680"/>
                <a:gridCol w="979560"/>
                <a:gridCol w="542880"/>
                <a:gridCol w="981000"/>
                <a:gridCol w="487440"/>
                <a:gridCol w="982440"/>
                <a:gridCol w="5540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5 1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765000"/>
          <a:ext cx="8218440" cy="1720800"/>
        </p:xfrm>
        <a:graphic>
          <a:graphicData uri="http://schemas.openxmlformats.org/drawingml/2006/table">
            <a:tbl>
              <a:tblPr/>
              <a:tblGrid>
                <a:gridCol w="4336920"/>
                <a:gridCol w="3881520"/>
              </a:tblGrid>
              <a:tr h="398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04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2 E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50920" y="2781360"/>
          <a:ext cx="8435520" cy="3670200"/>
        </p:xfrm>
        <a:graphic>
          <a:graphicData uri="http://schemas.openxmlformats.org/drawingml/2006/table">
            <a:tbl>
              <a:tblPr/>
              <a:tblGrid>
                <a:gridCol w="1107720"/>
                <a:gridCol w="2927520"/>
                <a:gridCol w="951840"/>
                <a:gridCol w="527760"/>
                <a:gridCol w="955080"/>
                <a:gridCol w="469800"/>
                <a:gridCol w="955080"/>
                <a:gridCol w="540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ИРИЙСKА АРАБСK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, чиято най-голяма височина на тока превишава 3 см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8360" y="907920"/>
          <a:ext cx="8435880" cy="1577880"/>
        </p:xfrm>
        <a:graphic>
          <a:graphicData uri="http://schemas.openxmlformats.org/drawingml/2006/table">
            <a:tbl>
              <a:tblPr/>
              <a:tblGrid>
                <a:gridCol w="3746520"/>
                <a:gridCol w="2367000"/>
                <a:gridCol w="23223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10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 - 250 E/T - К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.3% - Япо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4000" y="2637000"/>
          <a:ext cx="8362440" cy="3562200"/>
        </p:xfrm>
        <a:graphic>
          <a:graphicData uri="http://schemas.openxmlformats.org/drawingml/2006/table">
            <a:tbl>
              <a:tblPr/>
              <a:tblGrid>
                <a:gridCol w="1098000"/>
                <a:gridCol w="2902320"/>
                <a:gridCol w="943560"/>
                <a:gridCol w="523080"/>
                <a:gridCol w="946800"/>
                <a:gridCol w="465840"/>
                <a:gridCol w="946800"/>
                <a:gridCol w="536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5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5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, покриващи глезена но непокриващи пръсец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765000"/>
          <a:ext cx="8362800" cy="1577880"/>
        </p:xfrm>
        <a:graphic>
          <a:graphicData uri="http://schemas.openxmlformats.org/drawingml/2006/table">
            <a:tbl>
              <a:tblPr/>
              <a:tblGrid>
                <a:gridCol w="3713040"/>
                <a:gridCol w="46497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10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79280" y="2421000"/>
          <a:ext cx="8713440" cy="4247640"/>
        </p:xfrm>
        <a:graphic>
          <a:graphicData uri="http://schemas.openxmlformats.org/drawingml/2006/table">
            <a:tbl>
              <a:tblPr/>
              <a:tblGrid>
                <a:gridCol w="1144080"/>
                <a:gridCol w="3024720"/>
                <a:gridCol w="983160"/>
                <a:gridCol w="543960"/>
                <a:gridCol w="987840"/>
                <a:gridCol w="484920"/>
                <a:gridCol w="986760"/>
                <a:gridCol w="558000"/>
              </a:tblGrid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0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5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8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3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4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Други обувки различни от обувките с предна лицева част съставена от каишки или изрязана на едно или повече места, покриващи глезена но непокриващи прасец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0920" y="2708280"/>
          <a:ext cx="8569080" cy="3816000"/>
        </p:xfrm>
        <a:graphic>
          <a:graphicData uri="http://schemas.openxmlformats.org/drawingml/2006/table">
            <a:tbl>
              <a:tblPr/>
              <a:tblGrid>
                <a:gridCol w="1123920"/>
                <a:gridCol w="2975040"/>
                <a:gridCol w="970560"/>
                <a:gridCol w="532800"/>
                <a:gridCol w="968760"/>
                <a:gridCol w="481680"/>
                <a:gridCol w="967320"/>
                <a:gridCol w="549000"/>
              </a:tblGrid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5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KЕД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50920" y="907920"/>
          <a:ext cx="8688240" cy="1577880"/>
        </p:xfrm>
        <a:graphic>
          <a:graphicData uri="http://schemas.openxmlformats.org/drawingml/2006/table">
            <a:tbl>
              <a:tblPr/>
              <a:tblGrid>
                <a:gridCol w="4005000"/>
                <a:gridCol w="2333160"/>
                <a:gridCol w="235008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8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11,5%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,5 - 37,8% - 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ефлон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2060640"/>
          <a:ext cx="8569080" cy="3995640"/>
        </p:xfrm>
        <a:graphic>
          <a:graphicData uri="http://schemas.openxmlformats.org/drawingml/2006/table">
            <a:tbl>
              <a:tblPr/>
              <a:tblGrid>
                <a:gridCol w="1124280"/>
                <a:gridCol w="2975400"/>
                <a:gridCol w="969120"/>
                <a:gridCol w="532800"/>
                <a:gridCol w="969120"/>
                <a:gridCol w="482040"/>
                <a:gridCol w="966240"/>
                <a:gridCol w="550080"/>
              </a:tblGrid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04 61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260280"/>
          <a:ext cx="8362800" cy="1800000"/>
        </p:xfrm>
        <a:graphic>
          <a:graphicData uri="http://schemas.openxmlformats.org/drawingml/2006/table">
            <a:tbl>
              <a:tblPr/>
              <a:tblGrid>
                <a:gridCol w="5005080"/>
                <a:gridCol w="3357720"/>
              </a:tblGrid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9.12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.6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Графитни електроди и четки, въглени лампи и батерии от видовете използвани за пещ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2997360"/>
          <a:ext cx="8497440" cy="3406680"/>
        </p:xfrm>
        <a:graphic>
          <a:graphicData uri="http://schemas.openxmlformats.org/drawingml/2006/table">
            <a:tbl>
              <a:tblPr/>
              <a:tblGrid>
                <a:gridCol w="1114560"/>
                <a:gridCol w="2949120"/>
                <a:gridCol w="961920"/>
                <a:gridCol w="529920"/>
                <a:gridCol w="961920"/>
                <a:gridCol w="475560"/>
                <a:gridCol w="960480"/>
                <a:gridCol w="5439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5 1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5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7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5 9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8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8360" y="907920"/>
          <a:ext cx="8280000" cy="1860840"/>
        </p:xfrm>
        <a:graphic>
          <a:graphicData uri="http://schemas.openxmlformats.org/drawingml/2006/table">
            <a:tbl>
              <a:tblPr/>
              <a:tblGrid>
                <a:gridCol w="3847680"/>
                <a:gridCol w="443232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9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- 15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 и 8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Амониев нитрат и смеси на амониев нитрат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692280"/>
          <a:ext cx="8410320" cy="1501560"/>
        </p:xfrm>
        <a:graphic>
          <a:graphicData uri="http://schemas.openxmlformats.org/drawingml/2006/table">
            <a:tbl>
              <a:tblPr/>
              <a:tblGrid>
                <a:gridCol w="4003560"/>
                <a:gridCol w="1950840"/>
                <a:gridCol w="2455920"/>
              </a:tblGrid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4.2007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1.2006 - Украйна 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,42 - 47,07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,26 - 33,25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  и  2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50920" y="2349360"/>
          <a:ext cx="8424720" cy="4032000"/>
        </p:xfrm>
        <a:graphic>
          <a:graphicData uri="http://schemas.openxmlformats.org/drawingml/2006/table">
            <a:tbl>
              <a:tblPr/>
              <a:tblGrid>
                <a:gridCol w="1146240"/>
                <a:gridCol w="2598480"/>
                <a:gridCol w="935280"/>
                <a:gridCol w="649080"/>
                <a:gridCol w="1008000"/>
                <a:gridCol w="576360"/>
                <a:gridCol w="934920"/>
                <a:gridCol w="576360"/>
              </a:tblGrid>
              <a:tr h="32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3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4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ЪРВАТС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ЕГИП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ри-високоповдигачи и части за тях</a:t>
            </a:r>
            <a:br>
              <a:rPr sz="28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24000" y="2565360"/>
          <a:ext cx="8424360" cy="3722760"/>
        </p:xfrm>
        <a:graphic>
          <a:graphicData uri="http://schemas.openxmlformats.org/drawingml/2006/table">
            <a:tbl>
              <a:tblPr/>
              <a:tblGrid>
                <a:gridCol w="1105920"/>
                <a:gridCol w="2923560"/>
                <a:gridCol w="954720"/>
                <a:gridCol w="523440"/>
                <a:gridCol w="951120"/>
                <a:gridCol w="475200"/>
                <a:gridCol w="951120"/>
                <a:gridCol w="5392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27 9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0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31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ЮГОСЛАВ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5280" y="549360"/>
          <a:ext cx="8362800" cy="1784160"/>
        </p:xfrm>
        <a:graphic>
          <a:graphicData uri="http://schemas.openxmlformats.org/drawingml/2006/table">
            <a:tbl>
              <a:tblPr/>
              <a:tblGrid>
                <a:gridCol w="4829040"/>
                <a:gridCol w="3533760"/>
              </a:tblGrid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6 - 46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Флуоресцентни лампи, различни от тези с два катод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0920" y="2421000"/>
          <a:ext cx="8497440" cy="4103280"/>
        </p:xfrm>
        <a:graphic>
          <a:graphicData uri="http://schemas.openxmlformats.org/drawingml/2006/table">
            <a:tbl>
              <a:tblPr/>
              <a:tblGrid>
                <a:gridCol w="1116000"/>
                <a:gridCol w="2949120"/>
                <a:gridCol w="962280"/>
                <a:gridCol w="527760"/>
                <a:gridCol w="961200"/>
                <a:gridCol w="478080"/>
                <a:gridCol w="959400"/>
                <a:gridCol w="543600"/>
              </a:tblGrid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39 3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ПАKИ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ФИЛИПИH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8360" y="620640"/>
          <a:ext cx="8291520" cy="1800000"/>
        </p:xfrm>
        <a:graphic>
          <a:graphicData uri="http://schemas.openxmlformats.org/drawingml/2006/table">
            <a:tbl>
              <a:tblPr/>
              <a:tblGrid>
                <a:gridCol w="4084560"/>
                <a:gridCol w="4206960"/>
              </a:tblGrid>
              <a:tr h="416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.07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66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шинки за събиране на подвижни листа или за класьори от мета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0920" y="2349360"/>
          <a:ext cx="8353080" cy="4103640"/>
        </p:xfrm>
        <a:graphic>
          <a:graphicData uri="http://schemas.openxmlformats.org/drawingml/2006/table">
            <a:tbl>
              <a:tblPr/>
              <a:tblGrid>
                <a:gridCol w="1096920"/>
                <a:gridCol w="2899080"/>
                <a:gridCol w="945360"/>
                <a:gridCol w="519480"/>
                <a:gridCol w="945720"/>
                <a:gridCol w="468720"/>
                <a:gridCol w="942480"/>
                <a:gridCol w="535320"/>
              </a:tblGrid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05 1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ОН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68360" y="549360"/>
          <a:ext cx="8074080" cy="1726920"/>
        </p:xfrm>
        <a:graphic>
          <a:graphicData uri="http://schemas.openxmlformats.org/drawingml/2006/table">
            <a:tbl>
              <a:tblPr/>
              <a:tblGrid>
                <a:gridCol w="5549760"/>
                <a:gridCol w="2524320"/>
              </a:tblGrid>
              <a:tr h="399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7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,3% и 48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Газови джобни запалки за еднократна употреба и такива за многократна, но с различно запалване от електрическото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1125360"/>
          <a:ext cx="8291520" cy="1515960"/>
        </p:xfrm>
        <a:graphic>
          <a:graphicData uri="http://schemas.openxmlformats.org/drawingml/2006/table">
            <a:tbl>
              <a:tblPr/>
              <a:tblGrid>
                <a:gridCol w="3851280"/>
                <a:gridCol w="44402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,065 Eвро/б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50920" y="2781360"/>
          <a:ext cx="8569080" cy="3670200"/>
        </p:xfrm>
        <a:graphic>
          <a:graphicData uri="http://schemas.openxmlformats.org/drawingml/2006/table">
            <a:tbl>
              <a:tblPr/>
              <a:tblGrid>
                <a:gridCol w="1123920"/>
                <a:gridCol w="2976480"/>
                <a:gridCol w="965160"/>
                <a:gridCol w="534960"/>
                <a:gridCol w="970200"/>
                <a:gridCol w="480960"/>
                <a:gridCol w="969840"/>
                <a:gridCol w="5475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10 0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1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2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2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гнезиев оксид, калциниран до пълно обезводняване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280" y="2492280"/>
          <a:ext cx="8496360" cy="3834000"/>
        </p:xfrm>
        <a:graphic>
          <a:graphicData uri="http://schemas.openxmlformats.org/drawingml/2006/table">
            <a:tbl>
              <a:tblPr/>
              <a:tblGrid>
                <a:gridCol w="1116000"/>
                <a:gridCol w="2949840"/>
                <a:gridCol w="961920"/>
                <a:gridCol w="525600"/>
                <a:gridCol w="961920"/>
                <a:gridCol w="477720"/>
                <a:gridCol w="959040"/>
                <a:gridCol w="544320"/>
              </a:tblGrid>
              <a:tr h="38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9 9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68360" y="620640"/>
          <a:ext cx="8147160" cy="1577880"/>
        </p:xfrm>
        <a:graphic>
          <a:graphicData uri="http://schemas.openxmlformats.org/drawingml/2006/table">
            <a:tbl>
              <a:tblPr/>
              <a:tblGrid>
                <a:gridCol w="3878280"/>
                <a:gridCol w="42688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05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-120 EUR/T и 63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Изделия от камъни или от други минерални материали, съдържащи матнезит, доломит или хромит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2852640"/>
          <a:ext cx="8424720" cy="3238560"/>
        </p:xfrm>
        <a:graphic>
          <a:graphicData uri="http://schemas.openxmlformats.org/drawingml/2006/table">
            <a:tbl>
              <a:tblPr/>
              <a:tblGrid>
                <a:gridCol w="1116000"/>
                <a:gridCol w="2949480"/>
                <a:gridCol w="959040"/>
                <a:gridCol w="529920"/>
                <a:gridCol w="962280"/>
                <a:gridCol w="474480"/>
                <a:gridCol w="961920"/>
                <a:gridCol w="471600"/>
              </a:tblGrid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15 91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15 99 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ЮГОСЛАВ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8360" y="836640"/>
          <a:ext cx="8136000" cy="1944720"/>
        </p:xfrm>
        <a:graphic>
          <a:graphicData uri="http://schemas.openxmlformats.org/drawingml/2006/table">
            <a:tbl>
              <a:tblPr/>
              <a:tblGrid>
                <a:gridCol w="4863240"/>
                <a:gridCol w="3272760"/>
              </a:tblGrid>
              <a:tr h="449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10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Ценово споразум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гнезиев оксид, различен от магнезиевия оксид, калциниран до пълно обезводняване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907920"/>
          <a:ext cx="8291520" cy="1577880"/>
        </p:xfrm>
        <a:graphic>
          <a:graphicData uri="http://schemas.openxmlformats.org/drawingml/2006/table">
            <a:tbl>
              <a:tblPr/>
              <a:tblGrid>
                <a:gridCol w="4116240"/>
                <a:gridCol w="41752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5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-112 EUR/T и 27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08000" y="2492280"/>
          <a:ext cx="8718480" cy="3528720"/>
        </p:xfrm>
        <a:graphic>
          <a:graphicData uri="http://schemas.openxmlformats.org/drawingml/2006/table">
            <a:tbl>
              <a:tblPr/>
              <a:tblGrid>
                <a:gridCol w="1144440"/>
                <a:gridCol w="3026520"/>
                <a:gridCol w="983160"/>
                <a:gridCol w="545400"/>
                <a:gridCol w="986400"/>
                <a:gridCol w="486360"/>
                <a:gridCol w="987840"/>
                <a:gridCol w="55836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9 9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549000"/>
            <a:ext cx="82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Шперплат от червено меранти, бял лауан, сипо, лимба и др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620640"/>
          <a:ext cx="8147160" cy="1577880"/>
        </p:xfrm>
        <a:graphic>
          <a:graphicData uri="http://schemas.openxmlformats.org/drawingml/2006/table">
            <a:tbl>
              <a:tblPr/>
              <a:tblGrid>
                <a:gridCol w="4013280"/>
                <a:gridCol w="41338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11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 - 66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50920" y="2205000"/>
          <a:ext cx="8353080" cy="4176360"/>
        </p:xfrm>
        <a:graphic>
          <a:graphicData uri="http://schemas.openxmlformats.org/drawingml/2006/table">
            <a:tbl>
              <a:tblPr/>
              <a:tblGrid>
                <a:gridCol w="1091520"/>
                <a:gridCol w="2882160"/>
                <a:gridCol w="942120"/>
                <a:gridCol w="543960"/>
                <a:gridCol w="940680"/>
                <a:gridCol w="466200"/>
                <a:gridCol w="942120"/>
                <a:gridCol w="544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12 13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Крезоли и техните со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981000"/>
          <a:ext cx="8136000" cy="1510920"/>
        </p:xfrm>
        <a:graphic>
          <a:graphicData uri="http://schemas.openxmlformats.org/drawingml/2006/table">
            <a:tbl>
              <a:tblPr/>
              <a:tblGrid>
                <a:gridCol w="4849920"/>
                <a:gridCol w="3286080"/>
              </a:tblGrid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.09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,8 - 40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8320" y="3284640"/>
          <a:ext cx="4038480" cy="1819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07 1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50920" y="2781360"/>
          <a:ext cx="8893080" cy="3526920"/>
        </p:xfrm>
        <a:graphic>
          <a:graphicData uri="http://schemas.openxmlformats.org/drawingml/2006/table">
            <a:tbl>
              <a:tblPr/>
              <a:tblGrid>
                <a:gridCol w="1069920"/>
                <a:gridCol w="2603520"/>
                <a:gridCol w="1008000"/>
                <a:gridCol w="669960"/>
                <a:gridCol w="923760"/>
                <a:gridCol w="533520"/>
                <a:gridCol w="1041480"/>
                <a:gridCol w="574560"/>
                <a:gridCol w="468360"/>
              </a:tblGrid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07 1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Различни тъкани от прежди от синтетични нишк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692280"/>
          <a:ext cx="8435880" cy="1799640"/>
        </p:xfrm>
        <a:graphic>
          <a:graphicData uri="http://schemas.openxmlformats.org/drawingml/2006/table">
            <a:tbl>
              <a:tblPr/>
              <a:tblGrid>
                <a:gridCol w="4605480"/>
                <a:gridCol w="383040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.09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,1 - 56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50920" y="2349360"/>
          <a:ext cx="8424720" cy="4213440"/>
        </p:xfrm>
        <a:graphic>
          <a:graphicData uri="http://schemas.openxmlformats.org/drawingml/2006/table">
            <a:tbl>
              <a:tblPr/>
              <a:tblGrid>
                <a:gridCol w="1104840"/>
                <a:gridCol w="2925720"/>
                <a:gridCol w="949320"/>
                <a:gridCol w="527040"/>
                <a:gridCol w="954000"/>
                <a:gridCol w="468360"/>
                <a:gridCol w="955800"/>
                <a:gridCol w="53964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5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3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 4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54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 2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 7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 8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1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0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6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 7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9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0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6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0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 H Д 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7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Антибиотици (амоксицилин и ампицилини)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404640"/>
          <a:ext cx="8218440" cy="1871640"/>
        </p:xfrm>
        <a:graphic>
          <a:graphicData uri="http://schemas.openxmlformats.org/drawingml/2006/table">
            <a:tbl>
              <a:tblPr/>
              <a:tblGrid>
                <a:gridCol w="5594400"/>
                <a:gridCol w="2624040"/>
              </a:tblGrid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.05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3 - 3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0920" y="2276640"/>
          <a:ext cx="8435520" cy="4031640"/>
        </p:xfrm>
        <a:graphic>
          <a:graphicData uri="http://schemas.openxmlformats.org/drawingml/2006/table">
            <a:tbl>
              <a:tblPr/>
              <a:tblGrid>
                <a:gridCol w="1128960"/>
                <a:gridCol w="2812680"/>
                <a:gridCol w="970920"/>
                <a:gridCol w="539640"/>
                <a:gridCol w="975960"/>
                <a:gridCol w="480600"/>
                <a:gridCol w="976320"/>
                <a:gridCol w="550440"/>
              </a:tblGrid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10 1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6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10 2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9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9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ВСТРА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бели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836640"/>
          <a:ext cx="8291520" cy="1515960"/>
        </p:xfrm>
        <a:graphic>
          <a:graphicData uri="http://schemas.openxmlformats.org/drawingml/2006/table">
            <a:tbl>
              <a:tblPr/>
              <a:tblGrid>
                <a:gridCol w="4795920"/>
                <a:gridCol w="3495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.10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50920" y="2492280"/>
          <a:ext cx="8893080" cy="3970080"/>
        </p:xfrm>
        <a:graphic>
          <a:graphicData uri="http://schemas.openxmlformats.org/drawingml/2006/table">
            <a:tbl>
              <a:tblPr/>
              <a:tblGrid>
                <a:gridCol w="1079280"/>
                <a:gridCol w="2863800"/>
                <a:gridCol w="933480"/>
                <a:gridCol w="513000"/>
                <a:gridCol w="933480"/>
                <a:gridCol w="463320"/>
                <a:gridCol w="933480"/>
                <a:gridCol w="540000"/>
                <a:gridCol w="633240"/>
              </a:tblGrid>
              <a:tr h="46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01 2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Необработени щапелни влакна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95280" y="476280"/>
          <a:ext cx="8569440" cy="1728720"/>
        </p:xfrm>
        <a:graphic>
          <a:graphicData uri="http://schemas.openxmlformats.org/drawingml/2006/table">
            <a:tbl>
              <a:tblPr/>
              <a:tblGrid>
                <a:gridCol w="5011920"/>
                <a:gridCol w="35575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.10.2007 - Беларус                               18.03.2010 - Всички останал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9 - 49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9280" y="2349360"/>
          <a:ext cx="9217080" cy="4070160"/>
        </p:xfrm>
        <a:graphic>
          <a:graphicData uri="http://schemas.openxmlformats.org/drawingml/2006/table">
            <a:tbl>
              <a:tblPr/>
              <a:tblGrid>
                <a:gridCol w="1122480"/>
                <a:gridCol w="2971800"/>
                <a:gridCol w="968400"/>
                <a:gridCol w="536400"/>
                <a:gridCol w="966960"/>
                <a:gridCol w="477720"/>
                <a:gridCol w="968400"/>
                <a:gridCol w="550800"/>
                <a:gridCol w="654120"/>
              </a:tblGrid>
              <a:tr h="38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03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5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6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0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5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6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0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5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3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УДИТСKА АРАБ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Прежди непригодени за продажба на дребно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5280" y="692280"/>
          <a:ext cx="8497800" cy="1619280"/>
        </p:xfrm>
        <a:graphic>
          <a:graphicData uri="http://schemas.openxmlformats.org/drawingml/2006/table">
            <a:tbl>
              <a:tblPr/>
              <a:tblGrid>
                <a:gridCol w="4351320"/>
                <a:gridCol w="4146480"/>
              </a:tblGrid>
              <a:tr h="390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11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9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79280" y="2492280"/>
          <a:ext cx="9145440" cy="3889080"/>
        </p:xfrm>
        <a:graphic>
          <a:graphicData uri="http://schemas.openxmlformats.org/drawingml/2006/table">
            <a:tbl>
              <a:tblPr/>
              <a:tblGrid>
                <a:gridCol w="1114200"/>
                <a:gridCol w="2949480"/>
                <a:gridCol w="958680"/>
                <a:gridCol w="531360"/>
                <a:gridCol w="960480"/>
                <a:gridCol w="474120"/>
                <a:gridCol w="958680"/>
                <a:gridCol w="547560"/>
                <a:gridCol w="650880"/>
              </a:tblGrid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2 33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9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9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6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2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 H Д 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0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Етилентерефталат с вискозитетен индекс 78 ml/g или повече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765000"/>
          <a:ext cx="8280360" cy="1728720"/>
        </p:xfrm>
        <a:graphic>
          <a:graphicData uri="http://schemas.openxmlformats.org/drawingml/2006/table">
            <a:tbl>
              <a:tblPr/>
              <a:tblGrid>
                <a:gridCol w="4157640"/>
                <a:gridCol w="41227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10.2010 - Китай                                              (SR) - Всички останал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,9 - 223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79280" y="2133720"/>
          <a:ext cx="8507520" cy="4589280"/>
        </p:xfrm>
        <a:graphic>
          <a:graphicData uri="http://schemas.openxmlformats.org/drawingml/2006/table">
            <a:tbl>
              <a:tblPr/>
              <a:tblGrid>
                <a:gridCol w="1116000"/>
                <a:gridCol w="2954520"/>
                <a:gridCol w="960480"/>
                <a:gridCol w="528480"/>
                <a:gridCol w="965160"/>
                <a:gridCol w="476280"/>
                <a:gridCol w="961920"/>
                <a:gridCol w="5446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07 60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 2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6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1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 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1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8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9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5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8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3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0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1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8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 5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 8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 8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лочи, листа, фолио, ленти и пластини от етилентерефталат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8360" y="620640"/>
          <a:ext cx="8280360" cy="1643040"/>
        </p:xfrm>
        <a:graphic>
          <a:graphicData uri="http://schemas.openxmlformats.org/drawingml/2006/table">
            <a:tbl>
              <a:tblPr/>
              <a:tblGrid>
                <a:gridCol w="4152960"/>
                <a:gridCol w="4127400"/>
              </a:tblGrid>
              <a:tr h="414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.08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6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50920" y="2276640"/>
          <a:ext cx="8569080" cy="4005000"/>
        </p:xfrm>
        <a:graphic>
          <a:graphicData uri="http://schemas.openxmlformats.org/drawingml/2006/table">
            <a:tbl>
              <a:tblPr/>
              <a:tblGrid>
                <a:gridCol w="1125360"/>
                <a:gridCol w="2973600"/>
                <a:gridCol w="966600"/>
                <a:gridCol w="536760"/>
                <a:gridCol w="969840"/>
                <a:gridCol w="477720"/>
                <a:gridCol w="970200"/>
                <a:gridCol w="549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20 62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лиев хлорид и химични или минерални торове съдържащи азот, фосфор и калий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125360"/>
          <a:ext cx="8435880" cy="1355400"/>
        </p:xfrm>
        <a:graphic>
          <a:graphicData uri="http://schemas.openxmlformats.org/drawingml/2006/table">
            <a:tbl>
              <a:tblPr/>
              <a:tblGrid>
                <a:gridCol w="4230720"/>
                <a:gridCol w="4205160"/>
              </a:tblGrid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04.2006 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51 - 48,19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2%, 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, 6,5%, 7.5% и 8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50920" y="2492280"/>
          <a:ext cx="8435880" cy="3960720"/>
        </p:xfrm>
        <a:graphic>
          <a:graphicData uri="http://schemas.openxmlformats.org/drawingml/2006/table">
            <a:tbl>
              <a:tblPr/>
              <a:tblGrid>
                <a:gridCol w="1108080"/>
                <a:gridCol w="2927160"/>
                <a:gridCol w="952560"/>
                <a:gridCol w="527040"/>
                <a:gridCol w="954000"/>
                <a:gridCol w="471600"/>
                <a:gridCol w="955800"/>
                <a:gridCol w="539640"/>
              </a:tblGrid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4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4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6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0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6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6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90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90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Активен въглен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8360" y="476280"/>
          <a:ext cx="8351640" cy="1872720"/>
        </p:xfrm>
        <a:graphic>
          <a:graphicData uri="http://schemas.openxmlformats.org/drawingml/2006/table">
            <a:tbl>
              <a:tblPr/>
              <a:tblGrid>
                <a:gridCol w="5040360"/>
                <a:gridCol w="3311280"/>
              </a:tblGrid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6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3 EUR/T (net weight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9280" y="2349360"/>
          <a:ext cx="8507520" cy="3908520"/>
        </p:xfrm>
        <a:graphic>
          <a:graphicData uri="http://schemas.openxmlformats.org/drawingml/2006/table">
            <a:tbl>
              <a:tblPr/>
              <a:tblGrid>
                <a:gridCol w="1243080"/>
                <a:gridCol w="2901960"/>
                <a:gridCol w="942840"/>
                <a:gridCol w="524160"/>
                <a:gridCol w="946080"/>
                <a:gridCol w="466560"/>
                <a:gridCol w="946440"/>
                <a:gridCol w="536400"/>
              </a:tblGrid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2 1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омбинации от хладилници и фризери, снабдени с отделни външни врати, различни от тези за домакински це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2133720"/>
          <a:ext cx="8291520" cy="4348080"/>
        </p:xfrm>
        <a:graphic>
          <a:graphicData uri="http://schemas.openxmlformats.org/drawingml/2006/table">
            <a:tbl>
              <a:tblPr/>
              <a:tblGrid>
                <a:gridCol w="1089000"/>
                <a:gridCol w="2878200"/>
                <a:gridCol w="938160"/>
                <a:gridCol w="514440"/>
                <a:gridCol w="939600"/>
                <a:gridCol w="465120"/>
                <a:gridCol w="934920"/>
                <a:gridCol w="532080"/>
              </a:tblGrid>
              <a:tr h="37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18 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8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0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2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5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3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8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2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3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1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24000" y="620640"/>
          <a:ext cx="8291520" cy="1577880"/>
        </p:xfrm>
        <a:graphic>
          <a:graphicData uri="http://schemas.openxmlformats.org/drawingml/2006/table">
            <a:tbl>
              <a:tblPr/>
              <a:tblGrid>
                <a:gridCol w="6114960"/>
                <a:gridCol w="21765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 - 1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Пресни или охладени и замръзени пъстърви и сьомг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68360" y="620640"/>
          <a:ext cx="8075520" cy="2087280"/>
        </p:xfrm>
        <a:graphic>
          <a:graphicData uri="http://schemas.openxmlformats.org/drawingml/2006/table">
            <a:tbl>
              <a:tblPr/>
              <a:tblGrid>
                <a:gridCol w="4041720"/>
                <a:gridCol w="4033800"/>
              </a:tblGrid>
              <a:tr h="482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Минимални цени + мит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% и 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, 10% и 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24000" y="2637000"/>
          <a:ext cx="8362800" cy="3389040"/>
        </p:xfrm>
        <a:graphic>
          <a:graphicData uri="http://schemas.openxmlformats.org/drawingml/2006/table">
            <a:tbl>
              <a:tblPr/>
              <a:tblGrid>
                <a:gridCol w="1096920"/>
                <a:gridCol w="2903400"/>
                <a:gridCol w="942840"/>
                <a:gridCol w="524160"/>
                <a:gridCol w="946080"/>
                <a:gridCol w="468360"/>
                <a:gridCol w="944640"/>
                <a:gridCol w="536400"/>
              </a:tblGrid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2 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11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19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22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4 10 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Н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4 20 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Безшевни тръби и кухи профили от желязо или стома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920" y="2349360"/>
          <a:ext cx="8364600" cy="4103640"/>
        </p:xfrm>
        <a:graphic>
          <a:graphicData uri="http://schemas.openxmlformats.org/drawingml/2006/table">
            <a:tbl>
              <a:tblPr/>
              <a:tblGrid>
                <a:gridCol w="1098360"/>
                <a:gridCol w="2903760"/>
                <a:gridCol w="946080"/>
                <a:gridCol w="520560"/>
                <a:gridCol w="946080"/>
                <a:gridCol w="470160"/>
                <a:gridCol w="942840"/>
                <a:gridCol w="536760"/>
              </a:tblGrid>
              <a:tr h="50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10 1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0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4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1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2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1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1 99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 7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 7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9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9 9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4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2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 0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9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 1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95280" y="620640"/>
          <a:ext cx="8218440" cy="1871280"/>
        </p:xfrm>
        <a:graphic>
          <a:graphicData uri="http://schemas.openxmlformats.org/drawingml/2006/table">
            <a:tbl>
              <a:tblPr/>
              <a:tblGrid>
                <a:gridCol w="4065480"/>
                <a:gridCol w="4152960"/>
              </a:tblGrid>
              <a:tr h="432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2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8% - 38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Бариев карбонат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620640"/>
          <a:ext cx="8291160" cy="1728360"/>
        </p:xfrm>
        <a:graphic>
          <a:graphicData uri="http://schemas.openxmlformats.org/drawingml/2006/table">
            <a:tbl>
              <a:tblPr/>
              <a:tblGrid>
                <a:gridCol w="5420160"/>
                <a:gridCol w="2871000"/>
              </a:tblGrid>
              <a:tr h="25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3 - 56,4 E/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5280" y="2349360"/>
          <a:ext cx="8362800" cy="3625560"/>
        </p:xfrm>
        <a:graphic>
          <a:graphicData uri="http://schemas.openxmlformats.org/drawingml/2006/table">
            <a:tbl>
              <a:tblPr/>
              <a:tblGrid>
                <a:gridCol w="1120680"/>
                <a:gridCol w="2789280"/>
                <a:gridCol w="965160"/>
                <a:gridCol w="533520"/>
                <a:gridCol w="965160"/>
                <a:gridCol w="477720"/>
                <a:gridCol w="965160"/>
                <a:gridCol w="546120"/>
              </a:tblGrid>
              <a:tr h="45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36 6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илиций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50920" y="2565360"/>
          <a:ext cx="8424360" cy="3887640"/>
        </p:xfrm>
        <a:graphic>
          <a:graphicData uri="http://schemas.openxmlformats.org/drawingml/2006/table">
            <a:tbl>
              <a:tblPr/>
              <a:tblGrid>
                <a:gridCol w="1088640"/>
                <a:gridCol w="2879280"/>
                <a:gridCol w="939960"/>
                <a:gridCol w="546120"/>
                <a:gridCol w="940320"/>
                <a:gridCol w="542880"/>
                <a:gridCol w="941040"/>
                <a:gridCol w="546120"/>
              </a:tblGrid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04 69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68360" y="476280"/>
          <a:ext cx="8280000" cy="1998720"/>
        </p:xfrm>
        <a:graphic>
          <a:graphicData uri="http://schemas.openxmlformats.org/drawingml/2006/table">
            <a:tbl>
              <a:tblPr/>
              <a:tblGrid>
                <a:gridCol w="4953600"/>
                <a:gridCol w="3326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3.2009 - Китай                                     25.12.2008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% - Китай                                                          22,7% - 23,6%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илициеви карби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5280" y="476280"/>
          <a:ext cx="8208720" cy="1730520"/>
        </p:xfrm>
        <a:graphic>
          <a:graphicData uri="http://schemas.openxmlformats.org/drawingml/2006/table">
            <a:tbl>
              <a:tblPr/>
              <a:tblGrid>
                <a:gridCol w="5172480"/>
                <a:gridCol w="3036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3% - 5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24000" y="2276640"/>
          <a:ext cx="8289720" cy="4104720"/>
        </p:xfrm>
        <a:graphic>
          <a:graphicData uri="http://schemas.openxmlformats.org/drawingml/2006/table">
            <a:tbl>
              <a:tblPr/>
              <a:tblGrid>
                <a:gridCol w="1089000"/>
                <a:gridCol w="2877840"/>
                <a:gridCol w="933480"/>
                <a:gridCol w="517680"/>
                <a:gridCol w="939960"/>
                <a:gridCol w="461880"/>
                <a:gridCol w="938160"/>
                <a:gridCol w="531720"/>
              </a:tblGrid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9 2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интове, болтове, гайки, куки с резба, нитове, щивтове, шайби и др. подобни артикули от неръждаема стома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620640"/>
          <a:ext cx="8686800" cy="1577880"/>
        </p:xfrm>
        <a:graphic>
          <a:graphicData uri="http://schemas.openxmlformats.org/drawingml/2006/table">
            <a:tbl>
              <a:tblPr/>
              <a:tblGrid>
                <a:gridCol w="4476600"/>
                <a:gridCol w="42102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.11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7% - 27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50920" y="2276640"/>
          <a:ext cx="8435880" cy="4247640"/>
        </p:xfrm>
        <a:graphic>
          <a:graphicData uri="http://schemas.openxmlformats.org/drawingml/2006/table">
            <a:tbl>
              <a:tblPr/>
              <a:tblGrid>
                <a:gridCol w="1081080"/>
                <a:gridCol w="2954160"/>
                <a:gridCol w="952560"/>
                <a:gridCol w="525600"/>
                <a:gridCol w="955440"/>
                <a:gridCol w="471600"/>
                <a:gridCol w="955800"/>
                <a:gridCol w="539640"/>
              </a:tblGrid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2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4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5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6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ногожични кабели, без покритие или само поцинковани, превишаващи 3 мм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8360" y="692280"/>
          <a:ext cx="8362800" cy="1790640"/>
        </p:xfrm>
        <a:graphic>
          <a:graphicData uri="http://schemas.openxmlformats.org/drawingml/2006/table">
            <a:tbl>
              <a:tblPr/>
              <a:tblGrid>
                <a:gridCol w="4973760"/>
                <a:gridCol w="33890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8.2006 - Русия и Турция             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.11.2010 - Всички останали           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8% - 60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50920" y="2565360"/>
          <a:ext cx="8435880" cy="4060800"/>
        </p:xfrm>
        <a:graphic>
          <a:graphicData uri="http://schemas.openxmlformats.org/drawingml/2006/table">
            <a:tbl>
              <a:tblPr/>
              <a:tblGrid>
                <a:gridCol w="1108080"/>
                <a:gridCol w="2927160"/>
                <a:gridCol w="952560"/>
                <a:gridCol w="527040"/>
                <a:gridCol w="954000"/>
                <a:gridCol w="471600"/>
                <a:gridCol w="955800"/>
                <a:gridCol w="5396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5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9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ВСТРА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РО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2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Халогено-, сулфо-, нитро-, нитрозопроизводни и техните со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68360" y="549360"/>
          <a:ext cx="8435880" cy="1871280"/>
        </p:xfrm>
        <a:graphic>
          <a:graphicData uri="http://schemas.openxmlformats.org/drawingml/2006/table">
            <a:tbl>
              <a:tblPr/>
              <a:tblGrid>
                <a:gridCol w="4491000"/>
                <a:gridCol w="3944880"/>
              </a:tblGrid>
              <a:tr h="43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7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1% - 3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79280" y="2492280"/>
          <a:ext cx="8507160" cy="3651480"/>
        </p:xfrm>
        <a:graphic>
          <a:graphicData uri="http://schemas.openxmlformats.org/drawingml/2006/table">
            <a:tbl>
              <a:tblPr/>
              <a:tblGrid>
                <a:gridCol w="1117080"/>
                <a:gridCol w="2952360"/>
                <a:gridCol w="959040"/>
                <a:gridCol w="533160"/>
                <a:gridCol w="962640"/>
                <a:gridCol w="474480"/>
                <a:gridCol w="963000"/>
                <a:gridCol w="545400"/>
              </a:tblGrid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21 42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напи, промазани от полиетилен или полипропилен и от други синтетични влак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95280" y="620640"/>
          <a:ext cx="8280360" cy="1577880"/>
        </p:xfrm>
        <a:graphic>
          <a:graphicData uri="http://schemas.openxmlformats.org/drawingml/2006/table">
            <a:tbl>
              <a:tblPr/>
              <a:tblGrid>
                <a:gridCol w="4611600"/>
                <a:gridCol w="36687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9.10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,0% - 82,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5280" y="2421000"/>
          <a:ext cx="8280360" cy="4101840"/>
        </p:xfrm>
        <a:graphic>
          <a:graphicData uri="http://schemas.openxmlformats.org/drawingml/2006/table">
            <a:tbl>
              <a:tblPr/>
              <a:tblGrid>
                <a:gridCol w="1087200"/>
                <a:gridCol w="2874960"/>
                <a:gridCol w="932040"/>
                <a:gridCol w="517320"/>
                <a:gridCol w="938520"/>
                <a:gridCol w="461880"/>
                <a:gridCol w="937080"/>
                <a:gridCol w="531360"/>
              </a:tblGrid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49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49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50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50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инена кисели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476280"/>
          <a:ext cx="8291520" cy="1873080"/>
        </p:xfrm>
        <a:graphic>
          <a:graphicData uri="http://schemas.openxmlformats.org/drawingml/2006/table">
            <a:tbl>
              <a:tblPr/>
              <a:tblGrid>
                <a:gridCol w="5935680"/>
                <a:gridCol w="235584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34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0920" y="2133720"/>
          <a:ext cx="8508600" cy="4122720"/>
        </p:xfrm>
        <a:graphic>
          <a:graphicData uri="http://schemas.openxmlformats.org/drawingml/2006/table">
            <a:tbl>
              <a:tblPr/>
              <a:tblGrid>
                <a:gridCol w="1117080"/>
                <a:gridCol w="2954160"/>
                <a:gridCol w="958320"/>
                <a:gridCol w="531720"/>
                <a:gridCol w="963720"/>
                <a:gridCol w="474840"/>
                <a:gridCol w="963360"/>
                <a:gridCol w="545400"/>
              </a:tblGrid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18 12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елевизионни камери, цветни видеомонитори и определени части за тях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95280" y="549360"/>
          <a:ext cx="8291520" cy="1577880"/>
        </p:xfrm>
        <a:graphic>
          <a:graphicData uri="http://schemas.openxmlformats.org/drawingml/2006/table">
            <a:tbl>
              <a:tblPr/>
              <a:tblGrid>
                <a:gridCol w="4616280"/>
                <a:gridCol w="3675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,7% - 200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1%; 3,7%; 5% и 14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; 6,1% и 14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24000" y="2205000"/>
          <a:ext cx="8424360" cy="4366800"/>
        </p:xfrm>
        <a:graphic>
          <a:graphicData uri="http://schemas.openxmlformats.org/drawingml/2006/table">
            <a:tbl>
              <a:tblPr/>
              <a:tblGrid>
                <a:gridCol w="1105560"/>
                <a:gridCol w="2924280"/>
                <a:gridCol w="950760"/>
                <a:gridCol w="525960"/>
                <a:gridCol w="953640"/>
                <a:gridCol w="471600"/>
                <a:gridCol w="953640"/>
                <a:gridCol w="538920"/>
              </a:tblGrid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5 3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0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14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9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2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5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1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9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5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9 90 8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9 90 88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37 10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6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1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3 89 95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ветни телевизионни апарат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95280" y="476280"/>
          <a:ext cx="8291520" cy="1872720"/>
        </p:xfrm>
        <a:graphic>
          <a:graphicData uri="http://schemas.openxmlformats.org/drawingml/2006/table">
            <a:tbl>
              <a:tblPr/>
              <a:tblGrid>
                <a:gridCol w="5246640"/>
                <a:gridCol w="3044880"/>
              </a:tblGrid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.08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25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0920" y="2276640"/>
          <a:ext cx="8508960" cy="4176360"/>
        </p:xfrm>
        <a:graphic>
          <a:graphicData uri="http://schemas.openxmlformats.org/drawingml/2006/table">
            <a:tbl>
              <a:tblPr/>
              <a:tblGrid>
                <a:gridCol w="1117440"/>
                <a:gridCol w="2952720"/>
                <a:gridCol w="960480"/>
                <a:gridCol w="531720"/>
                <a:gridCol w="963720"/>
                <a:gridCol w="474840"/>
                <a:gridCol w="963360"/>
                <a:gridCol w="544680"/>
              </a:tblGrid>
              <a:tr h="40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2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 7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 3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4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 2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 4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0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9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2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8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8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2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2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6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4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7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Дезинфекциозни средства на основата на халогенирани съединения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9640" y="836640"/>
          <a:ext cx="8064360" cy="1577880"/>
        </p:xfrm>
        <a:graphic>
          <a:graphicData uri="http://schemas.openxmlformats.org/drawingml/2006/table">
            <a:tbl>
              <a:tblPr/>
              <a:tblGrid>
                <a:gridCol w="4333680"/>
                <a:gridCol w="37306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8.10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4% - 4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95280" y="2349360"/>
          <a:ext cx="8291520" cy="4174920"/>
        </p:xfrm>
        <a:graphic>
          <a:graphicData uri="http://schemas.openxmlformats.org/drawingml/2006/table">
            <a:tbl>
              <a:tblPr/>
              <a:tblGrid>
                <a:gridCol w="1089000"/>
                <a:gridCol w="2878200"/>
                <a:gridCol w="934920"/>
                <a:gridCol w="517680"/>
                <a:gridCol w="939600"/>
                <a:gridCol w="462240"/>
                <a:gridCol w="938160"/>
                <a:gridCol w="531720"/>
              </a:tblGrid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33 69 8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8 40 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ЪРВАТС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пално бельо, покривки и кърпи за маса, за тоалет или за кухня от памук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620640"/>
          <a:ext cx="8362800" cy="1871280"/>
        </p:xfrm>
        <a:graphic>
          <a:graphicData uri="http://schemas.openxmlformats.org/drawingml/2006/table">
            <a:tbl>
              <a:tblPr/>
              <a:tblGrid>
                <a:gridCol w="3639960"/>
                <a:gridCol w="2332080"/>
                <a:gridCol w="2390760"/>
              </a:tblGrid>
              <a:tr h="3740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3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 - 10,4% - 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,1% - Пакиста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% и 21,8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4000" y="2421000"/>
          <a:ext cx="8424720" cy="4103280"/>
        </p:xfrm>
        <a:graphic>
          <a:graphicData uri="http://schemas.openxmlformats.org/drawingml/2006/table">
            <a:tbl>
              <a:tblPr/>
              <a:tblGrid>
                <a:gridCol w="1128600"/>
                <a:gridCol w="2806560"/>
                <a:gridCol w="973080"/>
                <a:gridCol w="535320"/>
                <a:gridCol w="974520"/>
                <a:gridCol w="482760"/>
                <a:gridCol w="974520"/>
                <a:gridCol w="549360"/>
              </a:tblGrid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2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22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3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32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ПАKИ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инадлежности за тръбопроводи (съединителни елементи за челно заваряване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95280" y="692280"/>
          <a:ext cx="8291520" cy="1577880"/>
        </p:xfrm>
        <a:graphic>
          <a:graphicData uri="http://schemas.openxmlformats.org/drawingml/2006/table">
            <a:tbl>
              <a:tblPr/>
              <a:tblGrid>
                <a:gridCol w="4883040"/>
                <a:gridCol w="34084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7.06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,3%  - 7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2276640"/>
          <a:ext cx="8506800" cy="4343400"/>
        </p:xfrm>
        <a:graphic>
          <a:graphicData uri="http://schemas.openxmlformats.org/drawingml/2006/table">
            <a:tbl>
              <a:tblPr/>
              <a:tblGrid>
                <a:gridCol w="1117080"/>
                <a:gridCol w="2952360"/>
                <a:gridCol w="959760"/>
                <a:gridCol w="532080"/>
                <a:gridCol w="963000"/>
                <a:gridCol w="474120"/>
                <a:gridCol w="963000"/>
                <a:gridCol w="545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3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5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3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1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9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9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ФИЛИПИH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олфрамови карби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60280"/>
          <a:ext cx="8218440" cy="2160360"/>
        </p:xfrm>
        <a:graphic>
          <a:graphicData uri="http://schemas.openxmlformats.org/drawingml/2006/table">
            <a:tbl>
              <a:tblPr/>
              <a:tblGrid>
                <a:gridCol w="5237280"/>
                <a:gridCol w="2981160"/>
              </a:tblGrid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01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50920" y="2349360"/>
          <a:ext cx="8435880" cy="3926160"/>
        </p:xfrm>
        <a:graphic>
          <a:graphicData uri="http://schemas.openxmlformats.org/drawingml/2006/table">
            <a:tbl>
              <a:tblPr/>
              <a:tblGrid>
                <a:gridCol w="1104840"/>
                <a:gridCol w="2913120"/>
                <a:gridCol w="952560"/>
                <a:gridCol w="554040"/>
                <a:gridCol w="950760"/>
                <a:gridCol w="471600"/>
                <a:gridCol w="950760"/>
                <a:gridCol w="538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9 9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рбамид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2349360"/>
          <a:ext cx="8495640" cy="4032360"/>
        </p:xfrm>
        <a:graphic>
          <a:graphicData uri="http://schemas.openxmlformats.org/drawingml/2006/table">
            <a:tbl>
              <a:tblPr/>
              <a:tblGrid>
                <a:gridCol w="1101240"/>
                <a:gridCol w="2916000"/>
                <a:gridCol w="948600"/>
                <a:gridCol w="524160"/>
                <a:gridCol w="951120"/>
                <a:gridCol w="551880"/>
                <a:gridCol w="951120"/>
                <a:gridCol w="551520"/>
              </a:tblGrid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10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 9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4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10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 7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4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9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 0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1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 6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ХЪРВАТСК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6836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362560"/>
                <a:gridCol w="2855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81 EUR/T - 21,43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ръби, заварени с кръгло напречно сечение от желязо или нелегирани стомани - "водогазопроводни"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24000" y="2421000"/>
          <a:ext cx="8495640" cy="4084560"/>
        </p:xfrm>
        <a:graphic>
          <a:graphicData uri="http://schemas.openxmlformats.org/drawingml/2006/table">
            <a:tbl>
              <a:tblPr/>
              <a:tblGrid>
                <a:gridCol w="1116000"/>
                <a:gridCol w="2948040"/>
                <a:gridCol w="961200"/>
                <a:gridCol w="528840"/>
                <a:gridCol w="961200"/>
                <a:gridCol w="477720"/>
                <a:gridCol w="957960"/>
                <a:gridCol w="544680"/>
              </a:tblGrid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4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2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9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4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7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5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9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77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Н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5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5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8360" y="765000"/>
          <a:ext cx="8218440" cy="1577880"/>
        </p:xfrm>
        <a:graphic>
          <a:graphicData uri="http://schemas.openxmlformats.org/drawingml/2006/table">
            <a:tbl>
              <a:tblPr/>
              <a:tblGrid>
                <a:gridCol w="4692600"/>
                <a:gridCol w="35258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9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% - 44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нков оксид, цинков пероксид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2276640"/>
          <a:ext cx="8424720" cy="4125600"/>
        </p:xfrm>
        <a:graphic>
          <a:graphicData uri="http://schemas.openxmlformats.org/drawingml/2006/table">
            <a:tbl>
              <a:tblPr/>
              <a:tblGrid>
                <a:gridCol w="1106280"/>
                <a:gridCol w="2921040"/>
                <a:gridCol w="957240"/>
                <a:gridCol w="522360"/>
                <a:gridCol w="954000"/>
                <a:gridCol w="473040"/>
                <a:gridCol w="951120"/>
                <a:gridCol w="539640"/>
              </a:tblGrid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17 0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9528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702400"/>
                <a:gridCol w="2516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6.03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9% - 2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нков оксид смесен със силициев двуокис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865840"/>
                <a:gridCol w="2352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.9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79280" y="2276640"/>
          <a:ext cx="8507520" cy="4122720"/>
        </p:xfrm>
        <a:graphic>
          <a:graphicData uri="http://schemas.openxmlformats.org/drawingml/2006/table">
            <a:tbl>
              <a:tblPr/>
              <a:tblGrid>
                <a:gridCol w="1117800"/>
                <a:gridCol w="2952720"/>
                <a:gridCol w="957240"/>
                <a:gridCol w="533520"/>
                <a:gridCol w="961920"/>
                <a:gridCol w="476280"/>
                <a:gridCol w="961920"/>
                <a:gridCol w="546120"/>
              </a:tblGrid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24 90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 8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5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2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4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9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7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елосипе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2421000"/>
          <a:ext cx="8569080" cy="3960360"/>
        </p:xfrm>
        <a:graphic>
          <a:graphicData uri="http://schemas.openxmlformats.org/drawingml/2006/table">
            <a:tbl>
              <a:tblPr/>
              <a:tblGrid>
                <a:gridCol w="1144800"/>
                <a:gridCol w="2860920"/>
                <a:gridCol w="990000"/>
                <a:gridCol w="545040"/>
                <a:gridCol w="987120"/>
                <a:gridCol w="491760"/>
                <a:gridCol w="990000"/>
                <a:gridCol w="55944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2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11280" y="692280"/>
          <a:ext cx="8137440" cy="1558800"/>
        </p:xfrm>
        <a:graphic>
          <a:graphicData uri="http://schemas.openxmlformats.org/drawingml/2006/table">
            <a:tbl>
              <a:tblPr/>
              <a:tblGrid>
                <a:gridCol w="4038480"/>
                <a:gridCol w="1989000"/>
                <a:gridCol w="21099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,5% - К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,8 - 34,5% - 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Части за велосипеди (рамки и ви                                                                                                                 лки, главини, спирачки и педал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2421000"/>
          <a:ext cx="8497800" cy="3884400"/>
        </p:xfrm>
        <a:graphic>
          <a:graphicData uri="http://schemas.openxmlformats.org/drawingml/2006/table">
            <a:tbl>
              <a:tblPr/>
              <a:tblGrid>
                <a:gridCol w="1138320"/>
                <a:gridCol w="2831760"/>
                <a:gridCol w="984240"/>
                <a:gridCol w="536760"/>
                <a:gridCol w="984240"/>
                <a:gridCol w="485640"/>
                <a:gridCol w="982800"/>
                <a:gridCol w="55404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1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8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9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8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4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0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0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0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6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6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 8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ИHГАПУ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692280"/>
          <a:ext cx="8362800" cy="1577880"/>
        </p:xfrm>
        <a:graphic>
          <a:graphicData uri="http://schemas.openxmlformats.org/drawingml/2006/table">
            <a:tbl>
              <a:tblPr/>
              <a:tblGrid>
                <a:gridCol w="4592520"/>
                <a:gridCol w="37702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Изделия отляти от чугун, желязо или стомана (люкове за шахти и артикули използвани за канализационни системи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2924280"/>
          <a:ext cx="8424720" cy="3528720"/>
        </p:xfrm>
        <a:graphic>
          <a:graphicData uri="http://schemas.openxmlformats.org/drawingml/2006/table">
            <a:tbl>
              <a:tblPr/>
              <a:tblGrid>
                <a:gridCol w="1152360"/>
                <a:gridCol w="2784600"/>
                <a:gridCol w="974520"/>
                <a:gridCol w="532080"/>
                <a:gridCol w="974520"/>
                <a:gridCol w="484200"/>
                <a:gridCol w="973080"/>
                <a:gridCol w="549360"/>
              </a:tblGrid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5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9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95280" y="981000"/>
          <a:ext cx="8291520" cy="1881360"/>
        </p:xfrm>
        <a:graphic>
          <a:graphicData uri="http://schemas.openxmlformats.org/drawingml/2006/table">
            <a:tbl>
              <a:tblPr/>
              <a:tblGrid>
                <a:gridCol w="4133880"/>
                <a:gridCol w="41576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47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Гюдери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2421000"/>
          <a:ext cx="8424360" cy="3838680"/>
        </p:xfrm>
        <a:graphic>
          <a:graphicData uri="http://schemas.openxmlformats.org/drawingml/2006/table">
            <a:tbl>
              <a:tblPr/>
              <a:tblGrid>
                <a:gridCol w="1128960"/>
                <a:gridCol w="2809080"/>
                <a:gridCol w="973440"/>
                <a:gridCol w="533520"/>
                <a:gridCol w="973080"/>
                <a:gridCol w="483480"/>
                <a:gridCol w="973080"/>
                <a:gridCol w="549720"/>
              </a:tblGrid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14 10 1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14 10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95280" y="765000"/>
          <a:ext cx="8291520" cy="1511280"/>
        </p:xfrm>
        <a:graphic>
          <a:graphicData uri="http://schemas.openxmlformats.org/drawingml/2006/table">
            <a:tbl>
              <a:tblPr/>
              <a:tblGrid>
                <a:gridCol w="4721400"/>
                <a:gridCol w="3570120"/>
              </a:tblGrid>
              <a:tr h="22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Временна мярка до 16.0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5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09:51:12Z</dcterms:created>
  <dc:creator>ME</dc:creator>
  <dc:description/>
  <dc:language>en-US</dc:language>
  <cp:lastModifiedBy>Rumi Hristova</cp:lastModifiedBy>
  <dcterms:modified xsi:type="dcterms:W3CDTF">2007-01-23T15:33:24Z</dcterms:modified>
  <cp:revision>83</cp:revision>
  <dc:subject/>
  <dc:title>Slide 1</dc:title>
</cp:coreProperties>
</file>