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D0B-A979-470C-B280-D9DEBE79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7FD-960A-4CE5-973A-742B3507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FA2-2255-46E1-9DB1-680C6A84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736-489F-47F1-9B46-8794AAB0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1EFE-AFEF-4B71-8706-5C4ADAE3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E285-0E05-4F06-BDBD-D2AA07F8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1878-A8ED-4B1A-91CB-C6576082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5792-C350-45C8-A1CC-CC0C60AD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ABBE-1DDC-468D-9342-48102578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F02F-62D5-4ACB-8218-53F9C19B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86B8-D3D6-4F48-ACE1-0CB22E7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636-ECC9-426D-8337-240118AD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F359-4614-4849-B86F-8C4E083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ECCC-BDEC-44E2-9982-5668C221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E8D3-724F-4C71-8D5F-A96DA3A0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78CB-8B2A-42E5-9E58-51091DE0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83AA-01C2-4973-B95E-AB185A7B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ABA-36D8-4D88-AFDE-D74B4C44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A0A-A2B0-4EB8-8A8F-7405178F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88F-B067-4CBA-B59A-5321BC08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93E-5076-4B56-A87F-0B43A4D4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286-302E-45D8-8905-9317694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F9D-09C5-4126-B6D5-17B4681A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688-2548-439C-8B3A-78350C31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8F47-9C0C-4E0E-9552-B72A8DEFE0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C74C-0C28-440D-B4CA-07577096A7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 1.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анелният” период на строеж - 1960-1990 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ро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я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на панелните жилищни комплекси в страната - 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роят на панелните блокове в страната - 11,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роят на панелните жилища в страната - 787,096 (83%-в градовете - регионални центрове и по-големите градов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оцентът на “частна” собственост върху панелните жилища - 96,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щият брой на живущите в панелни жилища -  &gt; 2,200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щата панелна жилищна площ кв. м.- &gt; 40,000,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щото сегашно специфично енергопотребление за отопляване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на панелната жилищна площ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 за топла вода - &gt;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200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Wh/кв. м./го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щата сегашна специфична цена за отопление на жилищната площ в панелните блокове - &gt; 1 Евро / кв. м. / го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EEA-Logo" descr=""/>
          <p:cNvPicPr/>
          <p:nvPr/>
        </p:nvPicPr>
        <p:blipFill>
          <a:blip r:embed="rId1"/>
          <a:stretch/>
        </p:blipFill>
        <p:spPr>
          <a:xfrm>
            <a:off x="7772400" y="0"/>
            <a:ext cx="838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 2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           СЪЩЕСТВУВАЩИЯТ ЖИЛИЩЕН СГРАДЕН ФОНД В СТРАНАТА 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гулативната законодателна Национална рамка за обновяване на съществуващите блокове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гулативната финансово-икономическа Национална рамка за обновяване на съществуващите блокове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гулативната технико-технологическа Национална рамка за обновяване на съществуващите блокове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гулативната собственическо-договорна Национална рамка за обновяване на съществуващите блокове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EEA-Logo" descr=""/>
          <p:cNvPicPr/>
          <p:nvPr/>
        </p:nvPicPr>
        <p:blipFill>
          <a:blip r:embed="rId1"/>
          <a:stretch/>
        </p:blipFill>
        <p:spPr>
          <a:xfrm>
            <a:off x="7848720" y="0"/>
            <a:ext cx="761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3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Някои съществуващи Европейски и Национални рамкови системи, програми, проекти и инициативи, свързани с обновяването на съществуващия сграден фонд в Република Българ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Директиви: 93/76/ЕЕС “СО2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VE”, 2002/91/ЕС “Енергийни характ. на сгради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инландия - наблюдение на съществуващите сгради с указания за обитателит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ранция - общото и енергийно състояние на сградите определя площ и це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ания/Русия - общ проект за многофункционални нови леки скатни покрив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олски Парламент-Национална програма за обновяване на панелните сград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АР демопроект за обновяване на 6 панелни блока в Радоми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АР демопроект за енергийна ефективност в панелни блокове с ТЕЦ в Пловди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ФАР демопроект за енергиен мениджмънт в обществени и жилищни сград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нициативата на МЕЕР за обновяване на съществуващите жилищни блоков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ектът на АЕЕ за програми и мерки в жилищния сектор, в рамките на 3-годишен план за действие към Национална програма по енергоспестява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ектът на АЕЕ за Национална програма по ВЕИ с пакет от предложения за инвестиционни проекти за слънчеви инсталации в съществуващи сград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EEA-Logo" descr=""/>
          <p:cNvPicPr/>
          <p:nvPr/>
        </p:nvPicPr>
        <p:blipFill>
          <a:blip r:embed="rId1"/>
          <a:stretch/>
        </p:blipFill>
        <p:spPr>
          <a:xfrm>
            <a:off x="7848720" y="0"/>
            <a:ext cx="761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4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гледните белези и доказателства за тежкото социално-икономическо положение на обитателите на панелните комплекси в страната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ъзможностите за законово юридическо представителство на живущите в панелните блокове като страна по различни договори за комплексното обновяване на сградите им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егашното състояние по собствеността в панелните комплекси &amp; блокове &amp;</a:t>
            </a:r>
            <a:r>
              <a:rPr b="1" lang="bg-BG" sz="2400" spc="-1" strike="noStrike">
                <a:solidFill>
                  <a:srgbClr val="000000"/>
                </a:solidFill>
                <a:latin typeface="Tahoma"/>
              </a:rPr>
              <a:t> апартаменти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EEA-Logo" descr=""/>
          <p:cNvPicPr/>
          <p:nvPr/>
        </p:nvPicPr>
        <p:blipFill>
          <a:blip r:embed="rId1"/>
          <a:stretch/>
        </p:blipFill>
        <p:spPr>
          <a:xfrm>
            <a:off x="7772400" y="0"/>
            <a:ext cx="762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 5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обходимостта от спешни действия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от страна на Национално отговорн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немандатна)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Междуведомствена работна група за изготвяне на Националната Програма по обновяване на съществуващия сграден фонд в страната и първоначално на панелните блокове, с основни законови, финансов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акцент върху финонсирането от трети страни)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, собственическо-договорни и технико-технологични аспекти по отношение н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ържавата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амите сгради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бствениците/наемателите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общините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оставчиците на енергия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различните изпълнители - ESCOs, с главна роля за професионалното обновяване на съществуващият сграден фонд  в  страната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EEA-Logo" descr=""/>
          <p:cNvPicPr/>
          <p:nvPr/>
        </p:nvPicPr>
        <p:blipFill>
          <a:blip r:embed="rId1"/>
          <a:stretch/>
        </p:blipFill>
        <p:spPr>
          <a:xfrm>
            <a:off x="7772400" y="0"/>
            <a:ext cx="762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6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нституциите и организациите в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Националната координационна група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създадена по проекта на АЕ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т програма SAVE - FRAMES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”Рамкови иновации за сградно обновяване – най-добри практики за обновяване на многофамилни жилищни сгради с акцент върху панелните блокове, строени след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Св. Война”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Министерства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МРРБ, МЕЕР, МОСВ, МФ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Професионални съюзи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на архитекти - САБ, обединение на българските инженери по климатична, отоплителна и хладилна техника, Софийска адвокатска колег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Университети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УАСГ, СУ “Св. Климент Охридски”, ТУ-Соф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 Фирми за строителство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Главболгарстрой, ЕЕ Тек, Филто-С, Компания за енергоспестяване, НИК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. Проектантски организаци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Главпроект, Софпроект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. БА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Централна лаборатория по физико-химическа механи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. Национално Сдружение на Българските Общин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. Централни банк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ОББ, Булбанк, Банка ДСК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GOs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– За Земята, Екогласност, ЕнЕфект -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членове на бъдещата Национална Междуведомствена група, заедно с главните меди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EEA-Logo" descr=""/>
          <p:cNvPicPr/>
          <p:nvPr/>
        </p:nvPicPr>
        <p:blipFill>
          <a:blip r:embed="rId1"/>
          <a:stretch/>
        </p:blipFill>
        <p:spPr>
          <a:xfrm>
            <a:off x="7848720" y="0"/>
            <a:ext cx="761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КОНФЕРЕНЦИЯ “ОТ ВАС ЗА ВАС” - 4.7.2003 Г. -                                                7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АГЕНЦИЯ ПО ЕНЕРГИЙНА ЕФЕКТИВНОСТ/арх. В. Димитров-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ОБНОВЯВАНЕТО НА ПАНЕЛНИТЕ БЛОКОВЕ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В БЪЛГАРИЯ-ДЪРЖАВЕН ПРИОРИТЕТ ЗА ОБНОВЯВАНЕТО НА          СЪЩЕСТВУВАЩИЯТ ЖИЛИЩЕН СГРАДЕН ФОНД В СТРАНАТА!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иректива № 2002 /  91 / ЕС от 16 Декември 2002 г. на Европейския  Парламент и на Съвета на Европейския Съюз за енергийните характеристики на сградите - истинско предизвикателство пред хармонизирането на Националното законодателство със “acquis”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Какви рамкови условия изисква процеса на масовото и периодично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дитиране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ертифициране и обновяване на сградите в страната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Как ще се организира и финансира този мащабен процес на подготовка, извършване, контролиране и оценяване на мащабните и динамични комплексни одити на съществуващите и нови сгради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 Каква ще бъде връзката между сградното сертифициране и свободният пазар на недвижими имоти - ако имате още много за извършване, за да достигнете необходимото ниво на комфорт, пазарната цена на сградата Ви съответно ще пад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  Ролята на Държавата в Договорирането с гарантиран резултат / финансирането от трети страни в ситуация на криз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  Ролята на Държавата за финансовото стимулиране на всички участващи страни в процесите на сертифициране и обновяване на сградит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EEA-Logo" descr=""/>
          <p:cNvPicPr/>
          <p:nvPr/>
        </p:nvPicPr>
        <p:blipFill>
          <a:blip r:embed="rId1"/>
          <a:stretch/>
        </p:blipFill>
        <p:spPr>
          <a:xfrm>
            <a:off x="7848720" y="0"/>
            <a:ext cx="761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09:20:46Z</dcterms:created>
  <dc:creator>dimitrov</dc:creator>
  <dc:description/>
  <dc:language>en-US</dc:language>
  <cp:lastModifiedBy>dimitrov</cp:lastModifiedBy>
  <cp:lastPrinted>2003-06-23T08:52:45Z</cp:lastPrinted>
  <dcterms:modified xsi:type="dcterms:W3CDTF">2003-06-23T09:02:22Z</dcterms:modified>
  <cp:revision>63</cp:revision>
  <dc:subject/>
  <dc:title>ЕНЕРГИЕН ФОРУМ 2003-ЗЛАТНИ ПЯСЪЦИ АГЕНЦИЯ ПО ЕНЕРГИЙНА ЕФЕКТИВНОСТ-АРХ.В ДИМИТРОВ  ОБНОВЯВАНЕ НА ПАНЕЛНИТЕ БЛОКОВЕ В РЕПУБЛИКА БЪЛГАРИЯ</dc:title>
</cp:coreProperties>
</file>