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992-1DFA-4D39-8C1E-75E7D582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850-FD1B-4827-8983-1AF3C04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E20-CFB3-4317-8B66-4DD3E16E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74E-CFCF-4201-B10C-FDF1343B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45E6-DAAA-43A8-A87A-215D5C66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A742-34A8-426F-9B5D-B990C1A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CADD-06D4-4645-8463-E983054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AE5-D985-4EA2-A91D-7FC7AB6F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BC59-1182-47DE-B4A5-82D08EEE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C78-EEBE-402E-A3C2-8B98952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AD63-D535-4D00-88F9-8EB808E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E09-280A-4BA6-AD79-6D2DA90E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6326-BC4C-4025-8E23-FB84C00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0BC-E9AA-4CFF-A52A-1D44B42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715F-9611-46A2-9083-30F5ADA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983E-402E-42BB-8130-4030CD57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8D6-DEA2-43B1-8394-8A4F4758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79D-08D7-4D0F-9D90-CC7F9E9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EA5-5225-4443-B9F8-8F3EA18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A6D-79DA-4439-A92E-9E793AE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27C-FEE7-4BDE-A704-BB84CE9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E44-AA79-4617-B384-3B7E81F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EED-D840-4ECB-BA5F-B0B362C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A23-20A8-4B93-8E59-23F2206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993C-3AA1-40D0-AE9E-8BABECA8E6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03A-D702-4CE6-9496-476FB599BD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 1.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анелният” период на строеж - 1960-1990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ро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я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на панелните жилищни комплекси в страната - 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роят на панелните блокове в страната - 11,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роят на панелните жилища в страната - 787,096 (83%-в градовете - регионални центрове и по-големите градов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оцентът на “частна” собственост върху панелните жилища - 96,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ият брой на живущите в панелни жилища -  &gt; 2,200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ата панелна жилищна площ кв. м.- &gt; 40,000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ото сегашно специфично енергопотребление за отопляване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на панелната жилищна площ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 за топла вода - &gt;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Wh/кв. м./г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ата сегашна специфична цена за отопление на жилищната площ в панелните блокове - &gt; 1 Евро / кв. м. / г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EEA-Logo" descr=""/>
          <p:cNvPicPr/>
          <p:nvPr/>
        </p:nvPicPr>
        <p:blipFill>
          <a:blip r:embed="rId1"/>
          <a:stretch/>
        </p:blipFill>
        <p:spPr>
          <a:xfrm>
            <a:off x="7772400" y="0"/>
            <a:ext cx="838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 2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           СЪЩЕСТВУВАЩИЯТ ЖИЛИЩЕН СГРАДЕН ФОНД В СТРАНАТА 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законодателн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финансово-икономическ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технико-технологическ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собственическо-договорн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3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якои съществуващи Европейски и Национални рамкови системи, програми, проекти и инициативи, свързани с обновяването на съществуващия сграден фонд в Република Българ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Директиви: 93/76/ЕЕС “СО2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VE”, 2002/91/ЕС “Енергийни характ. на сгради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инландия - наблюдение на съществуващите сгради с указания за обитателит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ранция - общото и енергийно състояние на сградите определя площ и це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ания/Русия - общ проект за многофункционални нови леки скатни покрив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лски Парламент-Национална програма за обновяване на панелните сград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Р демопроект за обновяване на 6 панелни блока в Радоми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Р демопроект за енергийна ефективност в панелни блокове с ТЕЦ в Пловди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Р демопроект за енергиен мениджмънт в обществени и жилищни сград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ициативата на МЕЕР за обновяване на съществуващите жилищни блоков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ектът на АЕЕ за програми и мерки в жилищния сектор, в рамките на 3-годишен план за действие към Национална програма по енергоспестява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ектът на АЕЕ за Национална програма по ВЕИ с пакет от предложения за инвестиционни проекти за слънчеви инсталации в съществуващи сград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4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гледните белези и доказателства за тежкото социално-икономическо положение на обитателите на панелните комплекси в страната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ъзможностите за законово юридическо представителство на живущите в панелните блокове като страна по различни договори за комплексното обновяване на сградите им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егашното състояние по собствеността в панелните комплекси &amp; блокове &amp;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 апартаменти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EEA-Logo" descr=""/>
          <p:cNvPicPr/>
          <p:nvPr/>
        </p:nvPicPr>
        <p:blipFill>
          <a:blip r:embed="rId1"/>
          <a:stretch/>
        </p:blipFill>
        <p:spPr>
          <a:xfrm>
            <a:off x="7772400" y="0"/>
            <a:ext cx="762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 5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обходимостта от спешни действия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от страна на Национално отговорн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немандатна)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Междуведомствена работна група за изготвяне на Националната Програма по обновяване на съществуващия сграден фонд в страната и първоначално на панелните блокове, с основни законови, финансов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акцент върху финонсирането от трети страни)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, собственическо-договорни и технико-технологични аспекти по отношение н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ържавата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амите сгради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бствениците/наемателите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бщините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ставчиците на енергия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различните изпълнители - ESCOs, с главна роля за професионалното обновяване на съществуващият сграден фонд  в  страната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EEA-Logo" descr=""/>
          <p:cNvPicPr/>
          <p:nvPr/>
        </p:nvPicPr>
        <p:blipFill>
          <a:blip r:embed="rId1"/>
          <a:stretch/>
        </p:blipFill>
        <p:spPr>
          <a:xfrm>
            <a:off x="7772400" y="0"/>
            <a:ext cx="762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6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нституциите и организациите в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Националната координационна група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създадена по проекта на АЕ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 програма SAVE - FRAMES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”Рамкови иновации за сградно обновяване – най-добри практики за обновяване на многофамилни жилищни сгради с акцент върху панелните блокове, строени сле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Св. Война”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Министерства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МРРБ, МЕЕР, МОСВ, МФ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Професионални съюзи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на архитекти - САБ, обединение на българските инженери по климатична, отоплителна и хладилна техника, Софийска адвокатска колег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Университети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УАСГ, СУ “Св. Климент Охридски”, ТУ-Соф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 Фирми за строителство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Главболгарстрой, ЕЕ Тек, Филто-С, Компания за енергоспестяване, НИК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. Проектантски организаци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Главпроект, Софпроек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 БА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Централна лаборатория по физико-химическа механи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 Национално Сдружение на Българските Общин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 Централни банк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ОББ, Булбанк, Банка ДС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GOs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– За Земята, Екогласност, ЕнЕфект -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членове на бъдещата Национална Междуведомствена група, заедно с главните меди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7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ректива № 2002 /  91 / ЕС от 16 Декември 2002 г. на Европейския  Парламент и на Съвета на Европейския Съюз за енергийните характеристики на сградите - истинско предизвикателство пред хармонизирането на Националното законодателство със “acquis”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Какви рамкови условия изисква процеса на масовото и периодично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итиране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тифициране и обновяване на сградите в странат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Как ще се организира и финансира този мащабен процес на подготовка, извършване, контролиране и оценяване на мащабните и динамични комплексни одити на съществуващите и нови сград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 Каква ще бъде връзката между сградното сертифициране и свободният пазар на недвижими имоти - ако имате още много за извършване, за да достигнете необходимото ниво на комфорт, пазарната цена на сградата Ви съответно ще па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  Ролята на Държавата в Договорирането с гарантиран резултат / финансирането от трети страни в ситуация на криз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  Ролята на Държавата за финансовото стимулиране на всички участващи страни в процесите на сертифициране и обновяване на сградит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9:20:46Z</dcterms:created>
  <dc:creator>dimitrov</dc:creator>
  <dc:description/>
  <dc:language>en-US</dc:language>
  <cp:lastModifiedBy>dimitrov</cp:lastModifiedBy>
  <cp:lastPrinted>2003-06-23T08:52:45Z</cp:lastPrinted>
  <dcterms:modified xsi:type="dcterms:W3CDTF">2003-06-23T09:02:22Z</dcterms:modified>
  <cp:revision>63</cp:revision>
  <dc:subject/>
  <dc:title>ЕНЕРГИЕН ФОРУМ 2003-ЗЛАТНИ ПЯСЪЦИ АГЕНЦИЯ ПО ЕНЕРГИЙНА ЕФЕКТИВНОСТ-АРХ.В ДИМИТРОВ  ОБНОВЯВАНЕ НА ПАНЕЛНИТЕ БЛОКОВЕ В РЕПУБЛИКА БЪЛГАРИЯ</dc:title>
</cp:coreProperties>
</file>